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291-3CE6-4008-BDA6-4A50A8A4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ED4-B970-4AA0-8ED3-8ABE24E7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0F50-154F-441D-8EC5-E4E7A5A1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E21E-3DC7-4BF3-9D4D-FD9E9914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5A8-3A66-46D7-8542-6E6BC594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94C-08ED-4977-909F-A2951A28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525-DC9E-4EB0-B936-F16FF4B9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D72-6C6E-46F0-A479-375EFBAA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058-DA39-40FD-B0C5-A9AF52F0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1DD-C887-49A1-AE5D-CC026A85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A33-1C3F-485F-A639-676291DF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3C5B-004F-492E-BFE8-118E6B18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F7A5-74BC-4764-8139-A527B207D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371520" y="2359080"/>
            <a:ext cx="85168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3400560" y="16905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400560" y="27576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0"/>
          <p:cNvGrpSpPr/>
          <p:nvPr/>
        </p:nvGrpSpPr>
        <p:grpSpPr>
          <a:xfrm>
            <a:off x="3629160" y="2293920"/>
            <a:ext cx="1171080" cy="520560"/>
            <a:chOff x="3629160" y="2293920"/>
            <a:chExt cx="1171080" cy="520560"/>
          </a:xfrm>
        </p:grpSpPr>
        <p:sp>
          <p:nvSpPr>
            <p:cNvPr id="45" name="Line 11"/>
            <p:cNvSpPr/>
            <p:nvPr/>
          </p:nvSpPr>
          <p:spPr>
            <a:xfrm flipH="1">
              <a:off x="3629160" y="252900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3"/>
            <p:cNvSpPr/>
            <p:nvPr/>
          </p:nvSpPr>
          <p:spPr>
            <a:xfrm>
              <a:off x="3979440" y="22939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仰角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22"/>
          <p:cNvGrpSpPr/>
          <p:nvPr/>
        </p:nvGrpSpPr>
        <p:grpSpPr>
          <a:xfrm>
            <a:off x="3705120" y="2674800"/>
            <a:ext cx="1101600" cy="520560"/>
            <a:chOff x="3705120" y="2674800"/>
            <a:chExt cx="1101600" cy="520560"/>
          </a:xfrm>
        </p:grpSpPr>
        <p:sp>
          <p:nvSpPr>
            <p:cNvPr id="48" name="Line 12"/>
            <p:cNvSpPr/>
            <p:nvPr/>
          </p:nvSpPr>
          <p:spPr>
            <a:xfrm>
              <a:off x="3705120" y="275724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4"/>
            <p:cNvSpPr/>
            <p:nvPr/>
          </p:nvSpPr>
          <p:spPr>
            <a:xfrm>
              <a:off x="3985920" y="26748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俯角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9"/>
          <p:cNvGrpSpPr/>
          <p:nvPr/>
        </p:nvGrpSpPr>
        <p:grpSpPr>
          <a:xfrm>
            <a:off x="3400560" y="1379520"/>
            <a:ext cx="2625120" cy="1378080"/>
            <a:chOff x="3400560" y="1379520"/>
            <a:chExt cx="2625120" cy="1378080"/>
          </a:xfrm>
        </p:grpSpPr>
        <p:sp>
          <p:nvSpPr>
            <p:cNvPr id="51" name="Line 9"/>
            <p:cNvSpPr/>
            <p:nvPr/>
          </p:nvSpPr>
          <p:spPr>
            <a:xfrm flipV="1">
              <a:off x="3400560" y="1766880"/>
              <a:ext cx="17521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5"/>
            <p:cNvSpPr/>
            <p:nvPr/>
          </p:nvSpPr>
          <p:spPr>
            <a:xfrm>
              <a:off x="5204880" y="13795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视线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1"/>
          <p:cNvGrpSpPr/>
          <p:nvPr/>
        </p:nvGrpSpPr>
        <p:grpSpPr>
          <a:xfrm>
            <a:off x="3400560" y="2757600"/>
            <a:ext cx="2778120" cy="1414080"/>
            <a:chOff x="3400560" y="2757600"/>
            <a:chExt cx="2778120" cy="1414080"/>
          </a:xfrm>
        </p:grpSpPr>
        <p:sp>
          <p:nvSpPr>
            <p:cNvPr id="54" name="Line 10"/>
            <p:cNvSpPr/>
            <p:nvPr/>
          </p:nvSpPr>
          <p:spPr>
            <a:xfrm>
              <a:off x="3400560" y="2757600"/>
              <a:ext cx="190512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6"/>
            <p:cNvSpPr/>
            <p:nvPr/>
          </p:nvSpPr>
          <p:spPr>
            <a:xfrm>
              <a:off x="5357880" y="36511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视线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7"/>
          <p:cNvSpPr/>
          <p:nvPr/>
        </p:nvSpPr>
        <p:spPr>
          <a:xfrm>
            <a:off x="6642360" y="244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平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021120" y="250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23"/>
          <p:cNvSpPr txBox="1"/>
          <p:nvPr/>
        </p:nvSpPr>
        <p:spPr>
          <a:xfrm>
            <a:off x="380880" y="304920"/>
            <a:ext cx="3267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生活中的角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1830960" y="5386320"/>
            <a:ext cx="553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从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观测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的目标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线与水平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成的锐角称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俯角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1850400" y="4243320"/>
            <a:ext cx="52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从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观测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的目标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线与水平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成的锐角称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仰角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52280" y="406080"/>
            <a:ext cx="8534520" cy="1556280"/>
          </a:xfrm>
          <a:prstGeom prst="rec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问题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同一地面上的两座相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楼房，在楼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楼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测得楼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楼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仰角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楼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俯角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求楼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467480" y="6278400"/>
            <a:ext cx="657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797280" y="4827600"/>
            <a:ext cx="515880" cy="14018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3897360" y="5970600"/>
            <a:ext cx="34452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3897360" y="5176800"/>
            <a:ext cx="34452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3897360" y="5452920"/>
            <a:ext cx="34452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3897360" y="4898880"/>
            <a:ext cx="34452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3897360" y="5711760"/>
            <a:ext cx="34452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4290840" y="4827600"/>
            <a:ext cx="3235320" cy="140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7510320" y="2389320"/>
            <a:ext cx="517680" cy="3840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50000">
                <a:srgbClr val="ffffff"/>
              </a:gs>
              <a:gs pos="100000">
                <a:srgbClr val="bcbcb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7567560" y="5970600"/>
            <a:ext cx="34452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3"/>
          <p:cNvSpPr/>
          <p:nvPr/>
        </p:nvSpPr>
        <p:spPr>
          <a:xfrm>
            <a:off x="7567560" y="5176800"/>
            <a:ext cx="34452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7567560" y="5452920"/>
            <a:ext cx="34452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5"/>
          <p:cNvSpPr/>
          <p:nvPr/>
        </p:nvSpPr>
        <p:spPr>
          <a:xfrm>
            <a:off x="7567560" y="4898880"/>
            <a:ext cx="34452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7567560" y="5711760"/>
            <a:ext cx="34452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7"/>
          <p:cNvSpPr/>
          <p:nvPr/>
        </p:nvSpPr>
        <p:spPr>
          <a:xfrm>
            <a:off x="7567560" y="4348080"/>
            <a:ext cx="344520" cy="17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8"/>
          <p:cNvSpPr/>
          <p:nvPr/>
        </p:nvSpPr>
        <p:spPr>
          <a:xfrm>
            <a:off x="7567560" y="4068720"/>
            <a:ext cx="34452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9"/>
          <p:cNvSpPr/>
          <p:nvPr/>
        </p:nvSpPr>
        <p:spPr>
          <a:xfrm>
            <a:off x="7567560" y="3789360"/>
            <a:ext cx="34452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0"/>
          <p:cNvSpPr/>
          <p:nvPr/>
        </p:nvSpPr>
        <p:spPr>
          <a:xfrm>
            <a:off x="7567560" y="4624560"/>
            <a:ext cx="344520" cy="17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V="1">
            <a:off x="4290840" y="2405160"/>
            <a:ext cx="3219480" cy="24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>
            <a:off x="4290840" y="4844880"/>
            <a:ext cx="1694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3"/>
          <p:cNvSpPr/>
          <p:nvPr/>
        </p:nvSpPr>
        <p:spPr>
          <a:xfrm>
            <a:off x="7567560" y="3514680"/>
            <a:ext cx="34452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4"/>
          <p:cNvSpPr/>
          <p:nvPr/>
        </p:nvSpPr>
        <p:spPr>
          <a:xfrm>
            <a:off x="7567560" y="3240000"/>
            <a:ext cx="344520" cy="17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5"/>
          <p:cNvSpPr/>
          <p:nvPr/>
        </p:nvSpPr>
        <p:spPr>
          <a:xfrm>
            <a:off x="7567560" y="2960640"/>
            <a:ext cx="34452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6"/>
          <p:cNvSpPr/>
          <p:nvPr/>
        </p:nvSpPr>
        <p:spPr>
          <a:xfrm>
            <a:off x="7567560" y="2664000"/>
            <a:ext cx="344520" cy="17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"/>
          <p:cNvSpPr/>
          <p:nvPr/>
        </p:nvSpPr>
        <p:spPr>
          <a:xfrm>
            <a:off x="3273480" y="624996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8"/>
          <p:cNvSpPr/>
          <p:nvPr/>
        </p:nvSpPr>
        <p:spPr>
          <a:xfrm>
            <a:off x="3430440" y="6286680"/>
            <a:ext cx="5091120" cy="87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6313320" y="5934240"/>
            <a:ext cx="11797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0"/>
          <p:cNvSpPr/>
          <p:nvPr/>
        </p:nvSpPr>
        <p:spPr>
          <a:xfrm flipH="1">
            <a:off x="4349520" y="5934240"/>
            <a:ext cx="8427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5425920" y="5608800"/>
            <a:ext cx="10796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3886200" y="4238640"/>
            <a:ext cx="747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3"/>
          <p:cNvSpPr/>
          <p:nvPr/>
        </p:nvSpPr>
        <p:spPr>
          <a:xfrm>
            <a:off x="3914640" y="6219720"/>
            <a:ext cx="581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4"/>
          <p:cNvSpPr/>
          <p:nvPr/>
        </p:nvSpPr>
        <p:spPr>
          <a:xfrm>
            <a:off x="4962600" y="3989520"/>
            <a:ext cx="25239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5254560" y="4649760"/>
            <a:ext cx="1152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6"/>
          <p:cNvSpPr/>
          <p:nvPr/>
        </p:nvSpPr>
        <p:spPr>
          <a:xfrm>
            <a:off x="4743360" y="4495680"/>
            <a:ext cx="190440" cy="298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7"/>
          <p:cNvSpPr/>
          <p:nvPr/>
        </p:nvSpPr>
        <p:spPr>
          <a:xfrm>
            <a:off x="5022720" y="4875120"/>
            <a:ext cx="214560" cy="265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8"/>
          <p:cNvSpPr/>
          <p:nvPr/>
        </p:nvSpPr>
        <p:spPr>
          <a:xfrm>
            <a:off x="6858000" y="2181240"/>
            <a:ext cx="15717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80880" y="380880"/>
            <a:ext cx="8153640" cy="1556280"/>
          </a:xfrm>
          <a:prstGeom prst="rec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问题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机在距地面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k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空上飞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测得正前方某小岛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俯角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°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行一段距离后，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测得该小岛的俯角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°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飞机的飞行距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4038480" y="5070600"/>
            <a:ext cx="35816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3657600" y="507060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6553080" y="5070600"/>
            <a:ext cx="106704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795840" y="4565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200640" y="45943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7562880" y="6126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7605720" y="5070600"/>
            <a:ext cx="0" cy="1295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7391520" y="4449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04920" y="26668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一变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机在一定高度上飞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测得正前方某小岛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俯角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°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航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k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测得该小岛的俯角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°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飞机的高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5"/>
          <p:cNvSpPr/>
          <p:nvPr/>
        </p:nvSpPr>
        <p:spPr>
          <a:xfrm>
            <a:off x="914400" y="2438280"/>
            <a:ext cx="7238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怎样测量停留在空中的气球高度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仪器：卷尺，测角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1905120" y="457200"/>
            <a:ext cx="4419360" cy="1099440"/>
          </a:xfrm>
          <a:prstGeom prst="rect">
            <a:avLst/>
          </a:prstGeom>
          <a:solidFill>
            <a:srgbClr val="ffff99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数学活动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304920"/>
            <a:ext cx="8839080" cy="2043720"/>
          </a:xfrm>
          <a:prstGeom prst="rect">
            <a:avLst/>
          </a:prstGeom>
          <a:solidFill>
            <a:srgbClr val="ffff99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明设计了这样一个方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站在地面上某点处观测气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得仰角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°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他向气球方向前进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时观测气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得仰角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°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明明的眼睛离地面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6m,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 计算气球的高度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3659400" y="2631960"/>
            <a:ext cx="4152240" cy="2778840"/>
            <a:chOff x="3659400" y="2631960"/>
            <a:chExt cx="4152240" cy="2778840"/>
          </a:xfrm>
        </p:grpSpPr>
        <p:sp>
          <p:nvSpPr>
            <p:cNvPr id="112" name="Line 4"/>
            <p:cNvSpPr/>
            <p:nvPr/>
          </p:nvSpPr>
          <p:spPr>
            <a:xfrm>
              <a:off x="4121280" y="4992840"/>
              <a:ext cx="324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 flipV="1">
              <a:off x="7367040" y="3247200"/>
              <a:ext cx="0" cy="174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 flipH="1">
              <a:off x="4120920" y="3247560"/>
              <a:ext cx="3245400" cy="174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 flipH="1">
              <a:off x="5326200" y="3247560"/>
              <a:ext cx="2040120" cy="174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3659400" y="46846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7275960" y="46846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5136120" y="48902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7090200" y="2631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0" name="Object 12"/>
          <p:cNvGraphicFramePr/>
          <p:nvPr/>
        </p:nvGraphicFramePr>
        <p:xfrm>
          <a:off x="304920" y="5702400"/>
          <a:ext cx="7445160" cy="55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702400"/>
                    <a:ext cx="74451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3"/>
          <p:cNvGraphicFramePr/>
          <p:nvPr/>
        </p:nvGraphicFramePr>
        <p:xfrm>
          <a:off x="374760" y="6305400"/>
          <a:ext cx="7512120" cy="5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760" y="6305400"/>
                    <a:ext cx="75121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1"/>
          <p:cNvSpPr/>
          <p:nvPr/>
        </p:nvSpPr>
        <p:spPr>
          <a:xfrm>
            <a:off x="304920" y="609480"/>
            <a:ext cx="830556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：为改善楼梯的安全性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备将楼梯的倾斜角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整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调整后的楼梯比原来多占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楼梯的高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1"/>
          <p:cNvGrpSpPr/>
          <p:nvPr/>
        </p:nvGrpSpPr>
        <p:grpSpPr>
          <a:xfrm>
            <a:off x="3886200" y="2209680"/>
            <a:ext cx="3505320" cy="3934440"/>
            <a:chOff x="3886200" y="2209680"/>
            <a:chExt cx="3505320" cy="3934440"/>
          </a:xfrm>
        </p:grpSpPr>
        <p:sp>
          <p:nvSpPr>
            <p:cNvPr id="126" name="Line 13"/>
            <p:cNvSpPr/>
            <p:nvPr/>
          </p:nvSpPr>
          <p:spPr>
            <a:xfrm>
              <a:off x="4191120" y="548640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V="1">
              <a:off x="7010280" y="274320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 flipH="1">
              <a:off x="5409720" y="2743200"/>
              <a:ext cx="16002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 flipH="1">
              <a:off x="4190760" y="2743200"/>
              <a:ext cx="281916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388620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51055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9"/>
            <p:cNvSpPr/>
            <p:nvPr/>
          </p:nvSpPr>
          <p:spPr>
            <a:xfrm>
              <a:off x="6705720" y="5562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0"/>
            <p:cNvSpPr/>
            <p:nvPr/>
          </p:nvSpPr>
          <p:spPr>
            <a:xfrm>
              <a:off x="6781680" y="2209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04920" y="609480"/>
            <a:ext cx="8372520" cy="2043720"/>
          </a:xfrm>
          <a:prstGeom prst="rec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请你试一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升国旗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同学站在离旗杆底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行注目礼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国旗升至旗杆顶端时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同学视线的仰角恰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°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双眼离地面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m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旗杆的高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1981080" y="3230640"/>
            <a:ext cx="4800600" cy="2943360"/>
            <a:chOff x="1981080" y="3230640"/>
            <a:chExt cx="4800600" cy="2943360"/>
          </a:xfrm>
        </p:grpSpPr>
        <p:sp>
          <p:nvSpPr>
            <p:cNvPr id="136" name="Line 4"/>
            <p:cNvSpPr/>
            <p:nvPr/>
          </p:nvSpPr>
          <p:spPr>
            <a:xfrm>
              <a:off x="2286000" y="559260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5"/>
            <p:cNvSpPr/>
            <p:nvPr/>
          </p:nvSpPr>
          <p:spPr>
            <a:xfrm>
              <a:off x="5943600" y="37638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6"/>
            <p:cNvSpPr/>
            <p:nvPr/>
          </p:nvSpPr>
          <p:spPr>
            <a:xfrm flipV="1">
              <a:off x="2286000" y="3763800"/>
              <a:ext cx="36576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7"/>
            <p:cNvSpPr/>
            <p:nvPr/>
          </p:nvSpPr>
          <p:spPr>
            <a:xfrm>
              <a:off x="1981080" y="556272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5638680" y="559260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5715000" y="323064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5638680" y="528804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1-09T03:36:29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