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4CF-B56F-4400-9B8E-148B361E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7D1-A9A3-43E4-B66C-BCDA750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5C7-BEE9-46D1-B2B2-D56609B3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5C9-14C3-47BB-B8A9-3429204D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F72-25B9-4D32-AC52-0A1FCB9A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6DE-D991-40CA-BA3F-4F473BB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A96-5575-4B33-BF88-95A68215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365-5381-4CD7-A770-911F5D4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9F4-99F4-40BB-8F35-376DE5A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CED-56C0-4D83-A3A5-C331637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12F-9684-432D-808C-C79B88D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3B6-5F14-46AE-A5C0-503DA36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B45-0326-47F9-A80E-335D2086F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隶书"/>
                <a:ea typeface="隶书"/>
              </a:rPr>
              <a:t>7.6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锐角三角函数的简单应用（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  <a:ea typeface="隶书"/>
              </a:rPr>
              <a:t>4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6095880" y="33526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6095880" y="2209320"/>
            <a:ext cx="221004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8305920" y="22096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8153280" y="3200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8153280" y="32004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710680" y="3062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8301240" y="1843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8301240" y="3062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629000" y="1676520"/>
            <a:ext cx="24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,AB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是一斜坡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"/>
          <p:cNvGrpSpPr/>
          <p:nvPr/>
        </p:nvGrpSpPr>
        <p:grpSpPr>
          <a:xfrm>
            <a:off x="1105200" y="2666880"/>
            <a:ext cx="3452400" cy="1068840"/>
            <a:chOff x="1105200" y="2666880"/>
            <a:chExt cx="3452400" cy="1068840"/>
          </a:xfrm>
        </p:grpSpPr>
        <p:sp>
          <p:nvSpPr>
            <p:cNvPr id="52" name="Text Box 15"/>
            <p:cNvSpPr/>
            <p:nvPr/>
          </p:nvSpPr>
          <p:spPr>
            <a:xfrm>
              <a:off x="1105200" y="2666880"/>
              <a:ext cx="345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我们把斜坡与水平面的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夹角称为坡角   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" name="Object 16"/>
            <p:cNvGraphicFramePr/>
            <p:nvPr/>
          </p:nvGraphicFramePr>
          <p:xfrm>
            <a:off x="2827440" y="3352680"/>
            <a:ext cx="380880" cy="34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27440" y="3352680"/>
                      <a:ext cx="3808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" name="Group 21"/>
          <p:cNvGrpSpPr/>
          <p:nvPr/>
        </p:nvGrpSpPr>
        <p:grpSpPr>
          <a:xfrm>
            <a:off x="1043640" y="4038480"/>
            <a:ext cx="4695120" cy="1068840"/>
            <a:chOff x="1043640" y="4038480"/>
            <a:chExt cx="4695120" cy="1068840"/>
          </a:xfrm>
        </p:grpSpPr>
        <p:sp>
          <p:nvSpPr>
            <p:cNvPr id="56" name="Text Box 17"/>
            <p:cNvSpPr/>
            <p:nvPr/>
          </p:nvSpPr>
          <p:spPr>
            <a:xfrm>
              <a:off x="1043640" y="4038480"/>
              <a:ext cx="4183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斜坡的垂直高度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BC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与斜坡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的水平距离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AC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的比称为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坡度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" name="Object 18"/>
            <p:cNvGraphicFramePr/>
            <p:nvPr/>
          </p:nvGraphicFramePr>
          <p:xfrm>
            <a:off x="5516640" y="4632480"/>
            <a:ext cx="222120" cy="41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16640" y="4632480"/>
                      <a:ext cx="22212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" name="WordArt 19"/>
          <p:cNvSpPr txBox="1"/>
          <p:nvPr/>
        </p:nvSpPr>
        <p:spPr>
          <a:xfrm>
            <a:off x="228600" y="228600"/>
            <a:ext cx="3267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一个重要的概念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60" name="Group 24"/>
          <p:cNvGrpSpPr/>
          <p:nvPr/>
        </p:nvGrpSpPr>
        <p:grpSpPr>
          <a:xfrm>
            <a:off x="6400800" y="3048120"/>
            <a:ext cx="457200" cy="349200"/>
            <a:chOff x="6400800" y="3048120"/>
            <a:chExt cx="457200" cy="349200"/>
          </a:xfrm>
        </p:grpSpPr>
        <p:sp>
          <p:nvSpPr>
            <p:cNvPr id="61" name="Freeform 22"/>
            <p:cNvSpPr/>
            <p:nvPr/>
          </p:nvSpPr>
          <p:spPr>
            <a:xfrm>
              <a:off x="6400800" y="3200400"/>
              <a:ext cx="76320" cy="152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" name="Object 23"/>
            <p:cNvGraphicFramePr/>
            <p:nvPr/>
          </p:nvGraphicFramePr>
          <p:xfrm>
            <a:off x="6477120" y="3048120"/>
            <a:ext cx="38088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77120" y="3048120"/>
                      <a:ext cx="3808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4" name="Object 26"/>
          <p:cNvGraphicFramePr/>
          <p:nvPr/>
        </p:nvGraphicFramePr>
        <p:xfrm>
          <a:off x="2362320" y="5105520"/>
          <a:ext cx="3767040" cy="15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105520"/>
                    <a:ext cx="376704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652840" y="1600200"/>
            <a:ext cx="43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小明沿着坡角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斜坡向上前进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80m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则他上升的高度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    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219320" y="3054240"/>
          <a:ext cx="19368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54240"/>
                    <a:ext cx="1936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5181480" y="3048120"/>
          <a:ext cx="19051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048120"/>
                    <a:ext cx="19051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5"/>
          <p:cNvGraphicFramePr/>
          <p:nvPr/>
        </p:nvGraphicFramePr>
        <p:xfrm>
          <a:off x="1219320" y="4419720"/>
          <a:ext cx="222228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22222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6"/>
          <p:cNvGraphicFramePr/>
          <p:nvPr/>
        </p:nvGraphicFramePr>
        <p:xfrm>
          <a:off x="5105520" y="4419720"/>
          <a:ext cx="228600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4419720"/>
                    <a:ext cx="22860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WordArt 7"/>
          <p:cNvSpPr txBox="1"/>
          <p:nvPr/>
        </p:nvSpPr>
        <p:spPr>
          <a:xfrm>
            <a:off x="304920" y="304920"/>
            <a:ext cx="304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热身训练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906840" y="1295280"/>
            <a:ext cx="733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图是一个拦水大坝的横断面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AD∥BC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斜坡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B=10m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大坝高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8m, (1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则斜坡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坡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685800" y="2286000"/>
          <a:ext cx="18097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1809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32"/>
          <p:cNvGrpSpPr/>
          <p:nvPr/>
        </p:nvGrpSpPr>
        <p:grpSpPr>
          <a:xfrm>
            <a:off x="1023480" y="2927520"/>
            <a:ext cx="6672600" cy="653760"/>
            <a:chOff x="1023480" y="2927520"/>
            <a:chExt cx="6672600" cy="653760"/>
          </a:xfrm>
        </p:grpSpPr>
        <p:sp>
          <p:nvSpPr>
            <p:cNvPr id="80" name="Text Box 6"/>
            <p:cNvSpPr/>
            <p:nvPr/>
          </p:nvSpPr>
          <p:spPr>
            <a:xfrm>
              <a:off x="1023480" y="2936880"/>
              <a:ext cx="447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(2)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如果坡度               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则坡角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7"/>
            <p:cNvGraphicFramePr/>
            <p:nvPr/>
          </p:nvGraphicFramePr>
          <p:xfrm>
            <a:off x="2781360" y="2927520"/>
            <a:ext cx="1714320" cy="63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2927520"/>
                      <a:ext cx="1714320" cy="63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" name="Object 8"/>
            <p:cNvGraphicFramePr/>
            <p:nvPr/>
          </p:nvGraphicFramePr>
          <p:xfrm>
            <a:off x="5759280" y="3073320"/>
            <a:ext cx="193680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59280" y="3073320"/>
                      <a:ext cx="19368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" name="Group 33"/>
          <p:cNvGrpSpPr/>
          <p:nvPr/>
        </p:nvGrpSpPr>
        <p:grpSpPr>
          <a:xfrm>
            <a:off x="1258560" y="3595680"/>
            <a:ext cx="7253640" cy="625320"/>
            <a:chOff x="1258560" y="3595680"/>
            <a:chExt cx="7253640" cy="625320"/>
          </a:xfrm>
        </p:grpSpPr>
        <p:sp>
          <p:nvSpPr>
            <p:cNvPr id="86" name="Text Box 9"/>
            <p:cNvSpPr/>
            <p:nvPr/>
          </p:nvSpPr>
          <p:spPr>
            <a:xfrm>
              <a:off x="1258560" y="3595680"/>
              <a:ext cx="725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(3)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如果坡度                          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则大坝高度为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___.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Object 10"/>
            <p:cNvGraphicFramePr/>
            <p:nvPr/>
          </p:nvGraphicFramePr>
          <p:xfrm>
            <a:off x="2793960" y="3649680"/>
            <a:ext cx="2921040" cy="57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93960" y="3649680"/>
                      <a:ext cx="29210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" name="Group 34"/>
          <p:cNvGrpSpPr/>
          <p:nvPr/>
        </p:nvGrpSpPr>
        <p:grpSpPr>
          <a:xfrm>
            <a:off x="3049920" y="4800600"/>
            <a:ext cx="3126600" cy="1484280"/>
            <a:chOff x="3049920" y="4800600"/>
            <a:chExt cx="3126600" cy="1484280"/>
          </a:xfrm>
        </p:grpSpPr>
        <p:sp>
          <p:nvSpPr>
            <p:cNvPr id="90" name="Line 15"/>
            <p:cNvSpPr/>
            <p:nvPr/>
          </p:nvSpPr>
          <p:spPr>
            <a:xfrm>
              <a:off x="3441960" y="595800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>
              <a:off x="3969000" y="5095440"/>
              <a:ext cx="121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7"/>
            <p:cNvSpPr/>
            <p:nvPr/>
          </p:nvSpPr>
          <p:spPr>
            <a:xfrm>
              <a:off x="5187960" y="5095440"/>
              <a:ext cx="463680" cy="86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0"/>
            <p:cNvSpPr/>
            <p:nvPr/>
          </p:nvSpPr>
          <p:spPr>
            <a:xfrm>
              <a:off x="3659760" y="4800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1"/>
            <p:cNvSpPr/>
            <p:nvPr/>
          </p:nvSpPr>
          <p:spPr>
            <a:xfrm>
              <a:off x="3049920" y="5764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2"/>
            <p:cNvSpPr/>
            <p:nvPr/>
          </p:nvSpPr>
          <p:spPr>
            <a:xfrm>
              <a:off x="5640840" y="5764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3"/>
            <p:cNvSpPr/>
            <p:nvPr/>
          </p:nvSpPr>
          <p:spPr>
            <a:xfrm flipH="1">
              <a:off x="3435480" y="5095440"/>
              <a:ext cx="533520" cy="86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4"/>
            <p:cNvSpPr/>
            <p:nvPr/>
          </p:nvSpPr>
          <p:spPr>
            <a:xfrm>
              <a:off x="5107320" y="4800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0"/>
          <p:cNvGrpSpPr/>
          <p:nvPr/>
        </p:nvGrpSpPr>
        <p:grpSpPr>
          <a:xfrm>
            <a:off x="3735360" y="5105520"/>
            <a:ext cx="515880" cy="1336680"/>
            <a:chOff x="3735360" y="5105520"/>
            <a:chExt cx="515880" cy="1336680"/>
          </a:xfrm>
        </p:grpSpPr>
        <p:sp>
          <p:nvSpPr>
            <p:cNvPr id="99" name="Line 26"/>
            <p:cNvSpPr/>
            <p:nvPr/>
          </p:nvSpPr>
          <p:spPr>
            <a:xfrm>
              <a:off x="3968640" y="5105520"/>
              <a:ext cx="0" cy="8668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7"/>
            <p:cNvSpPr/>
            <p:nvPr/>
          </p:nvSpPr>
          <p:spPr>
            <a:xfrm>
              <a:off x="3968640" y="58705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8"/>
            <p:cNvSpPr/>
            <p:nvPr/>
          </p:nvSpPr>
          <p:spPr>
            <a:xfrm>
              <a:off x="4125600" y="5870520"/>
              <a:ext cx="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9"/>
            <p:cNvSpPr/>
            <p:nvPr/>
          </p:nvSpPr>
          <p:spPr>
            <a:xfrm>
              <a:off x="3735360" y="592164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WordArt 31"/>
          <p:cNvSpPr txBox="1"/>
          <p:nvPr/>
        </p:nvSpPr>
        <p:spPr>
          <a:xfrm>
            <a:off x="304920" y="304920"/>
            <a:ext cx="304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热身训练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205280" y="662040"/>
            <a:ext cx="5951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如图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水坝的横截面是梯形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ABCD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迎水坡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的坡角   为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0°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背水坡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AD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的坡度  为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:1.2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坝顶宽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DC=2.5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坝高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求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:(1)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背水坡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AD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的坡角   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精确到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1°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坝底宽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的长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精确到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38"/>
          <p:cNvGraphicFramePr/>
          <p:nvPr/>
        </p:nvGraphicFramePr>
        <p:xfrm>
          <a:off x="2057400" y="1219320"/>
          <a:ext cx="38088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9"/>
          <p:cNvGraphicFramePr/>
          <p:nvPr/>
        </p:nvGraphicFramePr>
        <p:xfrm>
          <a:off x="6400800" y="1295280"/>
          <a:ext cx="22212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2221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40"/>
          <p:cNvGraphicFramePr/>
          <p:nvPr/>
        </p:nvGraphicFramePr>
        <p:xfrm>
          <a:off x="4648320" y="2057400"/>
          <a:ext cx="38088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057400"/>
                    <a:ext cx="380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41" descr=""/>
          <p:cNvPicPr/>
          <p:nvPr/>
        </p:nvPicPr>
        <p:blipFill>
          <a:blip r:embed="rId7"/>
          <a:stretch/>
        </p:blipFill>
        <p:spPr>
          <a:xfrm>
            <a:off x="1752480" y="3352680"/>
            <a:ext cx="5105520" cy="2662200"/>
          </a:xfrm>
          <a:prstGeom prst="rect">
            <a:avLst/>
          </a:prstGeom>
          <a:ln w="0">
            <a:noFill/>
          </a:ln>
        </p:spPr>
      </p:pic>
      <p:sp>
        <p:nvSpPr>
          <p:cNvPr id="112" name="Line 48"/>
          <p:cNvSpPr/>
          <p:nvPr/>
        </p:nvSpPr>
        <p:spPr>
          <a:xfrm>
            <a:off x="3200400" y="39625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4724280" y="39625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297180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449568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373320" y="30492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09480" y="914400"/>
            <a:ext cx="75438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思考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在上题中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为了提高堤坝的 防洪能力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市防汛指挥部决定加固堤坝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要求坝顶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加宽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背水坡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AD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的坡度改为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:1.4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已知堤坝的总长度为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㎞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求完成该项工程所需的土方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精确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米</a:t>
            </a:r>
            <a:r>
              <a:rPr b="1" lang="en-US" sz="2800" spc="-1" strike="noStrike" baseline="30000">
                <a:solidFill>
                  <a:srgbClr val="0000cc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1752480" y="3352680"/>
            <a:ext cx="5105520" cy="2662200"/>
            <a:chOff x="1752480" y="3352680"/>
            <a:chExt cx="5105520" cy="2662200"/>
          </a:xfrm>
        </p:grpSpPr>
        <p:pic>
          <p:nvPicPr>
            <p:cNvPr id="119" name="Picture 7" descr=""/>
            <p:cNvPicPr/>
            <p:nvPr/>
          </p:nvPicPr>
          <p:blipFill>
            <a:blip r:embed="rId1"/>
            <a:stretch/>
          </p:blipFill>
          <p:spPr>
            <a:xfrm>
              <a:off x="1752480" y="3352680"/>
              <a:ext cx="5105520" cy="26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Line 8"/>
            <p:cNvSpPr/>
            <p:nvPr/>
          </p:nvSpPr>
          <p:spPr>
            <a:xfrm>
              <a:off x="3200400" y="39625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4800600" y="39625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29718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4572000" y="5334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2"/>
          <p:cNvSpPr/>
          <p:nvPr/>
        </p:nvSpPr>
        <p:spPr>
          <a:xfrm flipH="1">
            <a:off x="2514240" y="39625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 flipH="1">
            <a:off x="1142640" y="51814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1219320" y="3962520"/>
            <a:ext cx="137160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9051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62120" y="5181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2590920" y="39625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362320" y="5181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6781680" y="3962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若把此堤坝加高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米，需要多少土方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457200" y="98964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是沿水库拦河坝的背水坡，将坡顶加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米，坡度由原来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改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已知坝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米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坝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求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加宽部分横断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FE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的面积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完成这一工程需要多少土方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531360" y="38088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1066680" y="3514680"/>
            <a:ext cx="6515280" cy="2700360"/>
            <a:chOff x="1066680" y="3514680"/>
            <a:chExt cx="6515280" cy="2700360"/>
          </a:xfrm>
        </p:grpSpPr>
        <p:sp>
          <p:nvSpPr>
            <p:cNvPr id="135" name="AutoShape 8"/>
            <p:cNvSpPr/>
            <p:nvPr/>
          </p:nvSpPr>
          <p:spPr>
            <a:xfrm>
              <a:off x="1066680" y="3514680"/>
              <a:ext cx="6515280" cy="27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5153040" y="4264200"/>
              <a:ext cx="1095480" cy="1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 flipH="1">
              <a:off x="3432240" y="4264200"/>
              <a:ext cx="1720800" cy="11556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4460760" y="4264200"/>
              <a:ext cx="692280" cy="1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 flipH="1">
              <a:off x="1464840" y="4264200"/>
              <a:ext cx="2995560" cy="111096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1465200" y="5375160"/>
              <a:ext cx="5610240" cy="18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6248520" y="4286160"/>
              <a:ext cx="826920" cy="108900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8"/>
            <p:cNvGrpSpPr/>
            <p:nvPr/>
          </p:nvGrpSpPr>
          <p:grpSpPr>
            <a:xfrm>
              <a:off x="1376280" y="5442120"/>
              <a:ext cx="425520" cy="488880"/>
              <a:chOff x="1376280" y="5442120"/>
              <a:chExt cx="425520" cy="488880"/>
            </a:xfrm>
          </p:grpSpPr>
          <p:sp>
            <p:nvSpPr>
              <p:cNvPr id="143" name="Rectangle 16"/>
              <p:cNvSpPr/>
              <p:nvPr/>
            </p:nvSpPr>
            <p:spPr>
              <a:xfrm>
                <a:off x="1376280" y="5442120"/>
                <a:ext cx="4255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7"/>
              <p:cNvSpPr/>
              <p:nvPr/>
            </p:nvSpPr>
            <p:spPr>
              <a:xfrm>
                <a:off x="1376280" y="54421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1"/>
            <p:cNvGrpSpPr/>
            <p:nvPr/>
          </p:nvGrpSpPr>
          <p:grpSpPr>
            <a:xfrm>
              <a:off x="4259160" y="3776760"/>
              <a:ext cx="425520" cy="488880"/>
              <a:chOff x="4259160" y="3776760"/>
              <a:chExt cx="425520" cy="488880"/>
            </a:xfrm>
          </p:grpSpPr>
          <p:sp>
            <p:nvSpPr>
              <p:cNvPr id="146" name="Rectangle 19"/>
              <p:cNvSpPr/>
              <p:nvPr/>
            </p:nvSpPr>
            <p:spPr>
              <a:xfrm>
                <a:off x="4259160" y="3776760"/>
                <a:ext cx="4255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20"/>
              <p:cNvSpPr/>
              <p:nvPr/>
            </p:nvSpPr>
            <p:spPr>
              <a:xfrm>
                <a:off x="4259160" y="3776760"/>
                <a:ext cx="217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4"/>
            <p:cNvGrpSpPr/>
            <p:nvPr/>
          </p:nvGrpSpPr>
          <p:grpSpPr>
            <a:xfrm>
              <a:off x="6070680" y="3821040"/>
              <a:ext cx="425520" cy="488880"/>
              <a:chOff x="6070680" y="3821040"/>
              <a:chExt cx="425520" cy="488880"/>
            </a:xfrm>
          </p:grpSpPr>
          <p:sp>
            <p:nvSpPr>
              <p:cNvPr id="149" name="Rectangle 22"/>
              <p:cNvSpPr/>
              <p:nvPr/>
            </p:nvSpPr>
            <p:spPr>
              <a:xfrm>
                <a:off x="6070680" y="3821040"/>
                <a:ext cx="4255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3"/>
              <p:cNvSpPr/>
              <p:nvPr/>
            </p:nvSpPr>
            <p:spPr>
              <a:xfrm>
                <a:off x="6154920" y="382104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7"/>
            <p:cNvGrpSpPr/>
            <p:nvPr/>
          </p:nvGrpSpPr>
          <p:grpSpPr>
            <a:xfrm>
              <a:off x="6853320" y="5486400"/>
              <a:ext cx="425520" cy="488880"/>
              <a:chOff x="6853320" y="5486400"/>
              <a:chExt cx="425520" cy="488880"/>
            </a:xfrm>
          </p:grpSpPr>
          <p:sp>
            <p:nvSpPr>
              <p:cNvPr id="152" name="Rectangle 25"/>
              <p:cNvSpPr/>
              <p:nvPr/>
            </p:nvSpPr>
            <p:spPr>
              <a:xfrm>
                <a:off x="6853320" y="5486400"/>
                <a:ext cx="4255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6"/>
              <p:cNvSpPr/>
              <p:nvPr/>
            </p:nvSpPr>
            <p:spPr>
              <a:xfrm>
                <a:off x="6937560" y="548640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30"/>
            <p:cNvGrpSpPr/>
            <p:nvPr/>
          </p:nvGrpSpPr>
          <p:grpSpPr>
            <a:xfrm>
              <a:off x="3365640" y="5530680"/>
              <a:ext cx="425160" cy="489240"/>
              <a:chOff x="3365640" y="5530680"/>
              <a:chExt cx="425160" cy="489240"/>
            </a:xfrm>
          </p:grpSpPr>
          <p:sp>
            <p:nvSpPr>
              <p:cNvPr id="155" name="Rectangle 28"/>
              <p:cNvSpPr/>
              <p:nvPr/>
            </p:nvSpPr>
            <p:spPr>
              <a:xfrm>
                <a:off x="3365640" y="5530680"/>
                <a:ext cx="425160" cy="48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9"/>
              <p:cNvSpPr/>
              <p:nvPr/>
            </p:nvSpPr>
            <p:spPr>
              <a:xfrm>
                <a:off x="3448800" y="553068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3"/>
            <p:cNvGrpSpPr/>
            <p:nvPr/>
          </p:nvGrpSpPr>
          <p:grpSpPr>
            <a:xfrm>
              <a:off x="5108400" y="3821040"/>
              <a:ext cx="425520" cy="488880"/>
              <a:chOff x="5108400" y="3821040"/>
              <a:chExt cx="425520" cy="488880"/>
            </a:xfrm>
          </p:grpSpPr>
          <p:sp>
            <p:nvSpPr>
              <p:cNvPr id="158" name="Rectangle 31"/>
              <p:cNvSpPr/>
              <p:nvPr/>
            </p:nvSpPr>
            <p:spPr>
              <a:xfrm>
                <a:off x="5108400" y="3821040"/>
                <a:ext cx="42552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2"/>
              <p:cNvSpPr/>
              <p:nvPr/>
            </p:nvSpPr>
            <p:spPr>
              <a:xfrm>
                <a:off x="5191560" y="382104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学科网(www.zxxk.com)--国内最大的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380880" y="3379680"/>
            <a:ext cx="9720" cy="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Object 3"/>
          <p:cNvGraphicFramePr/>
          <p:nvPr/>
        </p:nvGraphicFramePr>
        <p:xfrm>
          <a:off x="6858000" y="914400"/>
          <a:ext cx="7621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91440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4"/>
          <p:cNvGrpSpPr/>
          <p:nvPr/>
        </p:nvGrpSpPr>
        <p:grpSpPr>
          <a:xfrm>
            <a:off x="4343400" y="2590920"/>
            <a:ext cx="3525480" cy="3808080"/>
            <a:chOff x="4343400" y="2590920"/>
            <a:chExt cx="3525480" cy="3808080"/>
          </a:xfrm>
        </p:grpSpPr>
        <p:sp>
          <p:nvSpPr>
            <p:cNvPr id="164" name="Line 5"/>
            <p:cNvSpPr/>
            <p:nvPr/>
          </p:nvSpPr>
          <p:spPr>
            <a:xfrm flipV="1">
              <a:off x="5175000" y="2915280"/>
              <a:ext cx="2520" cy="13582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"/>
            <p:cNvSpPr/>
            <p:nvPr/>
          </p:nvSpPr>
          <p:spPr>
            <a:xfrm>
              <a:off x="4443840" y="5493240"/>
              <a:ext cx="2983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"/>
            <p:cNvSpPr/>
            <p:nvPr/>
          </p:nvSpPr>
          <p:spPr>
            <a:xfrm flipH="1" flipV="1">
              <a:off x="5196600" y="4269960"/>
              <a:ext cx="2226240" cy="121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 flipV="1">
              <a:off x="5180400" y="2915280"/>
              <a:ext cx="2250720" cy="25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"/>
            <p:cNvSpPr/>
            <p:nvPr/>
          </p:nvSpPr>
          <p:spPr>
            <a:xfrm>
              <a:off x="7465320" y="5326920"/>
              <a:ext cx="403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5126040" y="2590920"/>
              <a:ext cx="4021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4835160" y="3951720"/>
              <a:ext cx="402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2"/>
            <p:cNvSpPr/>
            <p:nvPr/>
          </p:nvSpPr>
          <p:spPr>
            <a:xfrm>
              <a:off x="4765680" y="5964840"/>
              <a:ext cx="178164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 flipH="1">
              <a:off x="4525200" y="4268880"/>
              <a:ext cx="6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4367520" y="4272480"/>
              <a:ext cx="176400" cy="12258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4343400" y="5505840"/>
              <a:ext cx="402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16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1098360" y="532440"/>
            <a:ext cx="54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，斜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的坡度（坡比）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155160" y="1508760"/>
            <a:ext cx="742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米．坡顶有一旗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旗杆顶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点有一条彩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相连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米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试求旗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的高度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81000" y="1311120"/>
            <a:ext cx="814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有一段斜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坡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BD=30°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方便残疾人的轮椅车通行，现准备把坡角降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求斜坡新起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原起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距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果精确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3"/>
          <p:cNvSpPr txBox="1"/>
          <p:nvPr/>
        </p:nvSpPr>
        <p:spPr>
          <a:xfrm>
            <a:off x="228600" y="22860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中考点击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304920" y="3352680"/>
            <a:ext cx="8001000" cy="3801600"/>
            <a:chOff x="304920" y="3352680"/>
            <a:chExt cx="8001000" cy="3801600"/>
          </a:xfrm>
        </p:grpSpPr>
        <p:pic>
          <p:nvPicPr>
            <p:cNvPr id="181" name="Picture 5" descr=""/>
            <p:cNvPicPr/>
            <p:nvPr/>
          </p:nvPicPr>
          <p:blipFill>
            <a:blip r:embed="rId1"/>
            <a:stretch/>
          </p:blipFill>
          <p:spPr>
            <a:xfrm>
              <a:off x="304920" y="4020480"/>
              <a:ext cx="8001000" cy="178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6"/>
            <p:cNvGrpSpPr/>
            <p:nvPr/>
          </p:nvGrpSpPr>
          <p:grpSpPr>
            <a:xfrm>
              <a:off x="1058760" y="3352680"/>
              <a:ext cx="6221520" cy="3801600"/>
              <a:chOff x="1058760" y="3352680"/>
              <a:chExt cx="6221520" cy="3801600"/>
            </a:xfrm>
          </p:grpSpPr>
          <p:sp>
            <p:nvSpPr>
              <p:cNvPr id="183" name="Text Box 7"/>
              <p:cNvSpPr/>
              <p:nvPr/>
            </p:nvSpPr>
            <p:spPr>
              <a:xfrm>
                <a:off x="1700280" y="6158520"/>
                <a:ext cx="306504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（第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题）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"/>
              <p:cNvSpPr/>
              <p:nvPr/>
            </p:nvSpPr>
            <p:spPr>
              <a:xfrm>
                <a:off x="6165720" y="5513040"/>
                <a:ext cx="1114560" cy="99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9"/>
              <p:cNvSpPr/>
              <p:nvPr/>
            </p:nvSpPr>
            <p:spPr>
              <a:xfrm>
                <a:off x="6165720" y="3352680"/>
                <a:ext cx="11145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0"/>
              <p:cNvSpPr/>
              <p:nvPr/>
            </p:nvSpPr>
            <p:spPr>
              <a:xfrm>
                <a:off x="3377880" y="5513040"/>
                <a:ext cx="1113480" cy="99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1"/>
              <p:cNvSpPr/>
              <p:nvPr/>
            </p:nvSpPr>
            <p:spPr>
              <a:xfrm>
                <a:off x="1058760" y="5425200"/>
                <a:ext cx="1114560" cy="99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2"/>
              <p:cNvSpPr/>
              <p:nvPr/>
            </p:nvSpPr>
            <p:spPr>
              <a:xfrm>
                <a:off x="2788920" y="4924080"/>
                <a:ext cx="1113120" cy="99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3"/>
              <p:cNvSpPr/>
              <p:nvPr/>
            </p:nvSpPr>
            <p:spPr>
              <a:xfrm>
                <a:off x="4672800" y="5241240"/>
                <a:ext cx="277200" cy="34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4"/>
              <p:cNvSpPr/>
              <p:nvPr/>
            </p:nvSpPr>
            <p:spPr>
              <a:xfrm>
                <a:off x="4821480" y="5187240"/>
                <a:ext cx="277200" cy="34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5"/>
              <p:cNvSpPr/>
              <p:nvPr/>
            </p:nvSpPr>
            <p:spPr>
              <a:xfrm>
                <a:off x="4523760" y="4870080"/>
                <a:ext cx="1114560" cy="99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°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Text Box 16"/>
          <p:cNvSpPr/>
          <p:nvPr/>
        </p:nvSpPr>
        <p:spPr>
          <a:xfrm>
            <a:off x="1523880" y="5745240"/>
            <a:ext cx="5486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              B                      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6400800" y="3611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4719600" y="5135400"/>
            <a:ext cx="7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887560" y="5135400"/>
            <a:ext cx="5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1-09T03:41:32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