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20.png" ContentType="image/png"/>
  <Override PartName="/ppt/media/image2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CD7-FA2C-4CCB-AB99-CE6F8837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ADD-E7FE-4A11-A73E-C71DBC68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3D5-5124-4264-90CD-7C893F43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310-C08C-4DF9-929C-5811CC51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A40-316E-4100-B9EB-DECE77BA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2BD-5352-445C-B117-E3D37A63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F6E-3957-44AF-AA39-067DFD70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082-D5B5-49E6-A6BB-FFBA81C2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A50-8E99-490C-8109-AAE5AC41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0BA-49B8-4C9A-8F64-8279366B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9D7-0CB9-4C46-82AD-9E84ACD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05F-CEFB-4DE8-B2A2-0F6674A9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E270-F1DD-4A1F-8C3A-B749EC72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58363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382160" y="620640"/>
            <a:ext cx="14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九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7120" y="1812960"/>
            <a:ext cx="90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.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相似三角形的性质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979640" y="4221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作　者：霍 云（连云港市西苑中学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380880" y="777960"/>
            <a:ext cx="152712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做一做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836640" y="1828800"/>
            <a:ext cx="7696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在比例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: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地图上，测得一个三角形地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周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积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这个地块的实际周长和面积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250920" y="928800"/>
            <a:ext cx="146376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练一练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95280" y="2997360"/>
            <a:ext cx="849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已知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三边长分别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与它相似的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最大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面积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95280" y="1468440"/>
            <a:ext cx="8785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相似三角形对应边的比值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那么相似比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长的比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面积的比为＿＿＿＿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95280" y="4508640"/>
            <a:ext cx="8497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在一张比例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图纸上，量得一个零部件的周长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面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这个零部件的实际周长和面积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34920" y="711360"/>
            <a:ext cx="10810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跳一跳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79280" y="836640"/>
            <a:ext cx="8856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施工队在道路拓宽施工时遇到这样一个问题，马路旁边原有一个面积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周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三角形绿化地，由于马路拓宽，绿地被削去了一个角，变成了一个梯形，原绿化地一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由原来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缩短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在的问题是：被削去的部分面积有多大？它的周长是多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2206440" y="3860640"/>
            <a:ext cx="3874680" cy="2970000"/>
            <a:chOff x="2206440" y="3860640"/>
            <a:chExt cx="3874680" cy="2970000"/>
          </a:xfrm>
        </p:grpSpPr>
        <p:graphicFrame>
          <p:nvGraphicFramePr>
            <p:cNvPr id="218" name="Object 15"/>
            <p:cNvGraphicFramePr/>
            <p:nvPr/>
          </p:nvGraphicFramePr>
          <p:xfrm>
            <a:off x="3787920" y="4205160"/>
            <a:ext cx="1512720" cy="110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15" descr="">
                      <a:hlinkClick r:id="rId2" action="ppaction://hlinksldjump"/>
                    </p:cNvPr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87920" y="4205160"/>
                      <a:ext cx="1512720" cy="110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0" name="Group 16"/>
            <p:cNvGrpSpPr/>
            <p:nvPr/>
          </p:nvGrpSpPr>
          <p:grpSpPr>
            <a:xfrm>
              <a:off x="3297960" y="4786200"/>
              <a:ext cx="2324520" cy="520560"/>
              <a:chOff x="3297960" y="4786200"/>
              <a:chExt cx="2324520" cy="520560"/>
            </a:xfrm>
          </p:grpSpPr>
          <p:sp>
            <p:nvSpPr>
              <p:cNvPr id="221" name="Text Box 17"/>
              <p:cNvSpPr/>
              <p:nvPr/>
            </p:nvSpPr>
            <p:spPr>
              <a:xfrm>
                <a:off x="3297960" y="47862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8"/>
              <p:cNvSpPr/>
              <p:nvPr/>
            </p:nvSpPr>
            <p:spPr>
              <a:xfrm>
                <a:off x="5205600" y="47862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19"/>
            <p:cNvGrpSpPr/>
            <p:nvPr/>
          </p:nvGrpSpPr>
          <p:grpSpPr>
            <a:xfrm>
              <a:off x="2403360" y="4020480"/>
              <a:ext cx="2361960" cy="2439000"/>
              <a:chOff x="2403360" y="4020480"/>
              <a:chExt cx="2361960" cy="2439000"/>
            </a:xfrm>
          </p:grpSpPr>
          <p:sp>
            <p:nvSpPr>
              <p:cNvPr id="224" name="Line 20"/>
              <p:cNvSpPr/>
              <p:nvPr/>
            </p:nvSpPr>
            <p:spPr>
              <a:xfrm>
                <a:off x="2403360" y="615456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21"/>
              <p:cNvSpPr/>
              <p:nvPr/>
            </p:nvSpPr>
            <p:spPr>
              <a:xfrm flipV="1">
                <a:off x="2556000" y="4173120"/>
                <a:ext cx="2057400" cy="2057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22"/>
              <p:cNvSpPr/>
              <p:nvPr/>
            </p:nvSpPr>
            <p:spPr>
              <a:xfrm flipH="1" flipV="1">
                <a:off x="4536720" y="40204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3"/>
            <p:cNvSpPr/>
            <p:nvPr/>
          </p:nvSpPr>
          <p:spPr>
            <a:xfrm>
              <a:off x="2630520" y="4487760"/>
              <a:ext cx="128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0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Group 24"/>
            <p:cNvGrpSpPr/>
            <p:nvPr/>
          </p:nvGrpSpPr>
          <p:grpSpPr>
            <a:xfrm>
              <a:off x="2206440" y="5087520"/>
              <a:ext cx="1644480" cy="1295640"/>
              <a:chOff x="2206440" y="5087520"/>
              <a:chExt cx="1644480" cy="1295640"/>
            </a:xfrm>
          </p:grpSpPr>
          <p:grpSp>
            <p:nvGrpSpPr>
              <p:cNvPr id="229" name="Group 25"/>
              <p:cNvGrpSpPr/>
              <p:nvPr/>
            </p:nvGrpSpPr>
            <p:grpSpPr>
              <a:xfrm>
                <a:off x="2206440" y="5240160"/>
                <a:ext cx="1492560" cy="1143000"/>
                <a:chOff x="2206440" y="5240160"/>
                <a:chExt cx="1492560" cy="1143000"/>
              </a:xfrm>
            </p:grpSpPr>
            <p:sp>
              <p:nvSpPr>
                <p:cNvPr id="230" name="Text Box 26"/>
                <p:cNvSpPr/>
                <p:nvPr/>
              </p:nvSpPr>
              <p:spPr>
                <a:xfrm>
                  <a:off x="2206440" y="5344920"/>
                  <a:ext cx="92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66"/>
                      </a:solidFill>
                      <a:latin typeface="Times New Roman"/>
                    </a:rPr>
                    <a:t>18m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Line 27"/>
                <p:cNvSpPr/>
                <p:nvPr/>
              </p:nvSpPr>
              <p:spPr>
                <a:xfrm flipH="1">
                  <a:off x="2631960" y="5240160"/>
                  <a:ext cx="1067040" cy="114300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Line 28"/>
              <p:cNvSpPr/>
              <p:nvPr/>
            </p:nvSpPr>
            <p:spPr>
              <a:xfrm flipH="1" flipV="1">
                <a:off x="3698640" y="50875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29"/>
            <p:cNvGrpSpPr/>
            <p:nvPr/>
          </p:nvGrpSpPr>
          <p:grpSpPr>
            <a:xfrm>
              <a:off x="2351160" y="3860640"/>
              <a:ext cx="3729960" cy="2970000"/>
              <a:chOff x="2351160" y="3860640"/>
              <a:chExt cx="3729960" cy="2970000"/>
            </a:xfrm>
          </p:grpSpPr>
          <p:grpSp>
            <p:nvGrpSpPr>
              <p:cNvPr id="234" name="Group 30"/>
              <p:cNvGrpSpPr/>
              <p:nvPr/>
            </p:nvGrpSpPr>
            <p:grpSpPr>
              <a:xfrm>
                <a:off x="2655720" y="4201920"/>
                <a:ext cx="2952360" cy="2231640"/>
                <a:chOff x="2655720" y="4201920"/>
                <a:chExt cx="2952360" cy="2231640"/>
              </a:xfrm>
            </p:grpSpPr>
            <p:sp>
              <p:nvSpPr>
                <p:cNvPr id="235" name="Line 31"/>
                <p:cNvSpPr/>
                <p:nvPr/>
              </p:nvSpPr>
              <p:spPr>
                <a:xfrm flipH="1">
                  <a:off x="2655720" y="4201920"/>
                  <a:ext cx="2095200" cy="22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Line 32"/>
                <p:cNvSpPr/>
                <p:nvPr/>
              </p:nvSpPr>
              <p:spPr>
                <a:xfrm>
                  <a:off x="4749120" y="4201920"/>
                  <a:ext cx="858960" cy="22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Line 33"/>
                <p:cNvSpPr/>
                <p:nvPr/>
              </p:nvSpPr>
              <p:spPr>
                <a:xfrm>
                  <a:off x="2655720" y="6433560"/>
                  <a:ext cx="295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Text Box 34"/>
              <p:cNvSpPr/>
              <p:nvPr/>
            </p:nvSpPr>
            <p:spPr>
              <a:xfrm>
                <a:off x="2351160" y="63100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Text Box 35"/>
              <p:cNvSpPr/>
              <p:nvPr/>
            </p:nvSpPr>
            <p:spPr>
              <a:xfrm>
                <a:off x="5664240" y="61657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6"/>
              <p:cNvSpPr/>
              <p:nvPr/>
            </p:nvSpPr>
            <p:spPr>
              <a:xfrm>
                <a:off x="4826160" y="38606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Line 37"/>
            <p:cNvSpPr/>
            <p:nvPr/>
          </p:nvSpPr>
          <p:spPr>
            <a:xfrm>
              <a:off x="3787920" y="523692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矩形 27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65160" y="811080"/>
            <a:ext cx="1627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交流提高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920" y="1523520"/>
            <a:ext cx="7561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等三角形与相似三角形性质比较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2668680"/>
          <a:ext cx="8458200" cy="2592360"/>
        </p:xfrm>
        <a:graphic>
          <a:graphicData uri="http://schemas.openxmlformats.org/drawingml/2006/table">
            <a:tbl>
              <a:tblPr/>
              <a:tblGrid>
                <a:gridCol w="3322800"/>
                <a:gridCol w="5135400"/>
              </a:tblGrid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全等三角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相似三角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应边相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应边的比等于相似比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应角相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应角相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长相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长的比等于相似比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积相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积的比等于相似比的平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矩形 4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WordArt 4" descr=""/>
          <p:cNvPicPr/>
          <p:nvPr/>
        </p:nvPicPr>
        <p:blipFill>
          <a:blip r:embed="rId1"/>
          <a:stretch/>
        </p:blipFill>
        <p:spPr>
          <a:xfrm>
            <a:off x="2620800" y="2487600"/>
            <a:ext cx="44751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4920" y="762120"/>
            <a:ext cx="226368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旧知回顾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019400" y="2638440"/>
            <a:ext cx="1724040" cy="14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7"/>
          <p:cNvSpPr/>
          <p:nvPr/>
        </p:nvSpPr>
        <p:spPr>
          <a:xfrm>
            <a:off x="5248440" y="1569960"/>
            <a:ext cx="495000" cy="10670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4019400" y="1569960"/>
            <a:ext cx="1229040" cy="10670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063760" y="113652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852360" y="257796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725440" y="252252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6228720" y="765000"/>
            <a:ext cx="3023280" cy="2227680"/>
            <a:chOff x="6228720" y="765000"/>
            <a:chExt cx="3023280" cy="2227680"/>
          </a:xfrm>
        </p:grpSpPr>
        <p:sp>
          <p:nvSpPr>
            <p:cNvPr id="54" name="Line 13"/>
            <p:cNvSpPr/>
            <p:nvPr/>
          </p:nvSpPr>
          <p:spPr>
            <a:xfrm flipH="1">
              <a:off x="6526080" y="1204560"/>
              <a:ext cx="1542960" cy="1343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>
              <a:off x="6526080" y="2547720"/>
              <a:ext cx="216216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>
              <a:off x="8069040" y="1204560"/>
              <a:ext cx="619200" cy="1343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8856360" y="2492280"/>
              <a:ext cx="395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>
              <a:off x="7903440" y="765000"/>
              <a:ext cx="38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>
              <a:off x="6228720" y="2504880"/>
              <a:ext cx="38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19"/>
          <p:cNvSpPr/>
          <p:nvPr/>
        </p:nvSpPr>
        <p:spPr>
          <a:xfrm>
            <a:off x="108000" y="1197000"/>
            <a:ext cx="460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如图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∽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得到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830160" y="3286080"/>
            <a:ext cx="74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'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'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∠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'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21"/>
          <p:cNvGraphicFramePr/>
          <p:nvPr/>
        </p:nvGraphicFramePr>
        <p:xfrm>
          <a:off x="851040" y="4222800"/>
          <a:ext cx="271296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4222800"/>
                    <a:ext cx="27129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AutoShape 22"/>
          <p:cNvSpPr/>
          <p:nvPr/>
        </p:nvSpPr>
        <p:spPr>
          <a:xfrm>
            <a:off x="3962520" y="4376880"/>
            <a:ext cx="5078160" cy="2158920"/>
          </a:xfrm>
          <a:prstGeom prst="cloudCallout">
            <a:avLst>
              <a:gd name="adj1" fmla="val -45856"/>
              <a:gd name="adj2" fmla="val -799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三角形除了具有对应角相等、对应边成比例的性质，还具有哪些性质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对象 4"/>
          <p:cNvGraphicFramePr/>
          <p:nvPr/>
        </p:nvGraphicFramePr>
        <p:xfrm>
          <a:off x="3762360" y="1413000"/>
          <a:ext cx="118584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对象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2360" y="1413000"/>
                    <a:ext cx="1185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矩形 1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2"/>
          <p:cNvGrpSpPr/>
          <p:nvPr/>
        </p:nvGrpSpPr>
        <p:grpSpPr>
          <a:xfrm>
            <a:off x="2743200" y="817560"/>
            <a:ext cx="3200400" cy="2684880"/>
            <a:chOff x="2743200" y="817560"/>
            <a:chExt cx="3200400" cy="2684880"/>
          </a:xfrm>
        </p:grpSpPr>
        <p:sp>
          <p:nvSpPr>
            <p:cNvPr id="69" name="Text Box 7"/>
            <p:cNvSpPr/>
            <p:nvPr/>
          </p:nvSpPr>
          <p:spPr>
            <a:xfrm>
              <a:off x="5105520" y="29512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11"/>
            <p:cNvGrpSpPr/>
            <p:nvPr/>
          </p:nvGrpSpPr>
          <p:grpSpPr>
            <a:xfrm>
              <a:off x="2743200" y="817560"/>
              <a:ext cx="2971800" cy="2684880"/>
              <a:chOff x="2743200" y="817560"/>
              <a:chExt cx="2971800" cy="2684880"/>
            </a:xfrm>
          </p:grpSpPr>
          <p:pic>
            <p:nvPicPr>
              <p:cNvPr id="71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971800" y="1063800"/>
                <a:ext cx="2210040" cy="211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5"/>
              <p:cNvSpPr/>
              <p:nvPr/>
            </p:nvSpPr>
            <p:spPr>
              <a:xfrm>
                <a:off x="4343400" y="81756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6"/>
              <p:cNvSpPr/>
              <p:nvPr/>
            </p:nvSpPr>
            <p:spPr>
              <a:xfrm>
                <a:off x="2743200" y="29512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8"/>
              <p:cNvSpPr/>
              <p:nvPr/>
            </p:nvSpPr>
            <p:spPr>
              <a:xfrm>
                <a:off x="3429000" y="188424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9"/>
              <p:cNvSpPr/>
              <p:nvPr/>
            </p:nvSpPr>
            <p:spPr>
              <a:xfrm>
                <a:off x="3962520" y="310356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 Box 10"/>
              <p:cNvSpPr/>
              <p:nvPr/>
            </p:nvSpPr>
            <p:spPr>
              <a:xfrm>
                <a:off x="4876920" y="188424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WordArt 13"/>
          <p:cNvSpPr txBox="1"/>
          <p:nvPr/>
        </p:nvSpPr>
        <p:spPr>
          <a:xfrm>
            <a:off x="250920" y="1052640"/>
            <a:ext cx="176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63680" y="3416400"/>
            <a:ext cx="8140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是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边的中点．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吗？为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这两个三角形的相似比是多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这两个三角形的周长、面积有什么关系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6"/>
          <p:cNvSpPr/>
          <p:nvPr/>
        </p:nvSpPr>
        <p:spPr>
          <a:xfrm>
            <a:off x="571680" y="3141720"/>
            <a:ext cx="85723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继续取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各边中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上图，此时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吗？为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这两个三角形的相似比是多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这两个三角形的周长、面积有什么关系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22"/>
          <p:cNvGrpSpPr/>
          <p:nvPr/>
        </p:nvGrpSpPr>
        <p:grpSpPr>
          <a:xfrm>
            <a:off x="2890800" y="674640"/>
            <a:ext cx="3200400" cy="2684880"/>
            <a:chOff x="2890800" y="674640"/>
            <a:chExt cx="3200400" cy="2684880"/>
          </a:xfrm>
        </p:grpSpPr>
        <p:pic>
          <p:nvPicPr>
            <p:cNvPr id="82" name="Picture 17" descr=""/>
            <p:cNvPicPr/>
            <p:nvPr/>
          </p:nvPicPr>
          <p:blipFill>
            <a:blip r:embed="rId1"/>
            <a:stretch/>
          </p:blipFill>
          <p:spPr>
            <a:xfrm>
              <a:off x="3119400" y="884160"/>
              <a:ext cx="221904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8"/>
            <p:cNvSpPr/>
            <p:nvPr/>
          </p:nvSpPr>
          <p:spPr>
            <a:xfrm>
              <a:off x="5252760" y="28083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1"/>
            <p:cNvSpPr/>
            <p:nvPr/>
          </p:nvSpPr>
          <p:spPr>
            <a:xfrm>
              <a:off x="4491000" y="674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2"/>
            <p:cNvSpPr/>
            <p:nvPr/>
          </p:nvSpPr>
          <p:spPr>
            <a:xfrm>
              <a:off x="2890800" y="28083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3576600" y="17413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4"/>
            <p:cNvSpPr/>
            <p:nvPr/>
          </p:nvSpPr>
          <p:spPr>
            <a:xfrm>
              <a:off x="4109760" y="296064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5"/>
            <p:cNvSpPr/>
            <p:nvPr/>
          </p:nvSpPr>
          <p:spPr>
            <a:xfrm>
              <a:off x="5024160" y="17413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8"/>
            <p:cNvSpPr/>
            <p:nvPr/>
          </p:nvSpPr>
          <p:spPr>
            <a:xfrm>
              <a:off x="4262400" y="15890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9"/>
            <p:cNvSpPr/>
            <p:nvPr/>
          </p:nvSpPr>
          <p:spPr>
            <a:xfrm>
              <a:off x="3728880" y="22748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20"/>
            <p:cNvSpPr/>
            <p:nvPr/>
          </p:nvSpPr>
          <p:spPr>
            <a:xfrm>
              <a:off x="4566960" y="23353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WordArt 23"/>
          <p:cNvSpPr txBox="1"/>
          <p:nvPr/>
        </p:nvSpPr>
        <p:spPr>
          <a:xfrm>
            <a:off x="179280" y="1052640"/>
            <a:ext cx="17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1214280" y="4367160"/>
            <a:ext cx="609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1192320" y="50529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1214280" y="57387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61800" y="909720"/>
            <a:ext cx="17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猜一猜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33520" y="172404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刚才的探究，你有什么猜想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524960" y="271476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相似三角形周长的比等于相似比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33520" y="3762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相似三角形面积的比等于相似比的平方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2819520" y="5157720"/>
            <a:ext cx="5790960" cy="1067040"/>
          </a:xfrm>
          <a:prstGeom prst="cloudCallout">
            <a:avLst>
              <a:gd name="adj1" fmla="val -42925"/>
              <a:gd name="adj2" fmla="val -13497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样验证这样的猜想呢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9640" y="3284640"/>
            <a:ext cx="626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∽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相似比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324000" y="3860640"/>
            <a:ext cx="6695640" cy="987120"/>
            <a:chOff x="324000" y="3860640"/>
            <a:chExt cx="6695640" cy="987120"/>
          </a:xfrm>
        </p:grpSpPr>
        <p:graphicFrame>
          <p:nvGraphicFramePr>
            <p:cNvPr id="105" name="Object 6"/>
            <p:cNvGraphicFramePr/>
            <p:nvPr/>
          </p:nvGraphicFramePr>
          <p:xfrm>
            <a:off x="1769400" y="3860640"/>
            <a:ext cx="3594240" cy="98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9400" y="3860640"/>
                      <a:ext cx="3594240" cy="98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Rectangle 7"/>
            <p:cNvSpPr/>
            <p:nvPr/>
          </p:nvSpPr>
          <p:spPr>
            <a:xfrm>
              <a:off x="324000" y="4149000"/>
              <a:ext cx="669564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那么                                            　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9"/>
          <p:cNvSpPr/>
          <p:nvPr/>
        </p:nvSpPr>
        <p:spPr>
          <a:xfrm>
            <a:off x="179280" y="4869000"/>
            <a:ext cx="8280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                                                                    　　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0"/>
          <p:cNvGraphicFramePr/>
          <p:nvPr/>
        </p:nvGraphicFramePr>
        <p:xfrm>
          <a:off x="1785960" y="4844880"/>
          <a:ext cx="588024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5960" y="4844880"/>
                    <a:ext cx="58802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14"/>
          <p:cNvGrpSpPr/>
          <p:nvPr/>
        </p:nvGrpSpPr>
        <p:grpSpPr>
          <a:xfrm>
            <a:off x="468360" y="5373720"/>
            <a:ext cx="9001080" cy="1223280"/>
            <a:chOff x="468360" y="5373720"/>
            <a:chExt cx="9001080" cy="1223280"/>
          </a:xfrm>
        </p:grpSpPr>
        <p:sp>
          <p:nvSpPr>
            <p:cNvPr id="112" name="Rectangle 12"/>
            <p:cNvSpPr/>
            <p:nvPr/>
          </p:nvSpPr>
          <p:spPr>
            <a:xfrm>
              <a:off x="468360" y="5721480"/>
              <a:ext cx="9001080" cy="8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所以                                                                                     ． 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Object 13"/>
            <p:cNvGraphicFramePr/>
            <p:nvPr/>
          </p:nvGraphicFramePr>
          <p:xfrm>
            <a:off x="1377360" y="5373720"/>
            <a:ext cx="7442280" cy="108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77360" y="5373720"/>
                      <a:ext cx="7442280" cy="108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5" name="Group 15"/>
          <p:cNvGrpSpPr/>
          <p:nvPr/>
        </p:nvGrpSpPr>
        <p:grpSpPr>
          <a:xfrm>
            <a:off x="1591560" y="1415880"/>
            <a:ext cx="2145600" cy="1927800"/>
            <a:chOff x="1591560" y="1415880"/>
            <a:chExt cx="2145600" cy="1927800"/>
          </a:xfrm>
        </p:grpSpPr>
        <p:sp>
          <p:nvSpPr>
            <p:cNvPr id="116" name="Line 16"/>
            <p:cNvSpPr/>
            <p:nvPr/>
          </p:nvSpPr>
          <p:spPr>
            <a:xfrm>
              <a:off x="1758960" y="2916360"/>
              <a:ext cx="172404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>
              <a:off x="2987640" y="1849320"/>
              <a:ext cx="495360" cy="1067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 flipH="1">
              <a:off x="1758600" y="1849320"/>
              <a:ext cx="1228680" cy="1067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2802600" y="141588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1591560" y="285588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3465000" y="280044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3963240" y="1139760"/>
            <a:ext cx="2808720" cy="2271960"/>
            <a:chOff x="3963240" y="1139760"/>
            <a:chExt cx="2808720" cy="2271960"/>
          </a:xfrm>
        </p:grpSpPr>
        <p:sp>
          <p:nvSpPr>
            <p:cNvPr id="123" name="Line 23"/>
            <p:cNvSpPr/>
            <p:nvPr/>
          </p:nvSpPr>
          <p:spPr>
            <a:xfrm flipH="1">
              <a:off x="4224240" y="1579320"/>
              <a:ext cx="1542960" cy="1343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4224240" y="2922480"/>
              <a:ext cx="2162160" cy="14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5767200" y="1579320"/>
              <a:ext cx="619200" cy="1343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6411600" y="2867040"/>
              <a:ext cx="36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801760" y="1139760"/>
              <a:ext cx="337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3963240" y="2923920"/>
              <a:ext cx="337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B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WordArt 29"/>
          <p:cNvSpPr txBox="1"/>
          <p:nvPr/>
        </p:nvSpPr>
        <p:spPr>
          <a:xfrm>
            <a:off x="287280" y="1052640"/>
            <a:ext cx="176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证一证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0" name="矩形 25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452520" y="928800"/>
            <a:ext cx="8334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如图，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∽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相似比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应高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29"/>
          <p:cNvGrpSpPr/>
          <p:nvPr/>
        </p:nvGrpSpPr>
        <p:grpSpPr>
          <a:xfrm>
            <a:off x="1616760" y="1714680"/>
            <a:ext cx="2076480" cy="1880280"/>
            <a:chOff x="1616760" y="1714680"/>
            <a:chExt cx="2076480" cy="1880280"/>
          </a:xfrm>
        </p:grpSpPr>
        <p:grpSp>
          <p:nvGrpSpPr>
            <p:cNvPr id="133" name="Group 5"/>
            <p:cNvGrpSpPr/>
            <p:nvPr/>
          </p:nvGrpSpPr>
          <p:grpSpPr>
            <a:xfrm>
              <a:off x="1616760" y="1714680"/>
              <a:ext cx="2076480" cy="1805760"/>
              <a:chOff x="1616760" y="1714680"/>
              <a:chExt cx="2076480" cy="1805760"/>
            </a:xfrm>
          </p:grpSpPr>
          <p:sp>
            <p:nvSpPr>
              <p:cNvPr id="134" name="Line 6"/>
              <p:cNvSpPr/>
              <p:nvPr/>
            </p:nvSpPr>
            <p:spPr>
              <a:xfrm>
                <a:off x="1784160" y="3214800"/>
                <a:ext cx="1724040" cy="10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>
                <a:off x="3012840" y="2147760"/>
                <a:ext cx="495360" cy="10666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8"/>
              <p:cNvSpPr/>
              <p:nvPr/>
            </p:nvSpPr>
            <p:spPr>
              <a:xfrm flipH="1">
                <a:off x="1783800" y="2147760"/>
                <a:ext cx="1228680" cy="106668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9"/>
              <p:cNvSpPr/>
              <p:nvPr/>
            </p:nvSpPr>
            <p:spPr>
              <a:xfrm>
                <a:off x="2827800" y="171468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0"/>
              <p:cNvSpPr/>
              <p:nvPr/>
            </p:nvSpPr>
            <p:spPr>
              <a:xfrm>
                <a:off x="1616760" y="315432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1"/>
              <p:cNvSpPr/>
              <p:nvPr/>
            </p:nvSpPr>
            <p:spPr>
              <a:xfrm>
                <a:off x="3489840" y="309888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9"/>
            <p:cNvGrpSpPr/>
            <p:nvPr/>
          </p:nvGrpSpPr>
          <p:grpSpPr>
            <a:xfrm>
              <a:off x="2851920" y="2138400"/>
              <a:ext cx="326880" cy="1456560"/>
              <a:chOff x="2851920" y="2138400"/>
              <a:chExt cx="326880" cy="1456560"/>
            </a:xfrm>
          </p:grpSpPr>
          <p:sp>
            <p:nvSpPr>
              <p:cNvPr id="141" name="Text Box 20"/>
              <p:cNvSpPr/>
              <p:nvPr/>
            </p:nvSpPr>
            <p:spPr>
              <a:xfrm>
                <a:off x="2851920" y="32576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21"/>
              <p:cNvSpPr/>
              <p:nvPr/>
            </p:nvSpPr>
            <p:spPr>
              <a:xfrm>
                <a:off x="2993760" y="2138400"/>
                <a:ext cx="0" cy="10551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22"/>
              <p:cNvSpPr/>
              <p:nvPr/>
            </p:nvSpPr>
            <p:spPr>
              <a:xfrm>
                <a:off x="3003480" y="3138840"/>
                <a:ext cx="7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23"/>
              <p:cNvSpPr/>
              <p:nvPr/>
            </p:nvSpPr>
            <p:spPr>
              <a:xfrm>
                <a:off x="3076560" y="3138840"/>
                <a:ext cx="0" cy="5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Group 30"/>
          <p:cNvGrpSpPr/>
          <p:nvPr/>
        </p:nvGrpSpPr>
        <p:grpSpPr>
          <a:xfrm>
            <a:off x="4502160" y="1490760"/>
            <a:ext cx="2736720" cy="2150280"/>
            <a:chOff x="4502160" y="1490760"/>
            <a:chExt cx="2736720" cy="2150280"/>
          </a:xfrm>
        </p:grpSpPr>
        <p:grpSp>
          <p:nvGrpSpPr>
            <p:cNvPr id="146" name="Group 12"/>
            <p:cNvGrpSpPr/>
            <p:nvPr/>
          </p:nvGrpSpPr>
          <p:grpSpPr>
            <a:xfrm>
              <a:off x="4502160" y="1490760"/>
              <a:ext cx="2736720" cy="2150280"/>
              <a:chOff x="4502160" y="1490760"/>
              <a:chExt cx="2736720" cy="2150280"/>
            </a:xfrm>
          </p:grpSpPr>
          <p:sp>
            <p:nvSpPr>
              <p:cNvPr id="147" name="Line 13"/>
              <p:cNvSpPr/>
              <p:nvPr/>
            </p:nvSpPr>
            <p:spPr>
              <a:xfrm flipH="1">
                <a:off x="4762440" y="1930320"/>
                <a:ext cx="1542960" cy="13431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4762440" y="3273480"/>
                <a:ext cx="2162160" cy="14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>
                <a:off x="6305400" y="1930320"/>
                <a:ext cx="619200" cy="13431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16"/>
              <p:cNvSpPr/>
              <p:nvPr/>
            </p:nvSpPr>
            <p:spPr>
              <a:xfrm>
                <a:off x="6950160" y="3218040"/>
                <a:ext cx="288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C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17"/>
              <p:cNvSpPr/>
              <p:nvPr/>
            </p:nvSpPr>
            <p:spPr>
              <a:xfrm>
                <a:off x="6340320" y="1490760"/>
                <a:ext cx="288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A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18"/>
              <p:cNvSpPr/>
              <p:nvPr/>
            </p:nvSpPr>
            <p:spPr>
              <a:xfrm>
                <a:off x="4502160" y="3274920"/>
                <a:ext cx="288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B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24"/>
            <p:cNvGrpSpPr/>
            <p:nvPr/>
          </p:nvGrpSpPr>
          <p:grpSpPr>
            <a:xfrm>
              <a:off x="6145560" y="1960920"/>
              <a:ext cx="383400" cy="1669680"/>
              <a:chOff x="6145560" y="1960920"/>
              <a:chExt cx="383400" cy="1669680"/>
            </a:xfrm>
          </p:grpSpPr>
          <p:sp>
            <p:nvSpPr>
              <p:cNvPr id="154" name="Text Box 25"/>
              <p:cNvSpPr/>
              <p:nvPr/>
            </p:nvSpPr>
            <p:spPr>
              <a:xfrm>
                <a:off x="6145560" y="32932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r>
                  <a:rPr b="1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′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6"/>
              <p:cNvSpPr/>
              <p:nvPr/>
            </p:nvSpPr>
            <p:spPr>
              <a:xfrm>
                <a:off x="6286680" y="1960920"/>
                <a:ext cx="0" cy="1323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27"/>
              <p:cNvSpPr/>
              <p:nvPr/>
            </p:nvSpPr>
            <p:spPr>
              <a:xfrm>
                <a:off x="6286680" y="31834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28"/>
              <p:cNvSpPr/>
              <p:nvPr/>
            </p:nvSpPr>
            <p:spPr>
              <a:xfrm>
                <a:off x="6357960" y="3183480"/>
                <a:ext cx="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Group 48"/>
          <p:cNvGrpSpPr/>
          <p:nvPr/>
        </p:nvGrpSpPr>
        <p:grpSpPr>
          <a:xfrm>
            <a:off x="108000" y="3470400"/>
            <a:ext cx="4741560" cy="3168000"/>
            <a:chOff x="108000" y="3470400"/>
            <a:chExt cx="4741560" cy="3168000"/>
          </a:xfrm>
        </p:grpSpPr>
        <p:sp>
          <p:nvSpPr>
            <p:cNvPr id="159" name="Text Box 31"/>
            <p:cNvSpPr/>
            <p:nvPr/>
          </p:nvSpPr>
          <p:spPr>
            <a:xfrm>
              <a:off x="108000" y="3470400"/>
              <a:ext cx="3480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∵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∽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C'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∴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'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32"/>
            <p:cNvSpPr/>
            <p:nvPr/>
          </p:nvSpPr>
          <p:spPr>
            <a:xfrm>
              <a:off x="119160" y="4415760"/>
              <a:ext cx="473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∵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'C'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∴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′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′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'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90°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3"/>
            <p:cNvSpPr/>
            <p:nvPr/>
          </p:nvSpPr>
          <p:spPr>
            <a:xfrm>
              <a:off x="140400" y="4997880"/>
              <a:ext cx="3704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∴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∽△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'B'D'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" name="Object 34"/>
            <p:cNvGraphicFramePr/>
            <p:nvPr/>
          </p:nvGraphicFramePr>
          <p:xfrm>
            <a:off x="586440" y="5885640"/>
            <a:ext cx="1752480" cy="75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440" y="5885640"/>
                      <a:ext cx="1752480" cy="75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Text Box 35"/>
            <p:cNvSpPr/>
            <p:nvPr/>
          </p:nvSpPr>
          <p:spPr>
            <a:xfrm>
              <a:off x="2185560" y="6015240"/>
              <a:ext cx="107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＝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36"/>
            <p:cNvSpPr/>
            <p:nvPr/>
          </p:nvSpPr>
          <p:spPr>
            <a:xfrm>
              <a:off x="119160" y="6061680"/>
              <a:ext cx="59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∴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49"/>
          <p:cNvGrpSpPr/>
          <p:nvPr/>
        </p:nvGrpSpPr>
        <p:grpSpPr>
          <a:xfrm>
            <a:off x="4643280" y="3284640"/>
            <a:ext cx="4206240" cy="2645640"/>
            <a:chOff x="4643280" y="3284640"/>
            <a:chExt cx="4206240" cy="2645640"/>
          </a:xfrm>
        </p:grpSpPr>
        <p:graphicFrame>
          <p:nvGraphicFramePr>
            <p:cNvPr id="167" name="Object 39"/>
            <p:cNvGraphicFramePr/>
            <p:nvPr/>
          </p:nvGraphicFramePr>
          <p:xfrm>
            <a:off x="4643280" y="4111560"/>
            <a:ext cx="1671120" cy="93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Object 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3280" y="4111560"/>
                      <a:ext cx="1671120" cy="9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9" name="Group 47"/>
            <p:cNvGrpSpPr/>
            <p:nvPr/>
          </p:nvGrpSpPr>
          <p:grpSpPr>
            <a:xfrm>
              <a:off x="4828320" y="3284640"/>
              <a:ext cx="4021200" cy="2645640"/>
              <a:chOff x="4828320" y="3284640"/>
              <a:chExt cx="4021200" cy="2645640"/>
            </a:xfrm>
          </p:grpSpPr>
          <p:graphicFrame>
            <p:nvGraphicFramePr>
              <p:cNvPr id="170" name="Object 37"/>
              <p:cNvGraphicFramePr/>
              <p:nvPr/>
            </p:nvGraphicFramePr>
            <p:xfrm>
              <a:off x="4828320" y="3284640"/>
              <a:ext cx="1391400" cy="937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1" name="Object 3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28320" y="3284640"/>
                        <a:ext cx="1391400" cy="937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2" name="Object 38"/>
              <p:cNvGraphicFramePr/>
              <p:nvPr/>
            </p:nvGraphicFramePr>
            <p:xfrm>
              <a:off x="6774120" y="3289680"/>
              <a:ext cx="1666080" cy="930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3" name="Object 3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774120" y="3289680"/>
                        <a:ext cx="1666080" cy="93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4" name="Object 40"/>
              <p:cNvGraphicFramePr/>
              <p:nvPr/>
            </p:nvGraphicFramePr>
            <p:xfrm>
              <a:off x="6797520" y="4176000"/>
              <a:ext cx="2052000" cy="928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75" name="Object 40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797520" y="4176000"/>
                        <a:ext cx="2052000" cy="92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6" name="Line 41"/>
              <p:cNvSpPr/>
              <p:nvPr/>
            </p:nvSpPr>
            <p:spPr>
              <a:xfrm>
                <a:off x="4873680" y="4197600"/>
                <a:ext cx="1347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42"/>
              <p:cNvSpPr/>
              <p:nvPr/>
            </p:nvSpPr>
            <p:spPr>
              <a:xfrm>
                <a:off x="6679440" y="4167000"/>
                <a:ext cx="1689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8" name="Object 43"/>
              <p:cNvGraphicFramePr/>
              <p:nvPr/>
            </p:nvGraphicFramePr>
            <p:xfrm>
              <a:off x="7508520" y="5097960"/>
              <a:ext cx="825120" cy="776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9" name="Object 43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508520" y="5097960"/>
                        <a:ext cx="82512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Object 44"/>
              <p:cNvGraphicFramePr/>
              <p:nvPr/>
            </p:nvGraphicFramePr>
            <p:xfrm>
              <a:off x="6720120" y="5153400"/>
              <a:ext cx="687240" cy="7768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1" name="Object 44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720120" y="5153400"/>
                        <a:ext cx="687240" cy="77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2" name="Text Box 45"/>
              <p:cNvSpPr/>
              <p:nvPr/>
            </p:nvSpPr>
            <p:spPr>
              <a:xfrm>
                <a:off x="6144120" y="3912480"/>
                <a:ext cx="45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ahoma"/>
                  </a:rPr>
                  <a:t>＝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3" name="Object 46"/>
              <p:cNvGraphicFramePr/>
              <p:nvPr/>
            </p:nvGraphicFramePr>
            <p:xfrm>
              <a:off x="6314040" y="5332320"/>
              <a:ext cx="298080" cy="2433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84" name="Object 46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314040" y="5332320"/>
                        <a:ext cx="298080" cy="24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85" name="Group 50"/>
          <p:cNvGrpSpPr/>
          <p:nvPr/>
        </p:nvGrpSpPr>
        <p:grpSpPr>
          <a:xfrm>
            <a:off x="6302520" y="5850000"/>
            <a:ext cx="1292760" cy="946800"/>
            <a:chOff x="6302520" y="5850000"/>
            <a:chExt cx="1292760" cy="946800"/>
          </a:xfrm>
        </p:grpSpPr>
        <p:graphicFrame>
          <p:nvGraphicFramePr>
            <p:cNvPr id="186" name="Object 51"/>
            <p:cNvGraphicFramePr/>
            <p:nvPr/>
          </p:nvGraphicFramePr>
          <p:xfrm>
            <a:off x="6303960" y="6239520"/>
            <a:ext cx="848160" cy="5572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87" name="Object 5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03960" y="6239520"/>
                      <a:ext cx="848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8" name="Group 52"/>
            <p:cNvGrpSpPr/>
            <p:nvPr/>
          </p:nvGrpSpPr>
          <p:grpSpPr>
            <a:xfrm>
              <a:off x="6302520" y="5850000"/>
              <a:ext cx="1292760" cy="522360"/>
              <a:chOff x="6302520" y="5850000"/>
              <a:chExt cx="1292760" cy="522360"/>
            </a:xfrm>
          </p:grpSpPr>
          <p:graphicFrame>
            <p:nvGraphicFramePr>
              <p:cNvPr id="189" name="Object 53"/>
              <p:cNvGraphicFramePr/>
              <p:nvPr/>
            </p:nvGraphicFramePr>
            <p:xfrm>
              <a:off x="6302520" y="5989320"/>
              <a:ext cx="326160" cy="2448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90" name="Object 5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302520" y="5989320"/>
                        <a:ext cx="326160" cy="24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1" name="Text Box 54"/>
              <p:cNvSpPr/>
              <p:nvPr/>
            </p:nvSpPr>
            <p:spPr>
              <a:xfrm>
                <a:off x="6506280" y="5850000"/>
                <a:ext cx="75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5"/>
              <p:cNvSpPr/>
              <p:nvPr/>
            </p:nvSpPr>
            <p:spPr>
              <a:xfrm>
                <a:off x="6680880" y="58518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×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WordArt 56"/>
          <p:cNvSpPr txBox="1"/>
          <p:nvPr/>
        </p:nvSpPr>
        <p:spPr>
          <a:xfrm>
            <a:off x="0" y="660240"/>
            <a:ext cx="1214280" cy="4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证一证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4" name="矩形 54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197000" y="3809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类似的，我们还能得到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316240" y="4432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相似多边形的周长比等于相似比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197000" y="50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相似多边形的面积比等于相似比的平方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230200" y="1935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相似三角形周长比等于相似比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197000" y="2666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相似三角形面积比等于相似比的平方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108000" y="1268280"/>
            <a:ext cx="15066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结论：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1" name="矩形 9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108000" y="720720"/>
            <a:ext cx="15937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试一试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792000" y="1308240"/>
            <a:ext cx="736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个相似三角形的相似比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: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它们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应边之比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周长之比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积之比为＿＿＿＿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768240" y="3284640"/>
            <a:ext cx="7056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若两个三角形面积之比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: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它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周长之比为＿＿＿＿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39800" y="4687920"/>
            <a:ext cx="8153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相似多边形的面积之比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: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周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差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这两个相似多边形的周长分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＿＿＿＿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720720" y="18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6.5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相似三角形的性质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7:57:59Z</dcterms:created>
  <dc:creator/>
  <dc:description/>
  <dc:language>en-US</dc:language>
  <cp:lastModifiedBy>Administrator</cp:lastModifiedBy>
  <dcterms:modified xsi:type="dcterms:W3CDTF">2015-01-02T10:46:22Z</dcterms:modified>
  <cp:revision>449</cp:revision>
  <dc:subject/>
  <dc:title>PowerPoint 演示文稿</dc:title>
</cp:coreProperties>
</file>