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9.wmf" ContentType="image/x-wmf"/>
  <Override PartName="/ppt/media/image14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7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12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38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634-7111-4293-9226-A48238DC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8C3-F9FE-4ED0-AD0E-CF66A6AF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FDB-7223-4154-AA0F-6C8B60E0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7D6-B3FD-4254-A7C0-8A448807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9FE-891F-4ED6-90D4-868DD5AB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51E-B5DD-40CE-9BFC-056FE266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174-5D51-4198-9B61-D6D5FCBF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962-5BD5-43DF-A665-1CBC34B2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BA7-CA99-471E-82A7-2AF644D3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B28-F6E6-4EB6-B2C6-E69B317A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EAC-DC4C-4446-A96E-EF858DE2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02A-F76A-4AE0-9873-40BCDAEB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D784-01F7-4A57-A898-2EDFF0D6F4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1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2.wm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5813280" y="312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504920" y="496800"/>
            <a:ext cx="14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九年级</a:t>
            </a:r>
            <a:r>
              <a:rPr b="0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0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下册</a:t>
            </a:r>
            <a:r>
              <a:rPr b="0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54040" y="186372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6.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相似三角形的性质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149560" y="430992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作　者：霍　云（连云港市西苑中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53"/>
          <p:cNvGrpSpPr/>
          <p:nvPr/>
        </p:nvGrpSpPr>
        <p:grpSpPr>
          <a:xfrm>
            <a:off x="542880" y="1028880"/>
            <a:ext cx="8249760" cy="5255280"/>
            <a:chOff x="542880" y="1028880"/>
            <a:chExt cx="8249760" cy="5255280"/>
          </a:xfrm>
        </p:grpSpPr>
        <p:sp>
          <p:nvSpPr>
            <p:cNvPr id="238" name="Rectangle 54"/>
            <p:cNvSpPr/>
            <p:nvPr/>
          </p:nvSpPr>
          <p:spPr>
            <a:xfrm>
              <a:off x="932760" y="2360880"/>
              <a:ext cx="78598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D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分别是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和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C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角平分线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55"/>
            <p:cNvGrpSpPr/>
            <p:nvPr/>
          </p:nvGrpSpPr>
          <p:grpSpPr>
            <a:xfrm>
              <a:off x="542880" y="1028880"/>
              <a:ext cx="6719760" cy="5255280"/>
              <a:chOff x="542880" y="1028880"/>
              <a:chExt cx="6719760" cy="5255280"/>
            </a:xfrm>
          </p:grpSpPr>
          <p:sp>
            <p:nvSpPr>
              <p:cNvPr id="240" name="Rectangle 56"/>
              <p:cNvSpPr/>
              <p:nvPr/>
            </p:nvSpPr>
            <p:spPr>
              <a:xfrm>
                <a:off x="1116720" y="1033920"/>
                <a:ext cx="318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△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∽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△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'B'C'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57"/>
              <p:cNvSpPr/>
              <p:nvPr/>
            </p:nvSpPr>
            <p:spPr>
              <a:xfrm>
                <a:off x="627840" y="102888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58"/>
              <p:cNvSpPr/>
              <p:nvPr/>
            </p:nvSpPr>
            <p:spPr>
              <a:xfrm>
                <a:off x="627840" y="250200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59"/>
              <p:cNvSpPr/>
              <p:nvPr/>
            </p:nvSpPr>
            <p:spPr>
              <a:xfrm>
                <a:off x="627840" y="318924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60"/>
              <p:cNvSpPr/>
              <p:nvPr/>
            </p:nvSpPr>
            <p:spPr>
              <a:xfrm>
                <a:off x="627840" y="397512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61"/>
              <p:cNvSpPr/>
              <p:nvPr/>
            </p:nvSpPr>
            <p:spPr>
              <a:xfrm>
                <a:off x="1104120" y="4723920"/>
                <a:ext cx="3138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△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D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∽△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'B'D'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62"/>
              <p:cNvSpPr/>
              <p:nvPr/>
            </p:nvSpPr>
            <p:spPr>
              <a:xfrm>
                <a:off x="601920" y="472392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63"/>
              <p:cNvSpPr/>
              <p:nvPr/>
            </p:nvSpPr>
            <p:spPr>
              <a:xfrm>
                <a:off x="601920" y="558648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8" name="Object 64"/>
              <p:cNvGraphicFramePr/>
              <p:nvPr/>
            </p:nvGraphicFramePr>
            <p:xfrm>
              <a:off x="1052640" y="5360760"/>
              <a:ext cx="1780560" cy="923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9" name="Object 6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52640" y="5360760"/>
                        <a:ext cx="1780560" cy="923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0" name="Rectangle 65"/>
              <p:cNvSpPr/>
              <p:nvPr/>
            </p:nvSpPr>
            <p:spPr>
              <a:xfrm>
                <a:off x="542880" y="1767600"/>
                <a:ext cx="5942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∴∠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AC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＝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∠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'A'C'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∠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＝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∠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'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1" name="Object 66"/>
              <p:cNvGraphicFramePr/>
              <p:nvPr/>
            </p:nvGraphicFramePr>
            <p:xfrm>
              <a:off x="1088640" y="2997360"/>
              <a:ext cx="2795760" cy="977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Object 6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88640" y="2997360"/>
                        <a:ext cx="2795760" cy="97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3" name="Object 67"/>
              <p:cNvGraphicFramePr/>
              <p:nvPr/>
            </p:nvGraphicFramePr>
            <p:xfrm>
              <a:off x="3828960" y="3053880"/>
              <a:ext cx="3433680" cy="910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4" name="Object 6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828960" y="3053880"/>
                        <a:ext cx="3433680" cy="91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" name="Object 68"/>
              <p:cNvGraphicFramePr/>
              <p:nvPr/>
            </p:nvGraphicFramePr>
            <p:xfrm>
              <a:off x="1077120" y="4023360"/>
              <a:ext cx="2599200" cy="385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6" name="Object 6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077120" y="4023360"/>
                        <a:ext cx="2599200" cy="38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57" name="矩形 19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6"/>
          <p:cNvSpPr txBox="1"/>
          <p:nvPr/>
        </p:nvSpPr>
        <p:spPr>
          <a:xfrm>
            <a:off x="228600" y="808200"/>
            <a:ext cx="152388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归纳结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1087560" y="136692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似三角形对应中线的比等于相似比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1096920" y="1916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似三角形对应角平分线的比等于相似比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79"/>
          <p:cNvGrpSpPr/>
          <p:nvPr/>
        </p:nvGrpSpPr>
        <p:grpSpPr>
          <a:xfrm>
            <a:off x="401760" y="2390760"/>
            <a:ext cx="7848360" cy="2071800"/>
            <a:chOff x="401760" y="2390760"/>
            <a:chExt cx="7848360" cy="2071800"/>
          </a:xfrm>
        </p:grpSpPr>
        <p:sp>
          <p:nvSpPr>
            <p:cNvPr id="262" name="Text Box 49"/>
            <p:cNvSpPr/>
            <p:nvPr/>
          </p:nvSpPr>
          <p:spPr>
            <a:xfrm>
              <a:off x="401760" y="2390760"/>
              <a:ext cx="78483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　　一般地，如果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∽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'B'C'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相似比为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'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分别在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'C'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上，且                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那么　　　　．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3" name="Object 50"/>
            <p:cNvGraphicFramePr/>
            <p:nvPr/>
          </p:nvGraphicFramePr>
          <p:xfrm>
            <a:off x="6091200" y="2973600"/>
            <a:ext cx="1368000" cy="866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4" name="Object 5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1200" y="2973600"/>
                      <a:ext cx="1368000" cy="86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55"/>
            <p:cNvGraphicFramePr/>
            <p:nvPr/>
          </p:nvGraphicFramePr>
          <p:xfrm>
            <a:off x="1341360" y="3673440"/>
            <a:ext cx="1272600" cy="789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6" name="Object 5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41360" y="3673440"/>
                      <a:ext cx="127260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Rectangle 57"/>
          <p:cNvSpPr/>
          <p:nvPr/>
        </p:nvSpPr>
        <p:spPr>
          <a:xfrm>
            <a:off x="1122480" y="61326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似三角形对应线段的比等于相似比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68"/>
          <p:cNvGrpSpPr/>
          <p:nvPr/>
        </p:nvGrpSpPr>
        <p:grpSpPr>
          <a:xfrm>
            <a:off x="466560" y="4475160"/>
            <a:ext cx="2714760" cy="1611000"/>
            <a:chOff x="466560" y="4475160"/>
            <a:chExt cx="2714760" cy="1611000"/>
          </a:xfrm>
        </p:grpSpPr>
        <p:sp>
          <p:nvSpPr>
            <p:cNvPr id="269" name="Text Box 60"/>
            <p:cNvSpPr/>
            <p:nvPr/>
          </p:nvSpPr>
          <p:spPr>
            <a:xfrm>
              <a:off x="2266920" y="57085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66"/>
            <p:cNvGrpSpPr/>
            <p:nvPr/>
          </p:nvGrpSpPr>
          <p:grpSpPr>
            <a:xfrm>
              <a:off x="466560" y="4475160"/>
              <a:ext cx="2210040" cy="1611000"/>
              <a:chOff x="466560" y="4475160"/>
              <a:chExt cx="2210040" cy="1611000"/>
            </a:xfrm>
          </p:grpSpPr>
          <p:pic>
            <p:nvPicPr>
              <p:cNvPr id="271" name="Picture 58" descr=""/>
              <p:cNvPicPr/>
              <p:nvPr/>
            </p:nvPicPr>
            <p:blipFill>
              <a:blip r:embed="rId5"/>
              <a:stretch/>
            </p:blipFill>
            <p:spPr>
              <a:xfrm>
                <a:off x="619200" y="4703400"/>
                <a:ext cx="1895400" cy="11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63"/>
              <p:cNvSpPr/>
              <p:nvPr/>
            </p:nvSpPr>
            <p:spPr>
              <a:xfrm>
                <a:off x="1762200" y="447516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64"/>
              <p:cNvSpPr/>
              <p:nvPr/>
            </p:nvSpPr>
            <p:spPr>
              <a:xfrm>
                <a:off x="466560" y="568944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65"/>
              <p:cNvSpPr/>
              <p:nvPr/>
            </p:nvSpPr>
            <p:spPr>
              <a:xfrm>
                <a:off x="1000080" y="571788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Group 77"/>
          <p:cNvGrpSpPr/>
          <p:nvPr/>
        </p:nvGrpSpPr>
        <p:grpSpPr>
          <a:xfrm>
            <a:off x="2819520" y="4154400"/>
            <a:ext cx="3580920" cy="1920960"/>
            <a:chOff x="2819520" y="4154400"/>
            <a:chExt cx="3580920" cy="1920960"/>
          </a:xfrm>
        </p:grpSpPr>
        <p:pic>
          <p:nvPicPr>
            <p:cNvPr id="276" name="Picture 70" descr=""/>
            <p:cNvPicPr/>
            <p:nvPr/>
          </p:nvPicPr>
          <p:blipFill>
            <a:blip r:embed="rId6"/>
            <a:stretch/>
          </p:blipFill>
          <p:spPr>
            <a:xfrm>
              <a:off x="3124080" y="4383000"/>
              <a:ext cx="26856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73"/>
            <p:cNvSpPr/>
            <p:nvPr/>
          </p:nvSpPr>
          <p:spPr>
            <a:xfrm>
              <a:off x="5562360" y="56782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4"/>
            <p:cNvSpPr/>
            <p:nvPr/>
          </p:nvSpPr>
          <p:spPr>
            <a:xfrm>
              <a:off x="3795480" y="5707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75"/>
            <p:cNvSpPr/>
            <p:nvPr/>
          </p:nvSpPr>
          <p:spPr>
            <a:xfrm>
              <a:off x="2819520" y="56451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76"/>
            <p:cNvSpPr/>
            <p:nvPr/>
          </p:nvSpPr>
          <p:spPr>
            <a:xfrm>
              <a:off x="4724280" y="41544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78"/>
          <p:cNvSpPr/>
          <p:nvPr/>
        </p:nvSpPr>
        <p:spPr>
          <a:xfrm>
            <a:off x="5562720" y="4121280"/>
            <a:ext cx="3581280" cy="1523880"/>
          </a:xfrm>
          <a:prstGeom prst="cloudCallout">
            <a:avLst>
              <a:gd name="adj1" fmla="val -42361"/>
              <a:gd name="adj2" fmla="val -1656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类比刚才的方法说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3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18"/>
          <p:cNvGrpSpPr/>
          <p:nvPr/>
        </p:nvGrpSpPr>
        <p:grpSpPr>
          <a:xfrm>
            <a:off x="5477040" y="3321000"/>
            <a:ext cx="3886200" cy="3370680"/>
            <a:chOff x="5477040" y="3321000"/>
            <a:chExt cx="3886200" cy="3370680"/>
          </a:xfrm>
        </p:grpSpPr>
        <p:pic>
          <p:nvPicPr>
            <p:cNvPr id="284" name="Picture 8" descr=""/>
            <p:cNvPicPr/>
            <p:nvPr/>
          </p:nvPicPr>
          <p:blipFill>
            <a:blip r:embed="rId1"/>
            <a:stretch/>
          </p:blipFill>
          <p:spPr>
            <a:xfrm>
              <a:off x="5705640" y="3612960"/>
              <a:ext cx="320040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9"/>
            <p:cNvSpPr/>
            <p:nvPr/>
          </p:nvSpPr>
          <p:spPr>
            <a:xfrm>
              <a:off x="7991640" y="33210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5477040" y="61401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>
              <a:off x="8829720" y="61401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2"/>
            <p:cNvSpPr/>
            <p:nvPr/>
          </p:nvSpPr>
          <p:spPr>
            <a:xfrm>
              <a:off x="8601120" y="53020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3"/>
            <p:cNvSpPr/>
            <p:nvPr/>
          </p:nvSpPr>
          <p:spPr>
            <a:xfrm>
              <a:off x="6924600" y="45399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7991640" y="62928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5"/>
            <p:cNvSpPr/>
            <p:nvPr/>
          </p:nvSpPr>
          <p:spPr>
            <a:xfrm>
              <a:off x="7305840" y="484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 rot="12346800">
              <a:off x="7430760" y="476676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 rot="10800000">
              <a:off x="8071560" y="607644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3"/>
          <p:cNvSpPr/>
          <p:nvPr/>
        </p:nvSpPr>
        <p:spPr>
          <a:xfrm>
            <a:off x="139680" y="1409400"/>
            <a:ext cx="831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垂足分别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    的值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周长的比，面积的比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1073160" y="2987640"/>
          <a:ext cx="876240" cy="8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3160" y="2987640"/>
                    <a:ext cx="8762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WordArt 6"/>
          <p:cNvSpPr txBox="1"/>
          <p:nvPr/>
        </p:nvSpPr>
        <p:spPr>
          <a:xfrm>
            <a:off x="87480" y="876240"/>
            <a:ext cx="189684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例题精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98" name="矩形 15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264960" y="144468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两个相似三角形的相似比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: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它们的对应角平分线之比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周长之比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面积之比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03120" y="2843280"/>
            <a:ext cx="889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若两个相似三角形面积之比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: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它们的对应高之比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对应中线之比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17520" y="398772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如图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∽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一点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中点，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26"/>
          <p:cNvSpPr txBox="1"/>
          <p:nvPr/>
        </p:nvSpPr>
        <p:spPr>
          <a:xfrm>
            <a:off x="193680" y="846000"/>
            <a:ext cx="14508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尝试运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303" name="Group 39"/>
          <p:cNvGrpSpPr/>
          <p:nvPr/>
        </p:nvGrpSpPr>
        <p:grpSpPr>
          <a:xfrm>
            <a:off x="5416560" y="4778280"/>
            <a:ext cx="3582720" cy="2017800"/>
            <a:chOff x="5416560" y="4778280"/>
            <a:chExt cx="3582720" cy="2017800"/>
          </a:xfrm>
        </p:grpSpPr>
        <p:sp>
          <p:nvSpPr>
            <p:cNvPr id="304" name="Text Box 30"/>
            <p:cNvSpPr/>
            <p:nvPr/>
          </p:nvSpPr>
          <p:spPr>
            <a:xfrm>
              <a:off x="6484680" y="4778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38"/>
            <p:cNvGrpSpPr/>
            <p:nvPr/>
          </p:nvGrpSpPr>
          <p:grpSpPr>
            <a:xfrm>
              <a:off x="5416560" y="5118480"/>
              <a:ext cx="3582720" cy="1677600"/>
              <a:chOff x="5416560" y="5118480"/>
              <a:chExt cx="3582720" cy="1677600"/>
            </a:xfrm>
          </p:grpSpPr>
          <p:sp>
            <p:nvSpPr>
              <p:cNvPr id="306" name="Text Box 31"/>
              <p:cNvSpPr/>
              <p:nvPr/>
            </p:nvSpPr>
            <p:spPr>
              <a:xfrm>
                <a:off x="5416560" y="63277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7" name="Picture 37" descr=""/>
              <p:cNvPicPr/>
              <p:nvPr/>
            </p:nvPicPr>
            <p:blipFill>
              <a:blip r:embed="rId1"/>
              <a:stretch/>
            </p:blipFill>
            <p:spPr>
              <a:xfrm>
                <a:off x="5722920" y="5118480"/>
                <a:ext cx="2971800" cy="140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Text Box 34"/>
              <p:cNvSpPr/>
              <p:nvPr/>
            </p:nvSpPr>
            <p:spPr>
              <a:xfrm>
                <a:off x="7627680" y="54738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35"/>
              <p:cNvSpPr/>
              <p:nvPr/>
            </p:nvSpPr>
            <p:spPr>
              <a:xfrm>
                <a:off x="6865920" y="56156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33"/>
              <p:cNvSpPr/>
              <p:nvPr/>
            </p:nvSpPr>
            <p:spPr>
              <a:xfrm>
                <a:off x="6789600" y="63972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32"/>
              <p:cNvSpPr/>
              <p:nvPr/>
            </p:nvSpPr>
            <p:spPr>
              <a:xfrm>
                <a:off x="8542080" y="63262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矩形 14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9"/>
          <p:cNvSpPr/>
          <p:nvPr/>
        </p:nvSpPr>
        <p:spPr>
          <a:xfrm>
            <a:off x="133200" y="141120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如图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梯形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延长两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于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长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0"/>
          <p:cNvGrpSpPr/>
          <p:nvPr/>
        </p:nvGrpSpPr>
        <p:grpSpPr>
          <a:xfrm>
            <a:off x="1047600" y="3067200"/>
            <a:ext cx="3457440" cy="3283200"/>
            <a:chOff x="1047600" y="3067200"/>
            <a:chExt cx="3457440" cy="3283200"/>
          </a:xfrm>
        </p:grpSpPr>
        <p:grpSp>
          <p:nvGrpSpPr>
            <p:cNvPr id="315" name="Group 11"/>
            <p:cNvGrpSpPr/>
            <p:nvPr/>
          </p:nvGrpSpPr>
          <p:grpSpPr>
            <a:xfrm>
              <a:off x="1047600" y="3514680"/>
              <a:ext cx="3457440" cy="2835720"/>
              <a:chOff x="1047600" y="3514680"/>
              <a:chExt cx="3457440" cy="2835720"/>
            </a:xfrm>
          </p:grpSpPr>
          <p:sp>
            <p:nvSpPr>
              <p:cNvPr id="316" name="Text Box 12"/>
              <p:cNvSpPr/>
              <p:nvPr/>
            </p:nvSpPr>
            <p:spPr>
              <a:xfrm flipH="1">
                <a:off x="1914480" y="45064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3"/>
              <p:cNvSpPr/>
              <p:nvPr/>
            </p:nvSpPr>
            <p:spPr>
              <a:xfrm>
                <a:off x="1047600" y="5817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14"/>
              <p:cNvSpPr/>
              <p:nvPr/>
            </p:nvSpPr>
            <p:spPr>
              <a:xfrm>
                <a:off x="4000320" y="5817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15"/>
              <p:cNvSpPr/>
              <p:nvPr/>
            </p:nvSpPr>
            <p:spPr>
              <a:xfrm>
                <a:off x="3784320" y="45781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16"/>
              <p:cNvSpPr/>
              <p:nvPr/>
            </p:nvSpPr>
            <p:spPr>
              <a:xfrm>
                <a:off x="2271600" y="4809960"/>
                <a:ext cx="1441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17"/>
              <p:cNvSpPr/>
              <p:nvPr/>
            </p:nvSpPr>
            <p:spPr>
              <a:xfrm>
                <a:off x="1407960" y="5890680"/>
                <a:ext cx="25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18"/>
              <p:cNvSpPr/>
              <p:nvPr/>
            </p:nvSpPr>
            <p:spPr>
              <a:xfrm flipV="1">
                <a:off x="1407960" y="3514680"/>
                <a:ext cx="1942920" cy="237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9"/>
              <p:cNvSpPr/>
              <p:nvPr/>
            </p:nvSpPr>
            <p:spPr>
              <a:xfrm>
                <a:off x="3350880" y="3514680"/>
                <a:ext cx="649440" cy="23760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0"/>
              <p:cNvSpPr/>
              <p:nvPr/>
            </p:nvSpPr>
            <p:spPr>
              <a:xfrm>
                <a:off x="3350880" y="3514680"/>
                <a:ext cx="0" cy="2376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21"/>
              <p:cNvSpPr/>
              <p:nvPr/>
            </p:nvSpPr>
            <p:spPr>
              <a:xfrm>
                <a:off x="2992320" y="472392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2"/>
              <p:cNvSpPr/>
              <p:nvPr/>
            </p:nvSpPr>
            <p:spPr>
              <a:xfrm>
                <a:off x="3063600" y="589068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3"/>
              <p:cNvSpPr/>
              <p:nvPr/>
            </p:nvSpPr>
            <p:spPr>
              <a:xfrm>
                <a:off x="3350880" y="5674680"/>
                <a:ext cx="144720" cy="2156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Text Box 24"/>
            <p:cNvSpPr/>
            <p:nvPr/>
          </p:nvSpPr>
          <p:spPr>
            <a:xfrm>
              <a:off x="3281400" y="30672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WordArt 26"/>
          <p:cNvSpPr txBox="1"/>
          <p:nvPr/>
        </p:nvSpPr>
        <p:spPr>
          <a:xfrm>
            <a:off x="193680" y="846000"/>
            <a:ext cx="14508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尝试运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30" name="矩形 19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4"/>
          <p:cNvSpPr txBox="1"/>
          <p:nvPr/>
        </p:nvSpPr>
        <p:spPr>
          <a:xfrm>
            <a:off x="90360" y="1109520"/>
            <a:ext cx="1602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拓展提高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32" name="Text Box 38"/>
          <p:cNvSpPr/>
          <p:nvPr/>
        </p:nvSpPr>
        <p:spPr>
          <a:xfrm>
            <a:off x="179280" y="1549440"/>
            <a:ext cx="8785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如图：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块锐角三角形的余料，边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高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要把它加工成正方形零件，使正方形的一边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，其余两个顶点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，这个正方形的零件的边长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39"/>
          <p:cNvGrpSpPr/>
          <p:nvPr/>
        </p:nvGrpSpPr>
        <p:grpSpPr>
          <a:xfrm>
            <a:off x="3921120" y="3417840"/>
            <a:ext cx="4577760" cy="3196080"/>
            <a:chOff x="3921120" y="3417840"/>
            <a:chExt cx="4577760" cy="3196080"/>
          </a:xfrm>
        </p:grpSpPr>
        <p:sp>
          <p:nvSpPr>
            <p:cNvPr id="334" name="Rectangle 40"/>
            <p:cNvSpPr/>
            <p:nvPr/>
          </p:nvSpPr>
          <p:spPr>
            <a:xfrm>
              <a:off x="5330880" y="4713480"/>
              <a:ext cx="1724040" cy="15163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1"/>
            <p:cNvSpPr/>
            <p:nvPr/>
          </p:nvSpPr>
          <p:spPr>
            <a:xfrm>
              <a:off x="4016520" y="6229800"/>
              <a:ext cx="432432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2"/>
            <p:cNvSpPr/>
            <p:nvPr/>
          </p:nvSpPr>
          <p:spPr>
            <a:xfrm flipH="1">
              <a:off x="4016160" y="3699720"/>
              <a:ext cx="2190600" cy="2530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3"/>
            <p:cNvSpPr/>
            <p:nvPr/>
          </p:nvSpPr>
          <p:spPr>
            <a:xfrm>
              <a:off x="6207120" y="3699720"/>
              <a:ext cx="2133720" cy="2530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44"/>
            <p:cNvSpPr/>
            <p:nvPr/>
          </p:nvSpPr>
          <p:spPr>
            <a:xfrm>
              <a:off x="6207120" y="3699720"/>
              <a:ext cx="1440" cy="2530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45"/>
            <p:cNvSpPr/>
            <p:nvPr/>
          </p:nvSpPr>
          <p:spPr>
            <a:xfrm>
              <a:off x="5330880" y="6229800"/>
              <a:ext cx="172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6"/>
            <p:cNvSpPr/>
            <p:nvPr/>
          </p:nvSpPr>
          <p:spPr>
            <a:xfrm>
              <a:off x="7054920" y="4713480"/>
              <a:ext cx="1440" cy="151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7"/>
            <p:cNvSpPr/>
            <p:nvPr/>
          </p:nvSpPr>
          <p:spPr>
            <a:xfrm>
              <a:off x="5330880" y="4713480"/>
              <a:ext cx="1440" cy="151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8"/>
            <p:cNvSpPr/>
            <p:nvPr/>
          </p:nvSpPr>
          <p:spPr>
            <a:xfrm>
              <a:off x="5330880" y="4713480"/>
              <a:ext cx="172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9"/>
            <p:cNvSpPr/>
            <p:nvPr/>
          </p:nvSpPr>
          <p:spPr>
            <a:xfrm>
              <a:off x="7035840" y="6213240"/>
              <a:ext cx="47520" cy="41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0"/>
            <p:cNvSpPr/>
            <p:nvPr/>
          </p:nvSpPr>
          <p:spPr>
            <a:xfrm>
              <a:off x="6950160" y="62632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51"/>
            <p:cNvSpPr/>
            <p:nvPr/>
          </p:nvSpPr>
          <p:spPr>
            <a:xfrm>
              <a:off x="7035840" y="4696560"/>
              <a:ext cx="47520" cy="41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52"/>
            <p:cNvSpPr/>
            <p:nvPr/>
          </p:nvSpPr>
          <p:spPr>
            <a:xfrm>
              <a:off x="7064280" y="451404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3"/>
            <p:cNvSpPr/>
            <p:nvPr/>
          </p:nvSpPr>
          <p:spPr>
            <a:xfrm>
              <a:off x="5311800" y="6213240"/>
              <a:ext cx="47520" cy="41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4"/>
            <p:cNvSpPr/>
            <p:nvPr/>
          </p:nvSpPr>
          <p:spPr>
            <a:xfrm>
              <a:off x="5226120" y="626328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5"/>
            <p:cNvSpPr/>
            <p:nvPr/>
          </p:nvSpPr>
          <p:spPr>
            <a:xfrm>
              <a:off x="5311800" y="4696560"/>
              <a:ext cx="47520" cy="41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6"/>
            <p:cNvSpPr/>
            <p:nvPr/>
          </p:nvSpPr>
          <p:spPr>
            <a:xfrm>
              <a:off x="5121360" y="447876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7"/>
            <p:cNvSpPr/>
            <p:nvPr/>
          </p:nvSpPr>
          <p:spPr>
            <a:xfrm>
              <a:off x="6188040" y="4696560"/>
              <a:ext cx="47520" cy="41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8"/>
            <p:cNvSpPr/>
            <p:nvPr/>
          </p:nvSpPr>
          <p:spPr>
            <a:xfrm>
              <a:off x="6188040" y="3683160"/>
              <a:ext cx="47520" cy="41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9"/>
            <p:cNvSpPr/>
            <p:nvPr/>
          </p:nvSpPr>
          <p:spPr>
            <a:xfrm>
              <a:off x="6077160" y="341784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60"/>
            <p:cNvSpPr/>
            <p:nvPr/>
          </p:nvSpPr>
          <p:spPr>
            <a:xfrm>
              <a:off x="8321760" y="6213240"/>
              <a:ext cx="47520" cy="41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1"/>
            <p:cNvSpPr/>
            <p:nvPr/>
          </p:nvSpPr>
          <p:spPr>
            <a:xfrm>
              <a:off x="8303040" y="6246720"/>
              <a:ext cx="19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2"/>
            <p:cNvSpPr/>
            <p:nvPr/>
          </p:nvSpPr>
          <p:spPr>
            <a:xfrm>
              <a:off x="3997440" y="6213240"/>
              <a:ext cx="47520" cy="41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63"/>
            <p:cNvSpPr/>
            <p:nvPr/>
          </p:nvSpPr>
          <p:spPr>
            <a:xfrm>
              <a:off x="3921120" y="625536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64"/>
            <p:cNvSpPr/>
            <p:nvPr/>
          </p:nvSpPr>
          <p:spPr>
            <a:xfrm>
              <a:off x="6188040" y="6213240"/>
              <a:ext cx="47520" cy="41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5"/>
            <p:cNvSpPr/>
            <p:nvPr/>
          </p:nvSpPr>
          <p:spPr>
            <a:xfrm>
              <a:off x="6130800" y="62632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矩形 30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4"/>
          <p:cNvSpPr txBox="1"/>
          <p:nvPr/>
        </p:nvSpPr>
        <p:spPr>
          <a:xfrm>
            <a:off x="217440" y="933480"/>
            <a:ext cx="161136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总结归纳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62" name="Text Box 71"/>
          <p:cNvSpPr/>
          <p:nvPr/>
        </p:nvSpPr>
        <p:spPr>
          <a:xfrm>
            <a:off x="1357200" y="1523880"/>
            <a:ext cx="6705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相似三角形有哪些性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2"/>
          <p:cNvSpPr/>
          <p:nvPr/>
        </p:nvSpPr>
        <p:spPr>
          <a:xfrm>
            <a:off x="1738440" y="2590920"/>
            <a:ext cx="44956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对应中线的比等于相似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3"/>
          <p:cNvSpPr/>
          <p:nvPr/>
        </p:nvSpPr>
        <p:spPr>
          <a:xfrm>
            <a:off x="1738440" y="3352680"/>
            <a:ext cx="44956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对应角平分线的比等于相似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4"/>
          <p:cNvSpPr/>
          <p:nvPr/>
        </p:nvSpPr>
        <p:spPr>
          <a:xfrm>
            <a:off x="355320" y="3111480"/>
            <a:ext cx="363600" cy="1922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80"/>
          <p:cNvSpPr/>
          <p:nvPr/>
        </p:nvSpPr>
        <p:spPr>
          <a:xfrm flipV="1">
            <a:off x="824040" y="2819520"/>
            <a:ext cx="7617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81"/>
          <p:cNvSpPr/>
          <p:nvPr/>
        </p:nvSpPr>
        <p:spPr>
          <a:xfrm flipV="1">
            <a:off x="900000" y="3580920"/>
            <a:ext cx="68580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82"/>
          <p:cNvSpPr/>
          <p:nvPr/>
        </p:nvSpPr>
        <p:spPr>
          <a:xfrm>
            <a:off x="900000" y="4114800"/>
            <a:ext cx="6858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86"/>
          <p:cNvSpPr/>
          <p:nvPr/>
        </p:nvSpPr>
        <p:spPr>
          <a:xfrm>
            <a:off x="824040" y="4419720"/>
            <a:ext cx="76176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7"/>
          <p:cNvSpPr/>
          <p:nvPr/>
        </p:nvSpPr>
        <p:spPr>
          <a:xfrm>
            <a:off x="1738440" y="4114800"/>
            <a:ext cx="44193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周长比等于相似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8"/>
          <p:cNvSpPr/>
          <p:nvPr/>
        </p:nvSpPr>
        <p:spPr>
          <a:xfrm>
            <a:off x="1738440" y="4876920"/>
            <a:ext cx="44193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面积比等于相似比的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9"/>
          <p:cNvSpPr/>
          <p:nvPr/>
        </p:nvSpPr>
        <p:spPr>
          <a:xfrm>
            <a:off x="6280200" y="2809800"/>
            <a:ext cx="593640" cy="34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0"/>
          <p:cNvSpPr/>
          <p:nvPr/>
        </p:nvSpPr>
        <p:spPr>
          <a:xfrm flipV="1">
            <a:off x="6254640" y="3463920"/>
            <a:ext cx="644760" cy="23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91"/>
          <p:cNvSpPr/>
          <p:nvPr/>
        </p:nvSpPr>
        <p:spPr>
          <a:xfrm>
            <a:off x="6919920" y="2590920"/>
            <a:ext cx="21337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相似三角形对应线段的比等于相似比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WordArt 4" descr=""/>
          <p:cNvPicPr/>
          <p:nvPr/>
        </p:nvPicPr>
        <p:blipFill>
          <a:blip r:embed="rId1"/>
          <a:stretch/>
        </p:blipFill>
        <p:spPr>
          <a:xfrm>
            <a:off x="2352600" y="2706840"/>
            <a:ext cx="462132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2"/>
          <p:cNvSpPr/>
          <p:nvPr/>
        </p:nvSpPr>
        <p:spPr>
          <a:xfrm>
            <a:off x="3443400" y="4037040"/>
            <a:ext cx="5700600" cy="2587680"/>
          </a:xfrm>
          <a:prstGeom prst="cloudCallout">
            <a:avLst>
              <a:gd name="adj1" fmla="val -34657"/>
              <a:gd name="adj2" fmla="val 12041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0"/>
          <p:cNvSpPr/>
          <p:nvPr/>
        </p:nvSpPr>
        <p:spPr>
          <a:xfrm>
            <a:off x="3902040" y="4340160"/>
            <a:ext cx="48531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回顾“相似三角形的面积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于相似比的平方”这个结论的探究过程，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79280" y="1079640"/>
            <a:ext cx="2106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回顾旧知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5957280" y="203040"/>
            <a:ext cx="2145240" cy="1927800"/>
            <a:chOff x="5957280" y="203040"/>
            <a:chExt cx="2145240" cy="1927800"/>
          </a:xfrm>
        </p:grpSpPr>
        <p:sp>
          <p:nvSpPr>
            <p:cNvPr id="50" name="Line 6"/>
            <p:cNvSpPr/>
            <p:nvPr/>
          </p:nvSpPr>
          <p:spPr>
            <a:xfrm>
              <a:off x="6124320" y="1703520"/>
              <a:ext cx="172404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7353000" y="636480"/>
              <a:ext cx="495360" cy="1067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6123960" y="636480"/>
              <a:ext cx="1228680" cy="1067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7168320" y="20304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5957280" y="164304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7830360" y="15876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2"/>
          <p:cNvGrpSpPr/>
          <p:nvPr/>
        </p:nvGrpSpPr>
        <p:grpSpPr>
          <a:xfrm>
            <a:off x="5575320" y="1955880"/>
            <a:ext cx="2835360" cy="2271960"/>
            <a:chOff x="5575320" y="1955880"/>
            <a:chExt cx="2835360" cy="2271960"/>
          </a:xfrm>
        </p:grpSpPr>
        <p:sp>
          <p:nvSpPr>
            <p:cNvPr id="57" name="Line 13"/>
            <p:cNvSpPr/>
            <p:nvPr/>
          </p:nvSpPr>
          <p:spPr>
            <a:xfrm flipH="1">
              <a:off x="5837040" y="2395440"/>
              <a:ext cx="1542960" cy="1343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5837040" y="3738600"/>
              <a:ext cx="2162160" cy="1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>
              <a:off x="7380000" y="2395440"/>
              <a:ext cx="619200" cy="1343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6"/>
            <p:cNvSpPr/>
            <p:nvPr/>
          </p:nvSpPr>
          <p:spPr>
            <a:xfrm>
              <a:off x="8024400" y="3683160"/>
              <a:ext cx="38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>
              <a:off x="7414560" y="1955880"/>
              <a:ext cx="38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8"/>
            <p:cNvSpPr/>
            <p:nvPr/>
          </p:nvSpPr>
          <p:spPr>
            <a:xfrm>
              <a:off x="5575320" y="3740040"/>
              <a:ext cx="51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9"/>
          <p:cNvSpPr/>
          <p:nvPr/>
        </p:nvSpPr>
        <p:spPr>
          <a:xfrm>
            <a:off x="171360" y="1884240"/>
            <a:ext cx="5300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∽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'B'C'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'B'C'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相似比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: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'B'C'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面积比是多少？你的依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6"/>
          <p:cNvSpPr txBox="1"/>
          <p:nvPr/>
        </p:nvSpPr>
        <p:spPr>
          <a:xfrm>
            <a:off x="34920" y="738360"/>
            <a:ext cx="135576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证一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52520" y="1106640"/>
            <a:ext cx="7848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∽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'B'C'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'B'C'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相似比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'D'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应高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1625040" y="1844640"/>
            <a:ext cx="2068200" cy="1880280"/>
            <a:chOff x="1625040" y="1844640"/>
            <a:chExt cx="2068200" cy="1880280"/>
          </a:xfrm>
        </p:grpSpPr>
        <p:grpSp>
          <p:nvGrpSpPr>
            <p:cNvPr id="68" name="Group 5"/>
            <p:cNvGrpSpPr/>
            <p:nvPr/>
          </p:nvGrpSpPr>
          <p:grpSpPr>
            <a:xfrm>
              <a:off x="1625040" y="1844640"/>
              <a:ext cx="2068200" cy="1805760"/>
              <a:chOff x="1625040" y="1844640"/>
              <a:chExt cx="2068200" cy="1805760"/>
            </a:xfrm>
          </p:grpSpPr>
          <p:sp>
            <p:nvSpPr>
              <p:cNvPr id="69" name="Line 6"/>
              <p:cNvSpPr/>
              <p:nvPr/>
            </p:nvSpPr>
            <p:spPr>
              <a:xfrm>
                <a:off x="1784160" y="3344760"/>
                <a:ext cx="1724040" cy="10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"/>
              <p:cNvSpPr/>
              <p:nvPr/>
            </p:nvSpPr>
            <p:spPr>
              <a:xfrm>
                <a:off x="3012840" y="2277720"/>
                <a:ext cx="495360" cy="10666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8"/>
              <p:cNvSpPr/>
              <p:nvPr/>
            </p:nvSpPr>
            <p:spPr>
              <a:xfrm flipH="1">
                <a:off x="1783800" y="2277720"/>
                <a:ext cx="1228680" cy="10666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9"/>
              <p:cNvSpPr/>
              <p:nvPr/>
            </p:nvSpPr>
            <p:spPr>
              <a:xfrm>
                <a:off x="2836080" y="184464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0"/>
              <p:cNvSpPr/>
              <p:nvPr/>
            </p:nvSpPr>
            <p:spPr>
              <a:xfrm>
                <a:off x="1625040" y="328428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1"/>
              <p:cNvSpPr/>
              <p:nvPr/>
            </p:nvSpPr>
            <p:spPr>
              <a:xfrm>
                <a:off x="3489840" y="322884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9"/>
            <p:cNvGrpSpPr/>
            <p:nvPr/>
          </p:nvGrpSpPr>
          <p:grpSpPr>
            <a:xfrm>
              <a:off x="2851920" y="2268360"/>
              <a:ext cx="326880" cy="1456560"/>
              <a:chOff x="2851920" y="2268360"/>
              <a:chExt cx="326880" cy="1456560"/>
            </a:xfrm>
          </p:grpSpPr>
          <p:sp>
            <p:nvSpPr>
              <p:cNvPr id="76" name="Text Box 20"/>
              <p:cNvSpPr/>
              <p:nvPr/>
            </p:nvSpPr>
            <p:spPr>
              <a:xfrm>
                <a:off x="2851920" y="33876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1"/>
              <p:cNvSpPr/>
              <p:nvPr/>
            </p:nvSpPr>
            <p:spPr>
              <a:xfrm>
                <a:off x="2990880" y="2268360"/>
                <a:ext cx="0" cy="10551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2"/>
              <p:cNvSpPr/>
              <p:nvPr/>
            </p:nvSpPr>
            <p:spPr>
              <a:xfrm>
                <a:off x="2990880" y="3268800"/>
                <a:ext cx="7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3"/>
              <p:cNvSpPr/>
              <p:nvPr/>
            </p:nvSpPr>
            <p:spPr>
              <a:xfrm>
                <a:off x="3063600" y="3268800"/>
                <a:ext cx="0" cy="5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30"/>
          <p:cNvGrpSpPr/>
          <p:nvPr/>
        </p:nvGrpSpPr>
        <p:grpSpPr>
          <a:xfrm>
            <a:off x="4519800" y="1490760"/>
            <a:ext cx="2709720" cy="2150280"/>
            <a:chOff x="4519800" y="1490760"/>
            <a:chExt cx="2709720" cy="2150280"/>
          </a:xfrm>
        </p:grpSpPr>
        <p:grpSp>
          <p:nvGrpSpPr>
            <p:cNvPr id="81" name="Group 12"/>
            <p:cNvGrpSpPr/>
            <p:nvPr/>
          </p:nvGrpSpPr>
          <p:grpSpPr>
            <a:xfrm>
              <a:off x="4519800" y="1490760"/>
              <a:ext cx="2709720" cy="2150280"/>
              <a:chOff x="4519800" y="1490760"/>
              <a:chExt cx="2709720" cy="2150280"/>
            </a:xfrm>
          </p:grpSpPr>
          <p:sp>
            <p:nvSpPr>
              <p:cNvPr id="82" name="Line 13"/>
              <p:cNvSpPr/>
              <p:nvPr/>
            </p:nvSpPr>
            <p:spPr>
              <a:xfrm flipH="1">
                <a:off x="4762440" y="1930320"/>
                <a:ext cx="1542960" cy="13431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4"/>
              <p:cNvSpPr/>
              <p:nvPr/>
            </p:nvSpPr>
            <p:spPr>
              <a:xfrm>
                <a:off x="4762440" y="3273480"/>
                <a:ext cx="2162160" cy="14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5"/>
              <p:cNvSpPr/>
              <p:nvPr/>
            </p:nvSpPr>
            <p:spPr>
              <a:xfrm>
                <a:off x="6305400" y="1930320"/>
                <a:ext cx="619200" cy="13431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6"/>
              <p:cNvSpPr/>
              <p:nvPr/>
            </p:nvSpPr>
            <p:spPr>
              <a:xfrm>
                <a:off x="6959160" y="3218040"/>
                <a:ext cx="270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C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7"/>
              <p:cNvSpPr/>
              <p:nvPr/>
            </p:nvSpPr>
            <p:spPr>
              <a:xfrm>
                <a:off x="6357960" y="1490760"/>
                <a:ext cx="253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A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8"/>
              <p:cNvSpPr/>
              <p:nvPr/>
            </p:nvSpPr>
            <p:spPr>
              <a:xfrm>
                <a:off x="4519800" y="3274920"/>
                <a:ext cx="253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B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4"/>
            <p:cNvGrpSpPr/>
            <p:nvPr/>
          </p:nvGrpSpPr>
          <p:grpSpPr>
            <a:xfrm>
              <a:off x="6147000" y="1960920"/>
              <a:ext cx="366480" cy="1667520"/>
              <a:chOff x="6147000" y="1960920"/>
              <a:chExt cx="366480" cy="1667520"/>
            </a:xfrm>
          </p:grpSpPr>
          <p:sp>
            <p:nvSpPr>
              <p:cNvPr id="89" name="Text Box 25"/>
              <p:cNvSpPr/>
              <p:nvPr/>
            </p:nvSpPr>
            <p:spPr>
              <a:xfrm>
                <a:off x="6147000" y="3291120"/>
                <a:ext cx="36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r>
                  <a:rPr b="0" i="1" lang="en-US" sz="1600" spc="-1" strike="noStrike" baseline="30000">
                    <a:solidFill>
                      <a:srgbClr val="ff3300"/>
                    </a:solidFill>
                    <a:latin typeface="Times New Roman"/>
                  </a:rPr>
                  <a:t>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6"/>
              <p:cNvSpPr/>
              <p:nvPr/>
            </p:nvSpPr>
            <p:spPr>
              <a:xfrm>
                <a:off x="6286680" y="1960920"/>
                <a:ext cx="0" cy="1323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7"/>
              <p:cNvSpPr/>
              <p:nvPr/>
            </p:nvSpPr>
            <p:spPr>
              <a:xfrm>
                <a:off x="6286680" y="31831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8"/>
              <p:cNvSpPr/>
              <p:nvPr/>
            </p:nvSpPr>
            <p:spPr>
              <a:xfrm>
                <a:off x="6357960" y="3183120"/>
                <a:ext cx="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48"/>
          <p:cNvGrpSpPr/>
          <p:nvPr/>
        </p:nvGrpSpPr>
        <p:grpSpPr>
          <a:xfrm>
            <a:off x="108000" y="3470400"/>
            <a:ext cx="4920840" cy="3168000"/>
            <a:chOff x="108000" y="3470400"/>
            <a:chExt cx="4920840" cy="3168000"/>
          </a:xfrm>
        </p:grpSpPr>
        <p:sp>
          <p:nvSpPr>
            <p:cNvPr id="94" name="Text Box 31"/>
            <p:cNvSpPr/>
            <p:nvPr/>
          </p:nvSpPr>
          <p:spPr>
            <a:xfrm>
              <a:off x="108000" y="3470400"/>
              <a:ext cx="370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∵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∽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C'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＝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'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32"/>
            <p:cNvSpPr/>
            <p:nvPr/>
          </p:nvSpPr>
          <p:spPr>
            <a:xfrm>
              <a:off x="119160" y="4415760"/>
              <a:ext cx="4909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∵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D'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'C'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∴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D'B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90°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3"/>
            <p:cNvSpPr/>
            <p:nvPr/>
          </p:nvSpPr>
          <p:spPr>
            <a:xfrm>
              <a:off x="133920" y="5016960"/>
              <a:ext cx="382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　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∽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D'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Object 34" descr=""/>
            <p:cNvPicPr/>
            <p:nvPr/>
          </p:nvPicPr>
          <p:blipFill>
            <a:blip r:embed="rId1"/>
            <a:stretch/>
          </p:blipFill>
          <p:spPr>
            <a:xfrm>
              <a:off x="586440" y="5885640"/>
              <a:ext cx="175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35"/>
            <p:cNvSpPr/>
            <p:nvPr/>
          </p:nvSpPr>
          <p:spPr>
            <a:xfrm>
              <a:off x="2185560" y="6015240"/>
              <a:ext cx="132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＝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6"/>
            <p:cNvSpPr/>
            <p:nvPr/>
          </p:nvSpPr>
          <p:spPr>
            <a:xfrm>
              <a:off x="119160" y="6061680"/>
              <a:ext cx="59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50"/>
          <p:cNvGrpSpPr/>
          <p:nvPr/>
        </p:nvGrpSpPr>
        <p:grpSpPr>
          <a:xfrm>
            <a:off x="6302520" y="5850000"/>
            <a:ext cx="1292760" cy="946800"/>
            <a:chOff x="6302520" y="5850000"/>
            <a:chExt cx="1292760" cy="946800"/>
          </a:xfrm>
        </p:grpSpPr>
        <p:pic>
          <p:nvPicPr>
            <p:cNvPr id="101" name="Object 51" descr=""/>
            <p:cNvPicPr/>
            <p:nvPr/>
          </p:nvPicPr>
          <p:blipFill>
            <a:blip r:embed="rId2"/>
            <a:stretch/>
          </p:blipFill>
          <p:spPr>
            <a:xfrm>
              <a:off x="6303960" y="6239520"/>
              <a:ext cx="848160" cy="55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52"/>
            <p:cNvGrpSpPr/>
            <p:nvPr/>
          </p:nvGrpSpPr>
          <p:grpSpPr>
            <a:xfrm>
              <a:off x="6302520" y="5850000"/>
              <a:ext cx="1292760" cy="522360"/>
              <a:chOff x="6302520" y="5850000"/>
              <a:chExt cx="1292760" cy="522360"/>
            </a:xfrm>
          </p:grpSpPr>
          <p:pic>
            <p:nvPicPr>
              <p:cNvPr id="103" name="Object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6302520" y="5989320"/>
                <a:ext cx="326160" cy="24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54"/>
              <p:cNvSpPr/>
              <p:nvPr/>
            </p:nvSpPr>
            <p:spPr>
              <a:xfrm>
                <a:off x="6506280" y="5850000"/>
                <a:ext cx="75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55"/>
              <p:cNvSpPr/>
              <p:nvPr/>
            </p:nvSpPr>
            <p:spPr>
              <a:xfrm>
                <a:off x="6680880" y="58518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×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矩形 71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9"/>
          <p:cNvGrpSpPr/>
          <p:nvPr/>
        </p:nvGrpSpPr>
        <p:grpSpPr>
          <a:xfrm>
            <a:off x="4643280" y="3284640"/>
            <a:ext cx="4206240" cy="2645640"/>
            <a:chOff x="4643280" y="3284640"/>
            <a:chExt cx="4206240" cy="2645640"/>
          </a:xfrm>
        </p:grpSpPr>
        <p:graphicFrame>
          <p:nvGraphicFramePr>
            <p:cNvPr id="108" name="Object 39"/>
            <p:cNvGraphicFramePr/>
            <p:nvPr/>
          </p:nvGraphicFramePr>
          <p:xfrm>
            <a:off x="4643280" y="4111560"/>
            <a:ext cx="1671120" cy="938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9" name="Object 3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643280" y="4111560"/>
                      <a:ext cx="1671120" cy="9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0" name="Group 47"/>
            <p:cNvGrpSpPr/>
            <p:nvPr/>
          </p:nvGrpSpPr>
          <p:grpSpPr>
            <a:xfrm>
              <a:off x="4828320" y="3284640"/>
              <a:ext cx="4021200" cy="2645640"/>
              <a:chOff x="4828320" y="3284640"/>
              <a:chExt cx="4021200" cy="2645640"/>
            </a:xfrm>
          </p:grpSpPr>
          <p:graphicFrame>
            <p:nvGraphicFramePr>
              <p:cNvPr id="111" name="Object 37"/>
              <p:cNvGraphicFramePr/>
              <p:nvPr/>
            </p:nvGraphicFramePr>
            <p:xfrm>
              <a:off x="4828320" y="3284640"/>
              <a:ext cx="1391400" cy="9378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12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828320" y="3284640"/>
                        <a:ext cx="1391400" cy="937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3" name="Object 38"/>
              <p:cNvGraphicFramePr/>
              <p:nvPr/>
            </p:nvGraphicFramePr>
            <p:xfrm>
              <a:off x="6774120" y="3289680"/>
              <a:ext cx="1666080" cy="9309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14" name="Object 38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6774120" y="3289680"/>
                        <a:ext cx="1666080" cy="93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5" name="Object 40"/>
              <p:cNvGraphicFramePr/>
              <p:nvPr/>
            </p:nvGraphicFramePr>
            <p:xfrm>
              <a:off x="6797520" y="4176000"/>
              <a:ext cx="2052000" cy="92880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16" name="Object 40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6797520" y="4176000"/>
                        <a:ext cx="2052000" cy="92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" name="Line 41"/>
              <p:cNvSpPr/>
              <p:nvPr/>
            </p:nvSpPr>
            <p:spPr>
              <a:xfrm>
                <a:off x="4873680" y="4197600"/>
                <a:ext cx="1347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2"/>
              <p:cNvSpPr/>
              <p:nvPr/>
            </p:nvSpPr>
            <p:spPr>
              <a:xfrm>
                <a:off x="6679440" y="4167000"/>
                <a:ext cx="1689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9" name="Object 43"/>
              <p:cNvGraphicFramePr/>
              <p:nvPr/>
            </p:nvGraphicFramePr>
            <p:xfrm>
              <a:off x="7508520" y="5097960"/>
              <a:ext cx="825120" cy="7765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20" name="Object 43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7508520" y="5097960"/>
                        <a:ext cx="825120" cy="77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1" name="Object 44"/>
              <p:cNvGraphicFramePr/>
              <p:nvPr/>
            </p:nvGraphicFramePr>
            <p:xfrm>
              <a:off x="6720120" y="5153400"/>
              <a:ext cx="687240" cy="77688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22" name="Object 44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6720120" y="5153400"/>
                        <a:ext cx="687240" cy="77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3" name="Text Box 45"/>
              <p:cNvSpPr/>
              <p:nvPr/>
            </p:nvSpPr>
            <p:spPr>
              <a:xfrm>
                <a:off x="6144120" y="3912480"/>
                <a:ext cx="45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ahoma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4" name="Object 46"/>
              <p:cNvGraphicFramePr/>
              <p:nvPr/>
            </p:nvGraphicFramePr>
            <p:xfrm>
              <a:off x="6314040" y="5332320"/>
              <a:ext cx="298080" cy="24336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125" name="Object 46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6314040" y="5332320"/>
                        <a:ext cx="298080" cy="24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09600" y="1828800"/>
            <a:ext cx="7056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似三角形对应高的比等于相似比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198360" y="914400"/>
            <a:ext cx="200016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发现新知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3452760" y="3492360"/>
            <a:ext cx="5462640" cy="3073680"/>
          </a:xfrm>
          <a:prstGeom prst="cloudCallout">
            <a:avLst>
              <a:gd name="adj1" fmla="val -57819"/>
              <a:gd name="adj2" fmla="val -7472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4046400" y="3828960"/>
            <a:ext cx="4523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角形中的特殊线段还有哪些？它们是否也具有类似的性质呢？你有何猜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67"/>
          <p:cNvGrpSpPr/>
          <p:nvPr/>
        </p:nvGrpSpPr>
        <p:grpSpPr>
          <a:xfrm>
            <a:off x="17640" y="2152800"/>
            <a:ext cx="6581160" cy="2554200"/>
            <a:chOff x="17640" y="2152800"/>
            <a:chExt cx="6581160" cy="2554200"/>
          </a:xfrm>
        </p:grpSpPr>
        <p:sp>
          <p:nvSpPr>
            <p:cNvPr id="132" name="Rectangle 20"/>
            <p:cNvSpPr/>
            <p:nvPr/>
          </p:nvSpPr>
          <p:spPr>
            <a:xfrm>
              <a:off x="17640" y="2152800"/>
              <a:ext cx="658116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∽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C'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D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分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和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C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中线，设相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比为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，那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3" name="Object 49"/>
            <p:cNvGraphicFramePr/>
            <p:nvPr/>
          </p:nvGraphicFramePr>
          <p:xfrm>
            <a:off x="2146320" y="3784680"/>
            <a:ext cx="1754640" cy="92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Object 4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6320" y="3784680"/>
                      <a:ext cx="1754640" cy="92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" name="AutoShape 50"/>
          <p:cNvSpPr/>
          <p:nvPr/>
        </p:nvSpPr>
        <p:spPr>
          <a:xfrm>
            <a:off x="4324320" y="4848120"/>
            <a:ext cx="4591080" cy="1704960"/>
          </a:xfrm>
          <a:prstGeom prst="cloudCallout">
            <a:avLst>
              <a:gd name="adj1" fmla="val -38175"/>
              <a:gd name="adj2" fmla="val -73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有条理地表达理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1"/>
          <p:cNvGrpSpPr/>
          <p:nvPr/>
        </p:nvGrpSpPr>
        <p:grpSpPr>
          <a:xfrm>
            <a:off x="6151680" y="695160"/>
            <a:ext cx="2930040" cy="1587240"/>
            <a:chOff x="6151680" y="695160"/>
            <a:chExt cx="2930040" cy="1587240"/>
          </a:xfrm>
        </p:grpSpPr>
        <p:sp>
          <p:nvSpPr>
            <p:cNvPr id="137" name="Text Box 52"/>
            <p:cNvSpPr/>
            <p:nvPr/>
          </p:nvSpPr>
          <p:spPr>
            <a:xfrm>
              <a:off x="8180280" y="176184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3"/>
            <p:cNvGrpSpPr/>
            <p:nvPr/>
          </p:nvGrpSpPr>
          <p:grpSpPr>
            <a:xfrm>
              <a:off x="6151680" y="695160"/>
              <a:ext cx="2253600" cy="1587240"/>
              <a:chOff x="6151680" y="695160"/>
              <a:chExt cx="2253600" cy="1587240"/>
            </a:xfrm>
          </p:grpSpPr>
          <p:pic>
            <p:nvPicPr>
              <p:cNvPr id="139" name="Picture 54" descr=""/>
              <p:cNvPicPr/>
              <p:nvPr/>
            </p:nvPicPr>
            <p:blipFill>
              <a:blip r:embed="rId3"/>
              <a:stretch/>
            </p:blipFill>
            <p:spPr>
              <a:xfrm>
                <a:off x="6377040" y="999720"/>
                <a:ext cx="1877760" cy="10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55"/>
              <p:cNvSpPr/>
              <p:nvPr/>
            </p:nvSpPr>
            <p:spPr>
              <a:xfrm>
                <a:off x="7503840" y="695160"/>
                <a:ext cx="90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56"/>
              <p:cNvSpPr/>
              <p:nvPr/>
            </p:nvSpPr>
            <p:spPr>
              <a:xfrm>
                <a:off x="6151680" y="1761840"/>
                <a:ext cx="90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203240" y="1914120"/>
                <a:ext cx="90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58"/>
          <p:cNvGrpSpPr/>
          <p:nvPr/>
        </p:nvGrpSpPr>
        <p:grpSpPr>
          <a:xfrm>
            <a:off x="5781600" y="2435400"/>
            <a:ext cx="3006360" cy="2177640"/>
            <a:chOff x="5781600" y="2435400"/>
            <a:chExt cx="3006360" cy="2177640"/>
          </a:xfrm>
        </p:grpSpPr>
        <p:sp>
          <p:nvSpPr>
            <p:cNvPr id="144" name="Text Box 59"/>
            <p:cNvSpPr/>
            <p:nvPr/>
          </p:nvSpPr>
          <p:spPr>
            <a:xfrm>
              <a:off x="8003880" y="424476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0"/>
            <p:cNvGrpSpPr/>
            <p:nvPr/>
          </p:nvGrpSpPr>
          <p:grpSpPr>
            <a:xfrm>
              <a:off x="5781600" y="2435400"/>
              <a:ext cx="2417760" cy="2120400"/>
              <a:chOff x="5781600" y="2435400"/>
              <a:chExt cx="2417760" cy="2120400"/>
            </a:xfrm>
          </p:grpSpPr>
          <p:pic>
            <p:nvPicPr>
              <p:cNvPr id="146" name="Picture 61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920" y="2739960"/>
                <a:ext cx="2287440" cy="15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62"/>
              <p:cNvSpPr/>
              <p:nvPr/>
            </p:nvSpPr>
            <p:spPr>
              <a:xfrm>
                <a:off x="7415280" y="2435400"/>
                <a:ext cx="78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63"/>
              <p:cNvSpPr/>
              <p:nvPr/>
            </p:nvSpPr>
            <p:spPr>
              <a:xfrm>
                <a:off x="6892560" y="4187520"/>
                <a:ext cx="78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64"/>
              <p:cNvSpPr/>
              <p:nvPr/>
            </p:nvSpPr>
            <p:spPr>
              <a:xfrm>
                <a:off x="5781600" y="4125600"/>
                <a:ext cx="78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65"/>
          <p:cNvSpPr/>
          <p:nvPr/>
        </p:nvSpPr>
        <p:spPr>
          <a:xfrm>
            <a:off x="228600" y="1590840"/>
            <a:ext cx="2666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问题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66"/>
          <p:cNvSpPr txBox="1"/>
          <p:nvPr/>
        </p:nvSpPr>
        <p:spPr>
          <a:xfrm>
            <a:off x="304920" y="927000"/>
            <a:ext cx="1776240" cy="5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提出问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2" name="矩形 21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3"/>
          <p:cNvGrpSpPr/>
          <p:nvPr/>
        </p:nvGrpSpPr>
        <p:grpSpPr>
          <a:xfrm>
            <a:off x="44280" y="2330280"/>
            <a:ext cx="6627600" cy="3493800"/>
            <a:chOff x="44280" y="2330280"/>
            <a:chExt cx="6627600" cy="3493800"/>
          </a:xfrm>
        </p:grpSpPr>
        <p:sp>
          <p:nvSpPr>
            <p:cNvPr id="154" name="Rectangle 5"/>
            <p:cNvSpPr/>
            <p:nvPr/>
          </p:nvSpPr>
          <p:spPr>
            <a:xfrm>
              <a:off x="44280" y="2330280"/>
              <a:ext cx="6627600" cy="34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∽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C'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D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分别是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和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C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角平分线，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相似比为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，那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Object 8"/>
            <p:cNvGraphicFramePr/>
            <p:nvPr/>
          </p:nvGraphicFramePr>
          <p:xfrm>
            <a:off x="2898720" y="3822840"/>
            <a:ext cx="1807560" cy="84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8720" y="3822840"/>
                      <a:ext cx="180756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7" name="Group 9"/>
          <p:cNvGrpSpPr/>
          <p:nvPr/>
        </p:nvGrpSpPr>
        <p:grpSpPr>
          <a:xfrm>
            <a:off x="6550200" y="819000"/>
            <a:ext cx="2818800" cy="1739880"/>
            <a:chOff x="6550200" y="819000"/>
            <a:chExt cx="2818800" cy="1739880"/>
          </a:xfrm>
        </p:grpSpPr>
        <p:pic>
          <p:nvPicPr>
            <p:cNvPr id="158" name="Picture 10" descr=""/>
            <p:cNvPicPr/>
            <p:nvPr/>
          </p:nvPicPr>
          <p:blipFill>
            <a:blip r:embed="rId3"/>
            <a:stretch/>
          </p:blipFill>
          <p:spPr>
            <a:xfrm>
              <a:off x="6694560" y="1123920"/>
              <a:ext cx="20239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1"/>
            <p:cNvSpPr/>
            <p:nvPr/>
          </p:nvSpPr>
          <p:spPr>
            <a:xfrm>
              <a:off x="7923600" y="819000"/>
              <a:ext cx="7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6550200" y="2128680"/>
              <a:ext cx="7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7706880" y="2190600"/>
              <a:ext cx="7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8574120" y="2114640"/>
              <a:ext cx="79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5"/>
          <p:cNvGrpSpPr/>
          <p:nvPr/>
        </p:nvGrpSpPr>
        <p:grpSpPr>
          <a:xfrm>
            <a:off x="5875200" y="2614680"/>
            <a:ext cx="3554640" cy="2120760"/>
            <a:chOff x="5875200" y="2614680"/>
            <a:chExt cx="3554640" cy="2120760"/>
          </a:xfrm>
        </p:grpSpPr>
        <p:pic>
          <p:nvPicPr>
            <p:cNvPr id="164" name="Picture 16" descr=""/>
            <p:cNvPicPr/>
            <p:nvPr/>
          </p:nvPicPr>
          <p:blipFill>
            <a:blip r:embed="rId4"/>
            <a:stretch/>
          </p:blipFill>
          <p:spPr>
            <a:xfrm>
              <a:off x="6159240" y="2919240"/>
              <a:ext cx="255924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7"/>
            <p:cNvSpPr/>
            <p:nvPr/>
          </p:nvSpPr>
          <p:spPr>
            <a:xfrm>
              <a:off x="8647920" y="4214880"/>
              <a:ext cx="7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8"/>
            <p:cNvSpPr/>
            <p:nvPr/>
          </p:nvSpPr>
          <p:spPr>
            <a:xfrm>
              <a:off x="7509960" y="4367160"/>
              <a:ext cx="7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5875200" y="4214880"/>
              <a:ext cx="7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0"/>
            <p:cNvSpPr/>
            <p:nvPr/>
          </p:nvSpPr>
          <p:spPr>
            <a:xfrm>
              <a:off x="7865640" y="2614680"/>
              <a:ext cx="7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utoShape 21"/>
          <p:cNvSpPr/>
          <p:nvPr/>
        </p:nvSpPr>
        <p:spPr>
          <a:xfrm>
            <a:off x="4113360" y="4952880"/>
            <a:ext cx="4752720" cy="1613160"/>
          </a:xfrm>
          <a:prstGeom prst="cloudCallout">
            <a:avLst>
              <a:gd name="adj1" fmla="val -34976"/>
              <a:gd name="adj2" fmla="val -8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有条理地表达理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28600" y="1766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问题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66"/>
          <p:cNvSpPr txBox="1"/>
          <p:nvPr/>
        </p:nvSpPr>
        <p:spPr>
          <a:xfrm>
            <a:off x="304920" y="927000"/>
            <a:ext cx="1776240" cy="5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提出问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2" name="矩形 20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5"/>
          <p:cNvGrpSpPr/>
          <p:nvPr/>
        </p:nvGrpSpPr>
        <p:grpSpPr>
          <a:xfrm>
            <a:off x="152280" y="2027160"/>
            <a:ext cx="6129000" cy="2154240"/>
            <a:chOff x="152280" y="2027160"/>
            <a:chExt cx="6129000" cy="2154240"/>
          </a:xfrm>
        </p:grpSpPr>
        <p:sp>
          <p:nvSpPr>
            <p:cNvPr id="174" name="Rectangle 28"/>
            <p:cNvSpPr/>
            <p:nvPr/>
          </p:nvSpPr>
          <p:spPr>
            <a:xfrm>
              <a:off x="152280" y="2027160"/>
              <a:ext cx="61290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∽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C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D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分别是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和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C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中线，设相似为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5" name="Object 29"/>
            <p:cNvGraphicFramePr/>
            <p:nvPr/>
          </p:nvGraphicFramePr>
          <p:xfrm>
            <a:off x="1340280" y="3284640"/>
            <a:ext cx="1656360" cy="896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6" name="Object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40280" y="3284640"/>
                      <a:ext cx="1656360" cy="89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7" name="Group 31"/>
          <p:cNvGrpSpPr/>
          <p:nvPr/>
        </p:nvGrpSpPr>
        <p:grpSpPr>
          <a:xfrm>
            <a:off x="6108840" y="1306440"/>
            <a:ext cx="3141000" cy="1797480"/>
            <a:chOff x="6108840" y="1306440"/>
            <a:chExt cx="3141000" cy="1797480"/>
          </a:xfrm>
        </p:grpSpPr>
        <p:sp>
          <p:nvSpPr>
            <p:cNvPr id="178" name="Text Box 32"/>
            <p:cNvSpPr/>
            <p:nvPr/>
          </p:nvSpPr>
          <p:spPr>
            <a:xfrm>
              <a:off x="8283600" y="2557080"/>
              <a:ext cx="96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33"/>
            <p:cNvGrpSpPr/>
            <p:nvPr/>
          </p:nvGrpSpPr>
          <p:grpSpPr>
            <a:xfrm>
              <a:off x="6108840" y="1306440"/>
              <a:ext cx="2415960" cy="1797480"/>
              <a:chOff x="6108840" y="1306440"/>
              <a:chExt cx="2415960" cy="1797480"/>
            </a:xfrm>
          </p:grpSpPr>
          <p:pic>
            <p:nvPicPr>
              <p:cNvPr id="180" name="Picture 34" descr=""/>
              <p:cNvPicPr/>
              <p:nvPr/>
            </p:nvPicPr>
            <p:blipFill>
              <a:blip r:embed="rId3"/>
              <a:stretch/>
            </p:blipFill>
            <p:spPr>
              <a:xfrm>
                <a:off x="6350400" y="1663560"/>
                <a:ext cx="2013120" cy="12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Text Box 35"/>
              <p:cNvSpPr/>
              <p:nvPr/>
            </p:nvSpPr>
            <p:spPr>
              <a:xfrm>
                <a:off x="7558560" y="1306440"/>
                <a:ext cx="96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36"/>
              <p:cNvSpPr/>
              <p:nvPr/>
            </p:nvSpPr>
            <p:spPr>
              <a:xfrm>
                <a:off x="6108840" y="2557080"/>
                <a:ext cx="96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37"/>
              <p:cNvSpPr/>
              <p:nvPr/>
            </p:nvSpPr>
            <p:spPr>
              <a:xfrm>
                <a:off x="7236000" y="2735640"/>
                <a:ext cx="96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38"/>
          <p:cNvGrpSpPr/>
          <p:nvPr/>
        </p:nvGrpSpPr>
        <p:grpSpPr>
          <a:xfrm>
            <a:off x="5622840" y="3184560"/>
            <a:ext cx="3714480" cy="2442960"/>
            <a:chOff x="5622840" y="3184560"/>
            <a:chExt cx="3714480" cy="2442960"/>
          </a:xfrm>
        </p:grpSpPr>
        <p:sp>
          <p:nvSpPr>
            <p:cNvPr id="185" name="Text Box 39"/>
            <p:cNvSpPr/>
            <p:nvPr/>
          </p:nvSpPr>
          <p:spPr>
            <a:xfrm>
              <a:off x="8368200" y="5259240"/>
              <a:ext cx="96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5622840" y="3184560"/>
              <a:ext cx="2987280" cy="2358360"/>
              <a:chOff x="5622840" y="3184560"/>
              <a:chExt cx="2987280" cy="2358360"/>
            </a:xfrm>
          </p:grpSpPr>
          <p:pic>
            <p:nvPicPr>
              <p:cNvPr id="187" name="Picture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5784120" y="3543480"/>
                <a:ext cx="2826000" cy="177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42"/>
              <p:cNvSpPr/>
              <p:nvPr/>
            </p:nvSpPr>
            <p:spPr>
              <a:xfrm>
                <a:off x="7641360" y="31845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43"/>
              <p:cNvSpPr/>
              <p:nvPr/>
            </p:nvSpPr>
            <p:spPr>
              <a:xfrm>
                <a:off x="6995160" y="515808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4"/>
              <p:cNvSpPr/>
              <p:nvPr/>
            </p:nvSpPr>
            <p:spPr>
              <a:xfrm>
                <a:off x="5622840" y="517464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WordArt 2"/>
          <p:cNvSpPr txBox="1"/>
          <p:nvPr/>
        </p:nvSpPr>
        <p:spPr>
          <a:xfrm>
            <a:off x="52560" y="1433520"/>
            <a:ext cx="16491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决问题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2" name="矩形 19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61"/>
          <p:cNvGrpSpPr/>
          <p:nvPr/>
        </p:nvGrpSpPr>
        <p:grpSpPr>
          <a:xfrm>
            <a:off x="328320" y="898560"/>
            <a:ext cx="8824680" cy="5370840"/>
            <a:chOff x="328320" y="898560"/>
            <a:chExt cx="8824680" cy="5370840"/>
          </a:xfrm>
        </p:grpSpPr>
        <p:sp>
          <p:nvSpPr>
            <p:cNvPr id="194" name="Rectangle 62"/>
            <p:cNvSpPr/>
            <p:nvPr/>
          </p:nvSpPr>
          <p:spPr>
            <a:xfrm>
              <a:off x="757080" y="2660400"/>
              <a:ext cx="839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D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分别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∽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C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中线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63"/>
            <p:cNvGrpSpPr/>
            <p:nvPr/>
          </p:nvGrpSpPr>
          <p:grpSpPr>
            <a:xfrm>
              <a:off x="328320" y="898560"/>
              <a:ext cx="8334000" cy="5370840"/>
              <a:chOff x="328320" y="898560"/>
              <a:chExt cx="8334000" cy="5370840"/>
            </a:xfrm>
          </p:grpSpPr>
          <p:sp>
            <p:nvSpPr>
              <p:cNvPr id="196" name="Rectangle 64"/>
              <p:cNvSpPr/>
              <p:nvPr/>
            </p:nvSpPr>
            <p:spPr>
              <a:xfrm>
                <a:off x="878400" y="898560"/>
                <a:ext cx="317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△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∽△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'B'C'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65"/>
              <p:cNvSpPr/>
              <p:nvPr/>
            </p:nvSpPr>
            <p:spPr>
              <a:xfrm>
                <a:off x="354600" y="93384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66"/>
              <p:cNvSpPr/>
              <p:nvPr/>
            </p:nvSpPr>
            <p:spPr>
              <a:xfrm>
                <a:off x="398160" y="177624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Object 67"/>
              <p:cNvGraphicFramePr/>
              <p:nvPr/>
            </p:nvGraphicFramePr>
            <p:xfrm>
              <a:off x="757080" y="3189600"/>
              <a:ext cx="2008800" cy="996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0" name="Object 6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080" y="3189600"/>
                        <a:ext cx="2008800" cy="996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1" name="Object 68"/>
              <p:cNvGraphicFramePr/>
              <p:nvPr/>
            </p:nvGraphicFramePr>
            <p:xfrm>
              <a:off x="916560" y="1552320"/>
              <a:ext cx="2756520" cy="989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2" name="Object 6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16560" y="1552320"/>
                        <a:ext cx="2756520" cy="98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3" name="Rectangle 69"/>
              <p:cNvSpPr/>
              <p:nvPr/>
            </p:nvSpPr>
            <p:spPr>
              <a:xfrm>
                <a:off x="3733560" y="1796760"/>
                <a:ext cx="251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∠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＝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∠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'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70"/>
              <p:cNvSpPr/>
              <p:nvPr/>
            </p:nvSpPr>
            <p:spPr>
              <a:xfrm>
                <a:off x="354600" y="266868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1"/>
              <p:cNvSpPr/>
              <p:nvPr/>
            </p:nvSpPr>
            <p:spPr>
              <a:xfrm>
                <a:off x="328320" y="335988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06" name="Object 72"/>
              <p:cNvGraphicFramePr/>
              <p:nvPr/>
            </p:nvGraphicFramePr>
            <p:xfrm>
              <a:off x="2742840" y="3175200"/>
              <a:ext cx="2512800" cy="986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07" name="Object 7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742840" y="3175200"/>
                        <a:ext cx="2512800" cy="98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8" name="Object 73"/>
              <p:cNvGraphicFramePr/>
              <p:nvPr/>
            </p:nvGraphicFramePr>
            <p:xfrm>
              <a:off x="719640" y="4258440"/>
              <a:ext cx="2686680" cy="956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09" name="Object 7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19640" y="4258440"/>
                        <a:ext cx="2686680" cy="95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0" name="Rectangle 74"/>
              <p:cNvSpPr/>
              <p:nvPr/>
            </p:nvSpPr>
            <p:spPr>
              <a:xfrm>
                <a:off x="337320" y="440604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11" name="Object 75"/>
              <p:cNvGraphicFramePr/>
              <p:nvPr/>
            </p:nvGraphicFramePr>
            <p:xfrm>
              <a:off x="822240" y="5343840"/>
              <a:ext cx="2548440" cy="92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12" name="Object 75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22240" y="5343840"/>
                        <a:ext cx="2548440" cy="92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3" name="Rectangle 76"/>
              <p:cNvSpPr/>
              <p:nvPr/>
            </p:nvSpPr>
            <p:spPr>
              <a:xfrm>
                <a:off x="384120" y="548532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77"/>
              <p:cNvSpPr/>
              <p:nvPr/>
            </p:nvSpPr>
            <p:spPr>
              <a:xfrm>
                <a:off x="3966840" y="5489280"/>
                <a:ext cx="3138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△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D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  <a:ea typeface="Times New Roman"/>
                  </a:rPr>
                  <a:t>∽△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'B'D'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78"/>
              <p:cNvSpPr/>
              <p:nvPr/>
            </p:nvSpPr>
            <p:spPr>
              <a:xfrm>
                <a:off x="3571920" y="549792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79"/>
              <p:cNvSpPr/>
              <p:nvPr/>
            </p:nvSpPr>
            <p:spPr>
              <a:xfrm>
                <a:off x="7038360" y="5464440"/>
                <a:ext cx="42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17" name="Object 80"/>
              <p:cNvGraphicFramePr/>
              <p:nvPr/>
            </p:nvGraphicFramePr>
            <p:xfrm>
              <a:off x="7438680" y="5306760"/>
              <a:ext cx="1223640" cy="8838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18" name="Object 8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438680" y="5306760"/>
                        <a:ext cx="1223640" cy="883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19" name="矩形 23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154080" y="1146240"/>
            <a:ext cx="17622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决问题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6600" y="1720800"/>
            <a:ext cx="624852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∽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'B'C'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'D'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是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'B'C'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角平分线，设相似比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5"/>
          <p:cNvGraphicFramePr/>
          <p:nvPr/>
        </p:nvGraphicFramePr>
        <p:xfrm>
          <a:off x="2028960" y="3046320"/>
          <a:ext cx="18619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8960" y="3046320"/>
                    <a:ext cx="18619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Group 41"/>
          <p:cNvGrpSpPr/>
          <p:nvPr/>
        </p:nvGrpSpPr>
        <p:grpSpPr>
          <a:xfrm>
            <a:off x="6097680" y="1490760"/>
            <a:ext cx="2971800" cy="1739520"/>
            <a:chOff x="6097680" y="1490760"/>
            <a:chExt cx="2971800" cy="1739520"/>
          </a:xfrm>
        </p:grpSpPr>
        <p:pic>
          <p:nvPicPr>
            <p:cNvPr id="225" name="Picture 42" descr=""/>
            <p:cNvPicPr/>
            <p:nvPr/>
          </p:nvPicPr>
          <p:blipFill>
            <a:blip r:embed="rId3"/>
            <a:stretch/>
          </p:blipFill>
          <p:spPr>
            <a:xfrm>
              <a:off x="6249960" y="1795320"/>
              <a:ext cx="21337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43"/>
            <p:cNvSpPr/>
            <p:nvPr/>
          </p:nvSpPr>
          <p:spPr>
            <a:xfrm>
              <a:off x="7545600" y="1490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4"/>
            <p:cNvSpPr/>
            <p:nvPr/>
          </p:nvSpPr>
          <p:spPr>
            <a:xfrm>
              <a:off x="6097680" y="280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5"/>
            <p:cNvSpPr/>
            <p:nvPr/>
          </p:nvSpPr>
          <p:spPr>
            <a:xfrm>
              <a:off x="7317000" y="2862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6"/>
            <p:cNvSpPr/>
            <p:nvPr/>
          </p:nvSpPr>
          <p:spPr>
            <a:xfrm>
              <a:off x="8231400" y="27860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7"/>
          <p:cNvGrpSpPr/>
          <p:nvPr/>
        </p:nvGrpSpPr>
        <p:grpSpPr>
          <a:xfrm>
            <a:off x="5392800" y="3890880"/>
            <a:ext cx="3809880" cy="2120760"/>
            <a:chOff x="5392800" y="3890880"/>
            <a:chExt cx="3809880" cy="2120760"/>
          </a:xfrm>
        </p:grpSpPr>
        <p:pic>
          <p:nvPicPr>
            <p:cNvPr id="231" name="Picture 48" descr=""/>
            <p:cNvPicPr/>
            <p:nvPr/>
          </p:nvPicPr>
          <p:blipFill>
            <a:blip r:embed="rId4"/>
            <a:stretch/>
          </p:blipFill>
          <p:spPr>
            <a:xfrm>
              <a:off x="5697360" y="4195440"/>
              <a:ext cx="274320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9"/>
            <p:cNvSpPr/>
            <p:nvPr/>
          </p:nvSpPr>
          <p:spPr>
            <a:xfrm>
              <a:off x="8364600" y="5502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0"/>
            <p:cNvSpPr/>
            <p:nvPr/>
          </p:nvSpPr>
          <p:spPr>
            <a:xfrm>
              <a:off x="7145280" y="5643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51"/>
            <p:cNvSpPr/>
            <p:nvPr/>
          </p:nvSpPr>
          <p:spPr>
            <a:xfrm>
              <a:off x="5392800" y="5491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2"/>
            <p:cNvSpPr/>
            <p:nvPr/>
          </p:nvSpPr>
          <p:spPr>
            <a:xfrm>
              <a:off x="7526160" y="3890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16"/>
          <p:cNvSpPr/>
          <p:nvPr/>
        </p:nvSpPr>
        <p:spPr>
          <a:xfrm>
            <a:off x="690480" y="216000"/>
            <a:ext cx="46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7T06:38:06Z</dcterms:created>
  <dc:creator/>
  <dc:description/>
  <dc:language>en-US</dc:language>
  <cp:lastModifiedBy>Administrator</cp:lastModifiedBy>
  <dcterms:modified xsi:type="dcterms:W3CDTF">2015-01-02T11:38:32Z</dcterms:modified>
  <cp:revision>65</cp:revision>
  <dc:subject/>
  <dc:title>PowerPoint 演示文稿</dc:title>
</cp:coreProperties>
</file>