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F55-E577-453F-AA94-7D321901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3ED-5C24-4D3A-BA86-DCCDE974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A64-7052-400D-A352-43AB6FDD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A4F-02DD-40B0-B586-91A2AF3D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EDA2-53D6-4903-906C-2383291D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913A-1FB9-45DE-8AD7-3886E12A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A999-E0E5-4E75-8AB3-0FE8CF97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7C0A-7C3B-4F3A-862C-F420C23D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AEEE-F57E-4D8A-BC37-F2B06325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DF04-3B51-442A-A943-C3B68155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801B-6FC6-4E1A-A789-89BFCCAA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DA5-C630-4E05-BDAA-BD4198F2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87DE-B3B4-4E21-900A-293261DB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EABE-95CE-4DA0-B71E-F7BFE4C6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1762-2F7D-4C34-BB2B-4C190AFD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B4F1-F6A9-4611-BB49-3DB96F4C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58DF-131B-439E-84A1-E346CD98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83C-DEFC-49EC-9556-4895221C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543-DA97-40C2-A1F5-B98521AD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136-E934-49B4-86E0-574CD0F7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8A2-8AA2-4855-B40C-676111CB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A43-7123-4252-AC2C-910B965D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761-1FA0-4CEE-9BE3-8707D1EB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F08-2C50-4F8E-9B5F-76BAF17D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B768-C2A9-4418-B336-310B0F5E6C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42AA-1156-42E2-9752-0C83439FAC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3"/>
          <p:cNvSpPr/>
          <p:nvPr/>
        </p:nvSpPr>
        <p:spPr>
          <a:xfrm>
            <a:off x="3171600" y="739800"/>
            <a:ext cx="264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Cambria"/>
                <a:ea typeface="楷体_GB2312"/>
              </a:rPr>
              <a:t>初中数学九年级上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Cambria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66"/>
                </a:solidFill>
                <a:latin typeface="Cambria"/>
                <a:ea typeface="楷体_GB2312"/>
              </a:rPr>
              <a:t>苏科版</a:t>
            </a:r>
            <a:r>
              <a:rPr b="1" lang="zh-CN" sz="3600" spc="-1" strike="noStrike">
                <a:solidFill>
                  <a:srgbClr val="000066"/>
                </a:solidFill>
                <a:latin typeface="Cambria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124000" y="2637000"/>
            <a:ext cx="5327640" cy="752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.2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二次根式的乘除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71640" y="9079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化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908000" y="2830680"/>
                <a:ext cx="38163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897200" y="4127400"/>
                <a:ext cx="61354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908000" y="1773360"/>
                <a:ext cx="17622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72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73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87280" y="104940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计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646360" y="1773360"/>
                <a:ext cx="21924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673360" y="2852640"/>
                <a:ext cx="2114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744640" y="4400640"/>
                <a:ext cx="4564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81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82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411280" y="4797360"/>
                <a:ext cx="5796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</m:ra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y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411280" y="3716280"/>
                <a:ext cx="38163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411280" y="2349360"/>
                <a:ext cx="20894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411280" y="1557360"/>
                <a:ext cx="22338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1116000" y="9777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98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99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042920" y="836640"/>
            <a:ext cx="7597800" cy="4367160"/>
            <a:chOff x="1042920" y="836640"/>
            <a:chExt cx="7597800" cy="4367160"/>
          </a:xfrm>
        </p:grpSpPr>
        <mc:AlternateContent>
          <mc:Choice xmlns:a14="http://schemas.microsoft.com/office/drawing/2010/main" Requires="a14">
            <p:sp>
              <p:nvSpPr>
                <p:cNvPr id="303" name="Rectangle 4"/>
                <p:cNvSpPr txBox="1"/>
                <p:nvPr/>
              </p:nvSpPr>
              <p:spPr>
                <a:xfrm>
                  <a:off x="1187280" y="1844640"/>
                  <a:ext cx="2521080" cy="11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t xml:space="preserve">7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" name="Rectangle 4"/>
                <p:cNvSpPr txBox="1"/>
                <p:nvPr/>
              </p:nvSpPr>
              <p:spPr>
                <a:xfrm>
                  <a:off x="4572000" y="1916280"/>
                  <a:ext cx="1441440" cy="106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5" name="Rectangle 4"/>
                <p:cNvSpPr txBox="1"/>
                <p:nvPr/>
              </p:nvSpPr>
              <p:spPr>
                <a:xfrm>
                  <a:off x="1187280" y="4005360"/>
                  <a:ext cx="3024360" cy="11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10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Rectangle 4"/>
                <p:cNvSpPr txBox="1"/>
                <p:nvPr/>
              </p:nvSpPr>
              <p:spPr>
                <a:xfrm>
                  <a:off x="4716360" y="4076640"/>
                  <a:ext cx="392436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</m:e>
                      </m:d>
                      <m:r>
                        <m:t xml:space="preserve">6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7" name=""/>
            <p:cNvSpPr/>
            <p:nvPr/>
          </p:nvSpPr>
          <p:spPr>
            <a:xfrm>
              <a:off x="1042920" y="836640"/>
              <a:ext cx="26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500cc"/>
                  </a:solidFill>
                  <a:latin typeface="Comic Sans MS"/>
                </a:rPr>
                <a:t>答案：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09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10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476360" y="1052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化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3716280"/>
                <a:ext cx="2158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Rectangle 4"/>
              <p:cNvSpPr txBox="1"/>
              <p:nvPr/>
            </p:nvSpPr>
            <p:spPr>
              <a:xfrm>
                <a:off x="3203640" y="2781360"/>
                <a:ext cx="316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Rectangle 4"/>
              <p:cNvSpPr txBox="1"/>
              <p:nvPr/>
            </p:nvSpPr>
            <p:spPr>
              <a:xfrm>
                <a:off x="3203640" y="1773360"/>
                <a:ext cx="14396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21" name=""/>
          <p:cNvGrpSpPr/>
          <p:nvPr/>
        </p:nvGrpSpPr>
        <p:grpSpPr>
          <a:xfrm>
            <a:off x="2843280" y="4797360"/>
            <a:ext cx="2520720" cy="777960"/>
            <a:chOff x="2843280" y="4797360"/>
            <a:chExt cx="2520720" cy="777960"/>
          </a:xfrm>
        </p:grpSpPr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03640" y="4797360"/>
                  <a:ext cx="216036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</m:e>
                      </m:d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2843280" y="5013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※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25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26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1332000" y="3933720"/>
            <a:ext cx="7272360" cy="1800000"/>
            <a:chOff x="1332000" y="3933720"/>
            <a:chExt cx="7272360" cy="1800000"/>
          </a:xfrm>
        </p:grpSpPr>
        <mc:AlternateContent>
          <mc:Choice xmlns:a14="http://schemas.microsoft.com/office/drawing/2010/main" Requires="a14">
            <p:sp>
              <p:nvSpPr>
                <p:cNvPr id="330" name="Rectangle 4"/>
                <p:cNvSpPr txBox="1"/>
                <p:nvPr/>
              </p:nvSpPr>
              <p:spPr>
                <a:xfrm>
                  <a:off x="1332000" y="3933720"/>
                  <a:ext cx="676728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</m:e>
                      </m:d>
                      <m:r>
                        <m:t xml:space="preserve">当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时，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</m:e>
                      </m:rad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1835280" y="4830480"/>
                  <a:ext cx="6769080" cy="90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当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时，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</m:e>
                      </m:rad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1258920" y="907920"/>
            <a:ext cx="4968720" cy="2952720"/>
            <a:chOff x="1258920" y="907920"/>
            <a:chExt cx="4968720" cy="2952720"/>
          </a:xfrm>
        </p:grpSpPr>
        <mc:AlternateContent>
          <mc:Choice xmlns:a14="http://schemas.microsoft.com/office/drawing/2010/main" Requires="a14">
            <p:sp>
              <p:nvSpPr>
                <p:cNvPr id="333" name="Rectangle 4"/>
                <p:cNvSpPr txBox="1"/>
                <p:nvPr/>
              </p:nvSpPr>
              <p:spPr>
                <a:xfrm>
                  <a:off x="1332000" y="1844640"/>
                  <a:ext cx="176832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t xml:space="preserve">6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Rectangle 4"/>
                <p:cNvSpPr txBox="1"/>
                <p:nvPr/>
              </p:nvSpPr>
              <p:spPr>
                <a:xfrm>
                  <a:off x="4140360" y="1915920"/>
                  <a:ext cx="208728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6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Rectangle 4"/>
                <p:cNvSpPr txBox="1"/>
                <p:nvPr/>
              </p:nvSpPr>
              <p:spPr>
                <a:xfrm>
                  <a:off x="1332000" y="3019320"/>
                  <a:ext cx="20160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36" name=""/>
            <p:cNvSpPr/>
            <p:nvPr/>
          </p:nvSpPr>
          <p:spPr>
            <a:xfrm>
              <a:off x="1258920" y="907920"/>
              <a:ext cx="187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3500cc"/>
                  </a:solidFill>
                  <a:latin typeface="Comic Sans MS"/>
                </a:rPr>
                <a:t>答案：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38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39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855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判断下列各式是否正确，不正确的请予以改正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403280" y="3411360"/>
                <a:ext cx="5537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Rectangle 4"/>
              <p:cNvSpPr txBox="1"/>
              <p:nvPr/>
            </p:nvSpPr>
            <p:spPr>
              <a:xfrm>
                <a:off x="1403280" y="2176560"/>
                <a:ext cx="48243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1474920" y="4437000"/>
            <a:ext cx="62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由题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你能归纳出什么结论？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51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52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900000" y="1557360"/>
            <a:ext cx="7596360" cy="2654280"/>
            <a:chOff x="900000" y="1557360"/>
            <a:chExt cx="7596360" cy="2654280"/>
          </a:xfrm>
        </p:grpSpPr>
        <mc:AlternateContent>
          <mc:Choice xmlns:a14="http://schemas.microsoft.com/office/drawing/2010/main" Requires="a14">
            <p:sp>
              <p:nvSpPr>
                <p:cNvPr id="356" name="Rectangle 4"/>
                <p:cNvSpPr txBox="1"/>
                <p:nvPr/>
              </p:nvSpPr>
              <p:spPr>
                <a:xfrm>
                  <a:off x="971640" y="3286080"/>
                  <a:ext cx="752472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e>
                      </m:ra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"/>
            <p:cNvSpPr/>
            <p:nvPr/>
          </p:nvSpPr>
          <p:spPr>
            <a:xfrm>
              <a:off x="900000" y="1557360"/>
              <a:ext cx="172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33cc"/>
                  </a:solidFill>
                  <a:latin typeface="Comic Sans MS"/>
                </a:rPr>
                <a:t>结论：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59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60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332000" y="9428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求下列式子有意义的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的取值范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268360" y="3568680"/>
                <a:ext cx="5400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268360" y="4516560"/>
                <a:ext cx="4392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268360" y="2305080"/>
                <a:ext cx="1511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70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71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826920" y="836640"/>
            <a:ext cx="5275440" cy="4519440"/>
            <a:chOff x="826920" y="836640"/>
            <a:chExt cx="5275440" cy="4519440"/>
          </a:xfrm>
        </p:grpSpPr>
        <mc:AlternateContent>
          <mc:Choice xmlns:a14="http://schemas.microsoft.com/office/drawing/2010/main" Requires="a14">
            <p:sp>
              <p:nvSpPr>
                <p:cNvPr id="375" name="Rectangle 4"/>
                <p:cNvSpPr txBox="1"/>
                <p:nvPr/>
              </p:nvSpPr>
              <p:spPr>
                <a:xfrm>
                  <a:off x="2411280" y="2060640"/>
                  <a:ext cx="23036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Rectangle 4"/>
                <p:cNvSpPr txBox="1"/>
                <p:nvPr/>
              </p:nvSpPr>
              <p:spPr>
                <a:xfrm>
                  <a:off x="2484360" y="3284640"/>
                  <a:ext cx="36180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Rectangle 4"/>
                <p:cNvSpPr txBox="1"/>
                <p:nvPr/>
              </p:nvSpPr>
              <p:spPr>
                <a:xfrm>
                  <a:off x="2484360" y="4437000"/>
                  <a:ext cx="345780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8" name=""/>
            <p:cNvSpPr/>
            <p:nvPr/>
          </p:nvSpPr>
          <p:spPr>
            <a:xfrm>
              <a:off x="826920" y="836640"/>
              <a:ext cx="201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3500cc"/>
                  </a:solidFill>
                  <a:latin typeface="Comic Sans MS"/>
                </a:rPr>
                <a:t>答案：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80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81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378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归纳猜想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627280" y="4365720"/>
                <a:ext cx="4991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乘法法则：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1979640" y="5013360"/>
            <a:ext cx="6480000" cy="1298160"/>
            <a:chOff x="1979640" y="5013360"/>
            <a:chExt cx="6480000" cy="1298160"/>
          </a:xfrm>
        </p:grpSpPr>
        <p:sp>
          <p:nvSpPr>
            <p:cNvPr id="158" name=""/>
            <p:cNvSpPr/>
            <p:nvPr/>
          </p:nvSpPr>
          <p:spPr>
            <a:xfrm>
              <a:off x="2556000" y="5013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500cc"/>
                  </a:solidFill>
                  <a:latin typeface="Comic Sans MS"/>
                </a:rPr>
                <a:t>文字语言叙述：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79640" y="5516640"/>
              <a:ext cx="64800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次根式相乘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实际上就是把被开方数相乘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而根号不变．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42920" y="898560"/>
            <a:ext cx="7201080" cy="3035160"/>
            <a:chOff x="1042920" y="898560"/>
            <a:chExt cx="7201080" cy="3035160"/>
          </a:xfrm>
        </p:grpSpPr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1619280" y="2987640"/>
                  <a:ext cx="20160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5146560" y="3058920"/>
                  <a:ext cx="172872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546200" y="1546200"/>
                  <a:ext cx="194472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</m:e>
                      </m:rad>
                      <m:r>
                        <m:t xml:space="preserve">×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075280" y="1546200"/>
                  <a:ext cx="16570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1546200" y="2266920"/>
                  <a:ext cx="20160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rad>
                      <m:r>
                        <m:t xml:space="preserve">×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9</m:t>
                          </m:r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5146560" y="2266920"/>
                  <a:ext cx="15843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×</m:t>
                          </m:r>
                          <m:r>
                            <m:t xml:space="preserve">9</m:t>
                          </m:r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042920" y="898560"/>
              <a:ext cx="15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.</a:t>
              </a: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计算：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62200" y="1979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04000" y="1979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04000" y="26985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62200" y="26985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35280" y="3779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75280" y="377964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851280" y="1407960"/>
            <a:ext cx="4103640" cy="654480"/>
            <a:chOff x="3851280" y="1407960"/>
            <a:chExt cx="4103640" cy="654480"/>
          </a:xfrm>
        </p:grpSpPr>
        <p:sp>
          <p:nvSpPr>
            <p:cNvPr id="177" name=""/>
            <p:cNvSpPr/>
            <p:nvPr/>
          </p:nvSpPr>
          <p:spPr>
            <a:xfrm>
              <a:off x="3851280" y="1407960"/>
              <a:ext cx="115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500cc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20000" y="148104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500cc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924360" y="2128680"/>
            <a:ext cx="4248000" cy="581400"/>
            <a:chOff x="3924360" y="2128680"/>
            <a:chExt cx="4248000" cy="581400"/>
          </a:xfrm>
        </p:grpSpPr>
        <p:sp>
          <p:nvSpPr>
            <p:cNvPr id="180" name=""/>
            <p:cNvSpPr/>
            <p:nvPr/>
          </p:nvSpPr>
          <p:spPr>
            <a:xfrm>
              <a:off x="3924360" y="212868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500cc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93080" y="212868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500cc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67280" y="2781360"/>
            <a:ext cx="3603600" cy="1008000"/>
            <a:chOff x="4067280" y="2781360"/>
            <a:chExt cx="3603600" cy="100800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067280" y="2852640"/>
                  <a:ext cx="36180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7308720" y="2781360"/>
                  <a:ext cx="3621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5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186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探究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07880" y="1341360"/>
            <a:ext cx="8051760" cy="504720"/>
            <a:chOff x="407880" y="1341360"/>
            <a:chExt cx="8051760" cy="504720"/>
          </a:xfrm>
        </p:grpSpPr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407880" y="1341360"/>
                  <a:ext cx="609768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已知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是正整数，则实数</m:t>
                      </m:r>
                      <m:r>
                        <m:t xml:space="preserve">n</m:t>
                      </m:r>
                      <m:r>
                        <m:rPr>
                          <m:lit/>
                          <m:nor/>
                        </m:rPr>
                        <m:t xml:space="preserve">的最大值为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"/>
            <p:cNvSpPr/>
            <p:nvPr/>
          </p:nvSpPr>
          <p:spPr>
            <a:xfrm>
              <a:off x="6443640" y="14778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95280" y="2597040"/>
            <a:ext cx="8856720" cy="546120"/>
            <a:chOff x="395280" y="2597040"/>
            <a:chExt cx="8856720" cy="54612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395280" y="2597040"/>
                  <a:ext cx="67676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如果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则实数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的取值范围是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"/>
            <p:cNvSpPr/>
            <p:nvPr/>
          </p:nvSpPr>
          <p:spPr>
            <a:xfrm>
              <a:off x="7020000" y="27748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46040" y="3573360"/>
            <a:ext cx="7439040" cy="1457280"/>
            <a:chOff x="446040" y="3573360"/>
            <a:chExt cx="7439040" cy="145728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446040" y="3573360"/>
                  <a:ext cx="743904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把二次根式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den>
                          </m:f>
                        </m:e>
                      </m:rad>
                      <m:r>
                        <m:rPr>
                          <m:lit/>
                          <m:nor/>
                        </m:rPr>
                        <m:t xml:space="preserve">中根号外的因式移到根号内，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5" name=""/>
            <p:cNvSpPr/>
            <p:nvPr/>
          </p:nvSpPr>
          <p:spPr>
            <a:xfrm>
              <a:off x="735120" y="4510080"/>
              <a:ext cx="24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结果是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877080" y="134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Rectangle 4"/>
              <p:cNvSpPr txBox="1"/>
              <p:nvPr/>
            </p:nvSpPr>
            <p:spPr>
              <a:xfrm>
                <a:off x="7093080" y="2637000"/>
                <a:ext cx="14065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Rectangle 4"/>
              <p:cNvSpPr txBox="1"/>
              <p:nvPr/>
            </p:nvSpPr>
            <p:spPr>
              <a:xfrm>
                <a:off x="1979640" y="4437000"/>
                <a:ext cx="12240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400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401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拓展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55640" y="1158840"/>
            <a:ext cx="8137440" cy="3450600"/>
            <a:chOff x="755640" y="1158840"/>
            <a:chExt cx="8137440" cy="3450600"/>
          </a:xfrm>
        </p:grpSpPr>
        <p:sp>
          <p:nvSpPr>
            <p:cNvPr id="410" name=""/>
            <p:cNvSpPr/>
            <p:nvPr/>
          </p:nvSpPr>
          <p:spPr>
            <a:xfrm>
              <a:off x="755640" y="1158840"/>
              <a:ext cx="79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4.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探究过程：观察下列各式及其验证过程．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1116000" y="1877760"/>
              <a:ext cx="6838920" cy="1874160"/>
              <a:chOff x="1116000" y="1877760"/>
              <a:chExt cx="6838920" cy="1874160"/>
            </a:xfrm>
          </p:grpSpPr>
          <mc:AlternateContent>
            <mc:Choice xmlns:a14="http://schemas.microsoft.com/office/drawing/2010/main" Requires="a14">
              <p:sp>
                <p:nvSpPr>
                  <p:cNvPr id="412" name=""/>
                  <p:cNvSpPr txBox="1"/>
                  <p:nvPr/>
                </p:nvSpPr>
                <p:spPr>
                  <a:xfrm>
                    <a:off x="1187280" y="1877760"/>
                    <a:ext cx="1800360" cy="747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3" name=""/>
                  <p:cNvSpPr txBox="1"/>
                  <p:nvPr/>
                </p:nvSpPr>
                <p:spPr>
                  <a:xfrm>
                    <a:off x="3564000" y="1950480"/>
                    <a:ext cx="1727280" cy="71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4" name=""/>
                  <p:cNvSpPr txBox="1"/>
                  <p:nvPr/>
                </p:nvSpPr>
                <p:spPr>
                  <a:xfrm>
                    <a:off x="6012000" y="1950480"/>
                    <a:ext cx="1942920" cy="71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5" name=""/>
                  <p:cNvSpPr txBox="1"/>
                  <p:nvPr/>
                </p:nvSpPr>
                <p:spPr>
                  <a:xfrm>
                    <a:off x="1116000" y="3030120"/>
                    <a:ext cx="2016000" cy="72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6" name=""/>
              <p:cNvSpPr/>
              <p:nvPr/>
            </p:nvSpPr>
            <p:spPr>
              <a:xfrm>
                <a:off x="3132000" y="2958480"/>
                <a:ext cx="100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…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042920" y="3966840"/>
              <a:ext cx="7850160" cy="642600"/>
              <a:chOff x="1042920" y="3966840"/>
              <a:chExt cx="7850160" cy="642600"/>
            </a:xfrm>
          </p:grpSpPr>
          <p:sp>
            <p:nvSpPr>
              <p:cNvPr id="418" name=""/>
              <p:cNvSpPr/>
              <p:nvPr/>
            </p:nvSpPr>
            <p:spPr>
              <a:xfrm>
                <a:off x="1042920" y="3966840"/>
                <a:ext cx="785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Comic Sans MS"/>
                  </a:rPr>
                  <a:t>     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Comic Sans MS"/>
                  </a:rPr>
                  <a:t>通过上述探究你能猜测出：       并验证你的结论． 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64360" y="4469760"/>
                <a:ext cx="16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421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422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拓展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755640" y="1989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b200"/>
                </a:solidFill>
                <a:latin typeface="Times New Roman"/>
                <a:ea typeface="华文中宋"/>
              </a:rPr>
              <a:t>一路下来，我们结识了很多新知识，你能谈谈自己的收获吗？说一说，让大家一起来分享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5580000" y="3500280"/>
            <a:ext cx="2301840" cy="17622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5724360" y="907920"/>
            <a:ext cx="231480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硕果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429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430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评价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434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435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116000" y="3213000"/>
            <a:ext cx="6337080" cy="1711440"/>
            <a:chOff x="1116000" y="3213000"/>
            <a:chExt cx="6337080" cy="1711440"/>
          </a:xfrm>
        </p:grpSpPr>
        <p:sp>
          <p:nvSpPr>
            <p:cNvPr id="439" name=""/>
            <p:cNvSpPr/>
            <p:nvPr/>
          </p:nvSpPr>
          <p:spPr>
            <a:xfrm>
              <a:off x="1116000" y="321300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500cc"/>
                  </a:solidFill>
                  <a:latin typeface="宋体"/>
                </a:rPr>
                <a:t>逆用乘法法则</a:t>
              </a:r>
              <a:r>
                <a:rPr b="0" lang="en-US" sz="3200" spc="-1" strike="noStrike">
                  <a:solidFill>
                    <a:srgbClr val="3500cc"/>
                  </a:solidFill>
                  <a:latin typeface="宋体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2412720" y="4221000"/>
                  <a:ext cx="504036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1" name=""/>
          <p:cNvGrpSpPr/>
          <p:nvPr/>
        </p:nvGrpSpPr>
        <p:grpSpPr>
          <a:xfrm>
            <a:off x="1116000" y="1341360"/>
            <a:ext cx="6335640" cy="1582920"/>
            <a:chOff x="1116000" y="1341360"/>
            <a:chExt cx="6335640" cy="1582920"/>
          </a:xfrm>
        </p:grpSpPr>
        <mc:AlternateContent>
          <mc:Choice xmlns:a14="http://schemas.microsoft.com/office/drawing/2010/main" Requires="a14">
            <p:sp>
              <p:nvSpPr>
                <p:cNvPr id="442" name="Rectangle 4"/>
                <p:cNvSpPr txBox="1"/>
                <p:nvPr/>
              </p:nvSpPr>
              <p:spPr>
                <a:xfrm>
                  <a:off x="2452680" y="2225520"/>
                  <a:ext cx="499896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3" name=""/>
            <p:cNvSpPr/>
            <p:nvPr/>
          </p:nvSpPr>
          <p:spPr>
            <a:xfrm>
              <a:off x="1116000" y="1341360"/>
              <a:ext cx="439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500cc"/>
                  </a:solidFill>
                  <a:latin typeface="Comic Sans MS"/>
                </a:rPr>
                <a:t>二次根式的乘法法则：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987640" y="13413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03dff"/>
                </a:solidFill>
                <a:latin typeface="Arial"/>
              </a:rPr>
              <a:t>作业布置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1547640" y="3213000"/>
            <a:ext cx="64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课本：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67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页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87280" y="104940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计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27280" y="1773360"/>
                <a:ext cx="2232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700360" y="2852640"/>
                <a:ext cx="187308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700360" y="4437000"/>
                <a:ext cx="35989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196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197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Rectangle 4"/>
              <p:cNvSpPr txBox="1"/>
              <p:nvPr/>
            </p:nvSpPr>
            <p:spPr>
              <a:xfrm>
                <a:off x="1332000" y="907920"/>
                <a:ext cx="5400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Rectangle 4"/>
              <p:cNvSpPr txBox="1"/>
              <p:nvPr/>
            </p:nvSpPr>
            <p:spPr>
              <a:xfrm>
                <a:off x="1979640" y="1989000"/>
                <a:ext cx="44640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Rectangle 4"/>
              <p:cNvSpPr txBox="1"/>
              <p:nvPr/>
            </p:nvSpPr>
            <p:spPr>
              <a:xfrm>
                <a:off x="2411280" y="4581360"/>
                <a:ext cx="5832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79640" y="3716280"/>
                <a:ext cx="3024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当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时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05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06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58920" y="148428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练习一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：课本</a:t>
            </a:r>
            <a:r>
              <a:rPr b="0" lang="en-US" sz="4800" spc="-1" strike="noStrike">
                <a:solidFill>
                  <a:srgbClr val="3500cc"/>
                </a:solidFill>
                <a:latin typeface="宋体"/>
              </a:rPr>
              <a:t>62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页练习</a:t>
            </a:r>
            <a:r>
              <a:rPr b="0" lang="en-US" sz="4800" spc="-1" strike="noStrike">
                <a:solidFill>
                  <a:srgbClr val="3500cc"/>
                </a:solidFill>
                <a:latin typeface="宋体"/>
              </a:rPr>
              <a:t>1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11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12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79640" y="2565360"/>
            <a:ext cx="4398480" cy="3022560"/>
            <a:chOff x="1979640" y="2565360"/>
            <a:chExt cx="4398480" cy="302256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860560" y="3373560"/>
                  <a:ext cx="113472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072040" y="3425760"/>
                  <a:ext cx="1174320" cy="68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2917800" y="4797360"/>
                  <a:ext cx="12553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5074920" y="4844880"/>
                  <a:ext cx="130320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</m:e>
                      </m:d>
                      <m:r>
                        <m:t xml:space="preserve">3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20" name=""/>
            <p:cNvSpPr/>
            <p:nvPr/>
          </p:nvSpPr>
          <p:spPr>
            <a:xfrm>
              <a:off x="1979640" y="2565360"/>
              <a:ext cx="217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500cc"/>
                  </a:solidFill>
                  <a:latin typeface="Comic Sans MS"/>
                </a:rPr>
                <a:t>答案：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971640" y="1197000"/>
            <a:ext cx="6337080" cy="1711440"/>
            <a:chOff x="971640" y="1197000"/>
            <a:chExt cx="6337080" cy="1711440"/>
          </a:xfrm>
        </p:grpSpPr>
        <p:sp>
          <p:nvSpPr>
            <p:cNvPr id="222" name=""/>
            <p:cNvSpPr/>
            <p:nvPr/>
          </p:nvSpPr>
          <p:spPr>
            <a:xfrm>
              <a:off x="971640" y="119700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500cc"/>
                  </a:solidFill>
                  <a:latin typeface="宋体"/>
                </a:rPr>
                <a:t>逆用乘法法则</a:t>
              </a:r>
              <a:r>
                <a:rPr b="0" lang="en-US" sz="3200" spc="-1" strike="noStrike">
                  <a:solidFill>
                    <a:srgbClr val="3500cc"/>
                  </a:solidFill>
                  <a:latin typeface="宋体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268360" y="2205000"/>
                  <a:ext cx="504036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4" name=""/>
          <p:cNvSpPr/>
          <p:nvPr/>
        </p:nvSpPr>
        <p:spPr>
          <a:xfrm>
            <a:off x="971640" y="371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500cc"/>
                </a:solidFill>
                <a:latin typeface="Comic Sans MS"/>
              </a:rPr>
              <a:t>文字语言叙述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042920" y="450864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积的算术平方根，等于积中各因式的算术平方根的积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27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28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探究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71640" y="9079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化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556000" y="2852640"/>
                <a:ext cx="25192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549520" y="4149720"/>
                <a:ext cx="48308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556000" y="1773360"/>
                <a:ext cx="14684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39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40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41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Rectangle 4"/>
              <p:cNvSpPr txBox="1"/>
              <p:nvPr/>
            </p:nvSpPr>
            <p:spPr>
              <a:xfrm>
                <a:off x="1619280" y="2924280"/>
                <a:ext cx="5327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Rectangle 4"/>
              <p:cNvSpPr txBox="1"/>
              <p:nvPr/>
            </p:nvSpPr>
            <p:spPr>
              <a:xfrm>
                <a:off x="1692360" y="4149720"/>
                <a:ext cx="6121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6" name=""/>
          <p:cNvGrpSpPr/>
          <p:nvPr/>
        </p:nvGrpSpPr>
        <p:grpSpPr>
          <a:xfrm>
            <a:off x="898560" y="1574640"/>
            <a:ext cx="7632720" cy="879480"/>
            <a:chOff x="898560" y="1574640"/>
            <a:chExt cx="7632720" cy="879480"/>
          </a:xfrm>
        </p:grpSpPr>
        <mc:AlternateContent>
          <mc:Choice xmlns:a14="http://schemas.microsoft.com/office/drawing/2010/main" Requires="a14">
            <p:sp>
              <p:nvSpPr>
                <p:cNvPr id="247" name="Rectangle 4"/>
                <p:cNvSpPr txBox="1"/>
                <p:nvPr/>
              </p:nvSpPr>
              <p:spPr>
                <a:xfrm>
                  <a:off x="1547640" y="1628640"/>
                  <a:ext cx="69836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</m:e>
                      </m:rad>
                      <m:r>
                        <m:t xml:space="preserve">×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898560" y="157464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Comic Sans MS"/>
                </a:rPr>
                <a:t>解：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50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51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58920" y="126828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练习二：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课本</a:t>
            </a:r>
            <a:r>
              <a:rPr b="0" lang="en-US" sz="4800" spc="-1" strike="noStrike">
                <a:solidFill>
                  <a:srgbClr val="3500cc"/>
                </a:solidFill>
                <a:latin typeface="宋体"/>
              </a:rPr>
              <a:t>62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页练习</a:t>
            </a:r>
            <a:r>
              <a:rPr b="0" lang="en-US" sz="4800" spc="-1" strike="noStrike">
                <a:solidFill>
                  <a:srgbClr val="3500cc"/>
                </a:solidFill>
                <a:latin typeface="宋体"/>
              </a:rPr>
              <a:t>2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56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57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403280" y="2282760"/>
            <a:ext cx="6553440" cy="2633760"/>
            <a:chOff x="1403280" y="2282760"/>
            <a:chExt cx="6553440" cy="2633760"/>
          </a:xfrm>
        </p:grpSpPr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1936800" y="3036960"/>
                  <a:ext cx="11952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3984480" y="3025800"/>
                  <a:ext cx="152424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213600" y="2924280"/>
                  <a:ext cx="174312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2021040" y="4221000"/>
                  <a:ext cx="1830240" cy="6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</m:e>
                      </m:d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"/>
            <p:cNvSpPr/>
            <p:nvPr/>
          </p:nvSpPr>
          <p:spPr>
            <a:xfrm>
              <a:off x="1403280" y="2282760"/>
              <a:ext cx="189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500cc"/>
                  </a:solidFill>
                  <a:latin typeface="Comic Sans MS"/>
                </a:rPr>
                <a:t>答案：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4067280" y="4246560"/>
                  <a:ext cx="102528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28:58Z</dcterms:created>
  <dc:creator>毛云峰</dc:creator>
  <dc:description/>
  <dc:language>en-US</dc:language>
  <cp:lastModifiedBy>User</cp:lastModifiedBy>
  <dcterms:modified xsi:type="dcterms:W3CDTF">2013-09-21T01:11:00Z</dcterms:modified>
  <cp:revision>179</cp:revision>
  <dc:subject/>
  <dc:title>九年级3.2二次根式的乘除第一课时课件</dc:title>
</cp:coreProperties>
</file>