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69.jpeg" ContentType="image/jpe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26.wmf" ContentType="image/x-wmf"/>
  <Override PartName="/ppt/media/image67.jpeg" ContentType="image/jpeg"/>
  <Override PartName="/ppt/media/image61.wmf" ContentType="image/x-wmf"/>
  <Override PartName="/ppt/media/image34.wmf" ContentType="image/x-wmf"/>
  <Override PartName="/ppt/media/image29.wmf" ContentType="image/x-wmf"/>
  <Override PartName="/ppt/media/image4.wmf" ContentType="image/x-wmf"/>
  <Override PartName="/ppt/media/image16.wmf" ContentType="image/x-wmf"/>
  <Override PartName="/ppt/media/image72.jpeg" ContentType="image/jpeg"/>
  <Override PartName="/ppt/media/image1.jpeg" ContentType="image/jpeg"/>
  <Override PartName="/ppt/media/image50.wmf" ContentType="image/x-wmf"/>
  <Override PartName="/ppt/media/image13.wmf" ContentType="image/x-wmf"/>
  <Override PartName="/ppt/media/image2.jpeg" ContentType="image/jpeg"/>
  <Override PartName="/ppt/media/image65.wmf" ContentType="image/x-wmf"/>
  <Override PartName="/ppt/media/image57.png" ContentType="image/png"/>
  <Override PartName="/ppt/media/image14.wmf" ContentType="image/x-wmf"/>
  <Override PartName="/ppt/media/image23.wmf" ContentType="image/x-wmf"/>
  <Override PartName="/ppt/media/image66.png" ContentType="image/png"/>
  <Override PartName="/ppt/media/image27.wmf" ContentType="image/x-wmf"/>
  <Override PartName="/ppt/media/image64.wmf" ContentType="image/x-wmf"/>
  <Override PartName="/ppt/media/type.wav" ContentType="audio/x-wav"/>
  <Override PartName="/ppt/media/image21.wmf" ContentType="image/x-wmf"/>
  <Override PartName="/ppt/media/image68.png" ContentType="image/png"/>
  <Override PartName="/ppt/media/image25.wmf" ContentType="image/x-wmf"/>
  <Override PartName="/ppt/media/image31.wmf" ContentType="image/x-wmf"/>
  <Override PartName="/ppt/media/image71.gif" ContentType="image/gif"/>
  <Override PartName="/ppt/media/image62.wmf" ContentType="image/x-wmf"/>
  <Override PartName="/ppt/media/image20.wmf" ContentType="image/x-wmf"/>
  <Override PartName="/ppt/media/image60.gif" ContentType="image/gif"/>
  <Override PartName="/ppt/media/image63.png" ContentType="image/png"/>
  <Override PartName="/ppt/media/image24.wmf" ContentType="image/x-wmf"/>
  <Override PartName="/ppt/media/image59.wmf" ContentType="image/x-wmf"/>
  <Override PartName="/ppt/media/image22.wmf" ContentType="image/x-wmf"/>
  <Override PartName="/ppt/media/image58.png" ContentType="image/png"/>
  <Override PartName="/ppt/media/image15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chimes.wav" ContentType="audio/x-wav"/>
  <Override PartName="/ppt/media/image32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70.gif" ContentType="image/gif"/>
  <Override PartName="/ppt/media/image3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AFB-A023-4926-87EB-BF5289FEAC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滨海县第一初级中学 周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152-74C0-40F3-8A30-A06C06D1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853-96F4-411D-8543-73CF2E59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693-5270-4810-8622-F1BE471C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C61-92F5-4809-94DA-CEC548B6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2D98-D456-4194-B7F4-5C5CA4F3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6ADE-5612-42E9-9618-0142E955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C806-6C1F-4006-A4DA-9CC22027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3B4A-2064-479A-8384-7B972A0B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1AF5-4386-427C-8643-B9F49A8D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CDC5-EDAC-46B8-9445-A95495B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ECAB-0214-4C2F-A15A-3B265CD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953-ACEB-4D3B-A1F6-86035DCC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5473-E456-4E8E-BC63-F7AC22A1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C5B8-6C47-4494-B61F-8E234AC0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953A-3AC2-4060-80A4-D877B259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461-3395-4784-96AD-67043C07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ED02-5D0A-4BB5-8D47-E97C5887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B6A-90F6-4FB0-8E4E-55B764A2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FD3-4F4F-4020-B10C-B4AD12B4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364-FA6B-4EAC-9503-180DF028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FA5-205F-47E4-8F95-8E18C7FB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4FE-6444-4B46-9F3C-7E80E671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661-D0EF-499B-A6A0-AF967DDE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574-F864-4D59-B528-B26D3D29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206F-2CF1-4078-96DB-1CDD89A88F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C7B7-1A55-4298-821D-EDB76411DE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5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8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9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40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41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56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40.wmf"/><Relationship Id="rId36" Type="http://schemas.openxmlformats.org/officeDocument/2006/relationships/image" Target="../media/image57.png"/><Relationship Id="rId37" Type="http://schemas.openxmlformats.org/officeDocument/2006/relationships/image" Target="../media/image57.png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56.wmf"/><Relationship Id="rId40" Type="http://schemas.openxmlformats.org/officeDocument/2006/relationships/audio" Target="../media/type.wav"/><Relationship Id="rId41" Type="http://schemas.openxmlformats.org/officeDocument/2006/relationships/audio" Target="../media/chimes.wav"/><Relationship Id="rId42" Type="http://schemas.openxmlformats.org/officeDocument/2006/relationships/audio" Target="../media/type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wmf"/><Relationship Id="rId4" Type="http://schemas.openxmlformats.org/officeDocument/2006/relationships/image" Target="../media/image60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2.wmf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image" Target="../media/image66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gif"/><Relationship Id="rId3" Type="http://schemas.openxmlformats.org/officeDocument/2006/relationships/image" Target="../media/image71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0.wmf"/><Relationship Id="rId20" Type="http://schemas.openxmlformats.org/officeDocument/2006/relationships/slide" Target="slide7.xml"/><Relationship Id="rId2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wmf"/><Relationship Id="rId20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slide" Target="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0.wmf"/><Relationship Id="rId26" Type="http://schemas.openxmlformats.org/officeDocument/2006/relationships/slideLayout" Target="../slideLayouts/slideLayout8.xml"/><Relationship Id="rId2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0.wmf"/><Relationship Id="rId2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19280" y="907920"/>
            <a:ext cx="57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>
                    <a:alpha val="6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9.1 </a:t>
            </a:r>
            <a:r>
              <a:rPr b="1" lang="zh-CN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>
                    <a:alpha val="6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反比例函数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>
                  <a:alpha val="6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9480" y="692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比例函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表格填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378936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∵ y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反比例函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436572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x=-1,y=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代入上式得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427640" y="3573360"/>
                <a:ext cx="158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9640" y="5157720"/>
                <a:ext cx="13446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268360" y="4911840"/>
                <a:ext cx="201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6" name=""/>
          <p:cNvGraphicFramePr/>
          <p:nvPr/>
        </p:nvGraphicFramePr>
        <p:xfrm>
          <a:off x="324000" y="1413000"/>
          <a:ext cx="4319280" cy="1511280"/>
        </p:xfrm>
        <a:graphic>
          <a:graphicData uri="http://schemas.openxmlformats.org/drawingml/2006/table">
            <a:tbl>
              <a:tblPr/>
              <a:tblGrid>
                <a:gridCol w="863640"/>
                <a:gridCol w="864000"/>
                <a:gridCol w="863640"/>
                <a:gridCol w="864000"/>
                <a:gridCol w="8640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6605640" y="1628640"/>
          <a:ext cx="243036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5640" y="1628640"/>
                    <a:ext cx="2430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31720" y="1576440"/>
          <a:ext cx="309600" cy="33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1720" y="1576440"/>
                    <a:ext cx="3096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31720" y="2428920"/>
          <a:ext cx="298440" cy="352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1720" y="2428920"/>
                    <a:ext cx="2984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403280" y="1362240"/>
          <a:ext cx="515880" cy="84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3280" y="1362240"/>
                    <a:ext cx="5158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424160" y="2349360"/>
          <a:ext cx="339480" cy="47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24160" y="2349360"/>
                    <a:ext cx="3394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340000" y="1557360"/>
          <a:ext cx="325440" cy="423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40000" y="1557360"/>
                    <a:ext cx="32544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195640" y="2349360"/>
          <a:ext cx="431640" cy="374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95640" y="2349360"/>
                    <a:ext cx="4316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132000" y="1628640"/>
          <a:ext cx="432000" cy="374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32000" y="1628640"/>
                    <a:ext cx="4320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203640" y="2421000"/>
          <a:ext cx="277920" cy="360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03640" y="2421000"/>
                    <a:ext cx="277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1630440"/>
          <a:ext cx="276120" cy="358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140360" y="1630440"/>
                    <a:ext cx="27612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924360" y="2133720"/>
          <a:ext cx="511200" cy="792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24360" y="2133720"/>
                    <a:ext cx="5112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437080" y="2651040"/>
          <a:ext cx="1440000" cy="633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437080" y="2651040"/>
                    <a:ext cx="14400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435640" y="2133720"/>
          <a:ext cx="1150920" cy="5428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435640" y="2133720"/>
                    <a:ext cx="1150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6659640" y="2205000"/>
          <a:ext cx="2305080" cy="4348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659640" y="2205000"/>
                    <a:ext cx="23050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508720" y="1268280"/>
          <a:ext cx="1008000" cy="10083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508720" y="1268280"/>
                    <a:ext cx="1008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5076720" y="170172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435640" y="2133720"/>
          <a:ext cx="1150920" cy="5410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435640" y="2133720"/>
                    <a:ext cx="115092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6732720" y="2778120"/>
          <a:ext cx="2303280" cy="43488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732720" y="2778120"/>
                    <a:ext cx="23032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718000" y="308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求出这个反比例函数的关系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55640" y="0"/>
            <a:ext cx="2664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：</a:t>
            </a:r>
            <a:endParaRPr b="0" lang="en-US" sz="1800" spc="1" strike="noStrike">
              <a:ln w="0">
                <a:noFill/>
              </a:ln>
              <a:blipFill rotWithShape="0">
                <a:blip r:embed="rId3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948360" y="3860640"/>
          <a:ext cx="1150920" cy="54144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6948360" y="3860640"/>
                    <a:ext cx="11509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6156360" y="3846600"/>
            <a:ext cx="8636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即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549360"/>
            <a:ext cx="875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的数表中分别给出了变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对应关系，其中有一个表示的是反比例函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把它找出来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55960" y="276372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9280" y="0"/>
            <a:ext cx="4031640" cy="1291320"/>
            <a:chOff x="179280" y="0"/>
            <a:chExt cx="4031640" cy="1291320"/>
          </a:xfrm>
        </p:grpSpPr>
        <p:grpSp>
          <p:nvGrpSpPr>
            <p:cNvPr id="290" name=""/>
            <p:cNvGrpSpPr/>
            <p:nvPr/>
          </p:nvGrpSpPr>
          <p:grpSpPr>
            <a:xfrm>
              <a:off x="179280" y="9720"/>
              <a:ext cx="4031640" cy="1281600"/>
              <a:chOff x="179280" y="9720"/>
              <a:chExt cx="4031640" cy="128160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179280" y="9720"/>
                <a:ext cx="2090160" cy="1281600"/>
                <a:chOff x="179280" y="9720"/>
                <a:chExt cx="2090160" cy="12816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79280" y="9720"/>
                  <a:ext cx="2042640" cy="128160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03040" y="11880"/>
                  <a:ext cx="206640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245160" y="317160"/>
                <a:ext cx="210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想一想：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9800" y="45720"/>
                <a:ext cx="1941120" cy="114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6" name="" descr=""/>
            <p:cNvPicPr/>
            <p:nvPr/>
          </p:nvPicPr>
          <p:blipFill>
            <a:blip r:embed="rId4"/>
            <a:stretch/>
          </p:blipFill>
          <p:spPr>
            <a:xfrm>
              <a:off x="2855880" y="0"/>
              <a:ext cx="430200" cy="47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2260440" y="3998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5780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49280" y="5911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9080" y="5872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101000" y="5084640"/>
          <a:ext cx="22356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01000" y="5084640"/>
                    <a:ext cx="2235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604280" y="5084640"/>
          <a:ext cx="22356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04280" y="5084640"/>
                    <a:ext cx="223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39640" y="2681280"/>
          <a:ext cx="3695760" cy="1035000"/>
        </p:xfrm>
        <a:graphic>
          <a:graphicData uri="http://schemas.openxmlformats.org/drawingml/2006/table">
            <a:tbl>
              <a:tblPr/>
              <a:tblGrid>
                <a:gridCol w="528840"/>
                <a:gridCol w="527040"/>
                <a:gridCol w="528480"/>
                <a:gridCol w="527040"/>
                <a:gridCol w="528840"/>
                <a:gridCol w="528480"/>
                <a:gridCol w="527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716360" y="2708280"/>
          <a:ext cx="3600720" cy="104904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440"/>
                <a:gridCol w="514080"/>
                <a:gridCol w="514440"/>
                <a:gridCol w="514440"/>
                <a:gridCol w="5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859280" y="4626000"/>
          <a:ext cx="3695760" cy="1035000"/>
        </p:xfrm>
        <a:graphic>
          <a:graphicData uri="http://schemas.openxmlformats.org/drawingml/2006/table">
            <a:tbl>
              <a:tblPr/>
              <a:tblGrid>
                <a:gridCol w="528840"/>
                <a:gridCol w="527040"/>
                <a:gridCol w="528480"/>
                <a:gridCol w="527040"/>
                <a:gridCol w="528840"/>
                <a:gridCol w="527040"/>
                <a:gridCol w="52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39640" y="4653000"/>
          <a:ext cx="3695760" cy="1035000"/>
        </p:xfrm>
        <a:graphic>
          <a:graphicData uri="http://schemas.openxmlformats.org/drawingml/2006/table">
            <a:tbl>
              <a:tblPr/>
              <a:tblGrid>
                <a:gridCol w="528840"/>
                <a:gridCol w="479160"/>
                <a:gridCol w="576360"/>
                <a:gridCol w="527040"/>
                <a:gridCol w="528840"/>
                <a:gridCol w="527040"/>
                <a:gridCol w="52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>
            <a:hlinkClick r:id="rId9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92170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反比例函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=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写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函数关系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求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 rot="320400">
            <a:off x="1042920" y="33300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试一试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076640"/>
            <a:ext cx="921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+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反比例函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=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写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函数关系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求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=-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9640" y="90792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民用电路中电压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满足关系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738680" y="1341360"/>
                <a:ext cx="15620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1763640" y="134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20=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705040" y="260280"/>
            <a:ext cx="39546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舞台中的灯光效果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18" name=""/>
          <p:cNvSpPr/>
          <p:nvPr/>
        </p:nvSpPr>
        <p:spPr>
          <a:xfrm>
            <a:off x="5219640" y="2349360"/>
            <a:ext cx="361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舞台上灯光的亮暗程度是由流过灯泡的电流的大小来控制的，而流过灯泡的电流又是通过改变电阻大小来实现的。电阻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增大，电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变小，灯变暗；电阻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减小，电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变大，灯变亮。灯光师就是通过控制电阻大小来改变灯光明暗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11280" y="18900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一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0" name=""/>
          <p:cNvSpPr/>
          <p:nvPr/>
        </p:nvSpPr>
        <p:spPr>
          <a:xfrm>
            <a:off x="3995640" y="1557360"/>
            <a:ext cx="72072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隶书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511344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5320" y="1752480"/>
            <a:ext cx="880740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式          还可以表示很多实际问题中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之间的关系，比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年级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为“爱心工程”捐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平均每     人捐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那么该班的学生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）可以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能找到一些这样的实例吗？同桌互相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195640" y="1484280"/>
          <a:ext cx="1251000" cy="90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484280"/>
                    <a:ext cx="12510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 txBox="1"/>
          <p:nvPr/>
        </p:nvSpPr>
        <p:spPr>
          <a:xfrm>
            <a:off x="1619280" y="404640"/>
            <a:ext cx="37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合作与交流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455840" y="3716280"/>
          <a:ext cx="1120680" cy="80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55840" y="3716280"/>
                    <a:ext cx="11206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 txBox="1"/>
          <p:nvPr/>
        </p:nvSpPr>
        <p:spPr>
          <a:xfrm>
            <a:off x="539640" y="476280"/>
            <a:ext cx="309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活学活用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91120" cy="2114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979640" y="1844640"/>
            <a:ext cx="5761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有哪些收获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与大家共分享吧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500720" y="5300640"/>
            <a:ext cx="792000" cy="1241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720720" cy="119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8647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P.64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771640" y="1413000"/>
            <a:ext cx="3527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845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请欣赏一段舞台灯光视频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360" y="2565360"/>
            <a:ext cx="1441440" cy="1079640"/>
          </a:xfrm>
          <a:custGeom>
            <a:avLst/>
            <a:gdLst>
              <a:gd name="textAreaLeft" fmla="*/ 270000 w 1441440"/>
              <a:gd name="textAreaRight" fmla="*/ 1171800 w 14414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3436" y="5400"/>
                </a:lnTo>
                <a:lnTo>
                  <a:pt x="5400" y="5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3436" y="16200"/>
                </a:lnTo>
                <a:lnTo>
                  <a:pt x="23436" y="5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3436" y="16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8836" h="21600">
                <a:moveTo>
                  <a:pt x="10393" y="6775"/>
                </a:moveTo>
                <a:lnTo>
                  <a:pt x="18443" y="10800"/>
                </a:lnTo>
                <a:lnTo>
                  <a:pt x="10393" y="14825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18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写出下列各问题中两个变量之间的关系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辆汽车从南京开往上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若速度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那么行驶的路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随时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变化而变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若汽车已经行驶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k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按照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中的速度，那么行驶的路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随时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变化而变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8000" y="404640"/>
            <a:ext cx="381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cc00">
                    <a:alpha val="54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生活中的数学</a:t>
            </a:r>
            <a:endParaRPr b="1" lang="en-US" sz="4000" spc="1" strike="noStrike">
              <a:ln w="9360">
                <a:solidFill>
                  <a:srgbClr val="ff00ff"/>
                </a:solidFill>
                <a:miter/>
              </a:ln>
              <a:solidFill>
                <a:srgbClr val="00cc00">
                  <a:alpha val="54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64000" y="2708280"/>
          <a:ext cx="1728720" cy="6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2708280"/>
                    <a:ext cx="17287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564000" y="4149720"/>
          <a:ext cx="2449440" cy="58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4149720"/>
                    <a:ext cx="24494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24000" y="4767120"/>
            <a:ext cx="85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南京到上海的路程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k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全程所用时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随速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变化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35280" y="5445000"/>
          <a:ext cx="1511280" cy="120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5280" y="5445000"/>
                    <a:ext cx="15112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2556000" y="189000"/>
            <a:ext cx="3313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生活中的数学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6922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个面积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00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方形的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随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变化而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419640" y="620640"/>
          <a:ext cx="504720" cy="4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620640"/>
                    <a:ext cx="5047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24000" y="1916280"/>
            <a:ext cx="80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某银行为资助某社会福利厂，提供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息贷款，该厂的年平均还款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万元）随还款年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年）的变化而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497400"/>
            <a:ext cx="820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游泳池的容积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池内注水，注满水所需时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(h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注水速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(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h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变化而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2214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积为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变化而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284720" y="3430440"/>
          <a:ext cx="50328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3430440"/>
                    <a:ext cx="503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76720" y="1125360"/>
          <a:ext cx="1439640" cy="93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1125360"/>
                    <a:ext cx="1439640" cy="9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932360" y="2708280"/>
          <a:ext cx="11523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2360" y="2708280"/>
                    <a:ext cx="11523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419640" y="4365720"/>
          <a:ext cx="1477800" cy="1511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19640" y="4365720"/>
                    <a:ext cx="14778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348000" y="5657760"/>
          <a:ext cx="1728720" cy="10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5657760"/>
                    <a:ext cx="17287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403280" y="2368440"/>
          <a:ext cx="1417680" cy="5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368440"/>
                    <a:ext cx="14176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403280" y="3098880"/>
          <a:ext cx="20718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3098880"/>
                    <a:ext cx="20718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387440" y="4745160"/>
          <a:ext cx="1744560" cy="84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87440" y="4745160"/>
                    <a:ext cx="174456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403280" y="3860640"/>
          <a:ext cx="1440000" cy="81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3280" y="3860640"/>
                    <a:ext cx="14400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11280" y="18302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关系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0600" y="564660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76440" y="5646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你熟悉的关系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003640" y="2886120"/>
          <a:ext cx="1548000" cy="903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03640" y="2886120"/>
                    <a:ext cx="15480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925880" y="3789360"/>
          <a:ext cx="1951200" cy="98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25880" y="3789360"/>
                    <a:ext cx="19512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932360" y="4705200"/>
          <a:ext cx="1968480" cy="884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32360" y="4705200"/>
                    <a:ext cx="1968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132000" y="2395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正比例函数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3116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一次函数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2368440"/>
          <a:ext cx="1417680" cy="555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03280" y="2368440"/>
                    <a:ext cx="14176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403280" y="3098880"/>
          <a:ext cx="207180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03280" y="3098880"/>
                    <a:ext cx="20718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 txBox="1"/>
          <p:nvPr/>
        </p:nvSpPr>
        <p:spPr>
          <a:xfrm>
            <a:off x="1187280" y="622440"/>
            <a:ext cx="273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观察交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844880" y="0"/>
            <a:ext cx="4284720" cy="3175560"/>
            <a:chOff x="4844880" y="0"/>
            <a:chExt cx="4284720" cy="3175560"/>
          </a:xfrm>
        </p:grpSpPr>
        <p:sp>
          <p:nvSpPr>
            <p:cNvPr id="145" name=""/>
            <p:cNvSpPr/>
            <p:nvPr/>
          </p:nvSpPr>
          <p:spPr>
            <a:xfrm>
              <a:off x="4844880" y="0"/>
              <a:ext cx="4284720" cy="2663640"/>
            </a:xfrm>
            <a:prstGeom prst="wedgeRoundRectCallout">
              <a:avLst>
                <a:gd name="adj1" fmla="val -62263"/>
                <a:gd name="adj2" fmla="val 4517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77760" y="155520"/>
              <a:ext cx="3033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般地，如果在一个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过程中有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两个变量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并且对于变量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每一个值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变量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有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惟一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值与它对应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那么我们称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</a:t>
              </a:r>
              <a:r>
                <a:rPr b="1" lang="zh-CN" sz="24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函数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其中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自变量，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因变量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>
            <a:hlinkClick r:id="rId20" action="ppaction://hlinksldjump"/>
          </p:cNvPr>
          <p:cNvSpPr/>
          <p:nvPr/>
        </p:nvSpPr>
        <p:spPr>
          <a:xfrm>
            <a:off x="795672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1320" y="2974680"/>
            <a:ext cx="49179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关系式      完成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9065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速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函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4508640"/>
          <a:ext cx="1152360" cy="34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508640"/>
                    <a:ext cx="115236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9640" y="5157720"/>
          <a:ext cx="576360" cy="3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5157720"/>
                    <a:ext cx="5763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132000" y="5013360"/>
          <a:ext cx="3351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32000" y="5013360"/>
                    <a:ext cx="3351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851280" y="5013360"/>
          <a:ext cx="33480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1280" y="5013360"/>
                    <a:ext cx="3348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580000" y="4941720"/>
          <a:ext cx="277920" cy="72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941720"/>
                    <a:ext cx="2779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484360" y="5157720"/>
          <a:ext cx="27792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84360" y="5157720"/>
                    <a:ext cx="2779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643280" y="5157720"/>
          <a:ext cx="277920" cy="43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43280" y="5157720"/>
                    <a:ext cx="2779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763640" y="898560"/>
          <a:ext cx="1368360" cy="1089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763640" y="898560"/>
                    <a:ext cx="13683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68360" y="3348000"/>
          <a:ext cx="1008360" cy="801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68360" y="3348000"/>
                    <a:ext cx="100836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08000" y="4294080"/>
          <a:ext cx="6767280" cy="1366920"/>
        </p:xfrm>
        <a:graphic>
          <a:graphicData uri="http://schemas.openxmlformats.org/drawingml/2006/table">
            <a:tbl>
              <a:tblPr/>
              <a:tblGrid>
                <a:gridCol w="1452960"/>
                <a:gridCol w="709920"/>
                <a:gridCol w="708480"/>
                <a:gridCol w="709920"/>
                <a:gridCol w="710280"/>
                <a:gridCol w="841320"/>
                <a:gridCol w="892080"/>
                <a:gridCol w="7423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 txBox="1"/>
          <p:nvPr/>
        </p:nvSpPr>
        <p:spPr>
          <a:xfrm>
            <a:off x="971640" y="0"/>
            <a:ext cx="24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探索活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995640" y="0"/>
            <a:ext cx="4284720" cy="3175560"/>
            <a:chOff x="3995640" y="0"/>
            <a:chExt cx="4284720" cy="3175560"/>
          </a:xfrm>
        </p:grpSpPr>
        <p:sp>
          <p:nvSpPr>
            <p:cNvPr id="171" name=""/>
            <p:cNvSpPr/>
            <p:nvPr/>
          </p:nvSpPr>
          <p:spPr>
            <a:xfrm>
              <a:off x="3995640" y="0"/>
              <a:ext cx="4284720" cy="2663640"/>
            </a:xfrm>
            <a:prstGeom prst="wedgeRoundRectCallout">
              <a:avLst>
                <a:gd name="adj1" fmla="val -62263"/>
                <a:gd name="adj2" fmla="val 4517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52200" y="155520"/>
              <a:ext cx="3033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果在一个变化过程中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两个变量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v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并且对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变量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v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每一个值，变量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有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惟一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值与它对应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那么我们称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v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</a:t>
              </a:r>
              <a:r>
                <a:rPr b="1" lang="zh-CN" sz="24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函数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其中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v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自变量，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因变量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576000" cy="35892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51" h="21600">
                <a:moveTo>
                  <a:pt x="0" y="0"/>
                </a:moveTo>
                <a:lnTo>
                  <a:pt x="34651" y="0"/>
                </a:lnTo>
                <a:lnTo>
                  <a:pt x="34651" y="21600"/>
                </a:lnTo>
                <a:lnTo>
                  <a:pt x="0" y="21600"/>
                </a:lnTo>
                <a:close/>
              </a:path>
              <a:path fill="lightenLess" w="34651" h="21600">
                <a:moveTo>
                  <a:pt x="0" y="0"/>
                </a:moveTo>
                <a:lnTo>
                  <a:pt x="34651" y="0"/>
                </a:lnTo>
                <a:lnTo>
                  <a:pt x="33251" y="1400"/>
                </a:lnTo>
                <a:lnTo>
                  <a:pt x="1400" y="1400"/>
                </a:lnTo>
                <a:close/>
              </a:path>
              <a:path fill="darken" w="34651" h="21600">
                <a:moveTo>
                  <a:pt x="34651" y="0"/>
                </a:moveTo>
                <a:lnTo>
                  <a:pt x="34651" y="21600"/>
                </a:lnTo>
                <a:lnTo>
                  <a:pt x="33251" y="20200"/>
                </a:lnTo>
                <a:lnTo>
                  <a:pt x="33251" y="1400"/>
                </a:lnTo>
                <a:close/>
              </a:path>
              <a:path fill="darkenLess" w="34651" h="21600">
                <a:moveTo>
                  <a:pt x="34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51" y="20200"/>
                </a:lnTo>
                <a:close/>
              </a:path>
              <a:path fill="lighten" w="34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51" h="21600">
                <a:moveTo>
                  <a:pt x="10319" y="3794"/>
                </a:moveTo>
                <a:lnTo>
                  <a:pt x="24332" y="10800"/>
                </a:lnTo>
                <a:lnTo>
                  <a:pt x="10319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170028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一般地，形如                                的函数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反比例函数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，其中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是自变量，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的函数，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k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是比例系数。反比例函数的自变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的取值范围是不等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的一切实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关系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具有什么共同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56000" y="1197000"/>
          <a:ext cx="4392360" cy="70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1197000"/>
                    <a:ext cx="43923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 txBox="1"/>
          <p:nvPr/>
        </p:nvSpPr>
        <p:spPr>
          <a:xfrm>
            <a:off x="684360" y="216000"/>
            <a:ext cx="331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交流想法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419640" y="2421000"/>
          <a:ext cx="3600360" cy="94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2421000"/>
                    <a:ext cx="36003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093080" y="1197000"/>
          <a:ext cx="1008000" cy="801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1197000"/>
                    <a:ext cx="10080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 txBox="1"/>
          <p:nvPr/>
        </p:nvSpPr>
        <p:spPr>
          <a:xfrm>
            <a:off x="2700360" y="98100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比例函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6372360" y="6308640"/>
            <a:ext cx="1079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关系式中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反比例函数吗？如果是，比例系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4360" y="1843200"/>
          <a:ext cx="1257120" cy="18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843200"/>
                    <a:ext cx="125712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203640" y="1916280"/>
          <a:ext cx="1698480" cy="89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3640" y="1916280"/>
                    <a:ext cx="1698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156360" y="1919160"/>
          <a:ext cx="1407960" cy="501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56360" y="1919160"/>
                    <a:ext cx="14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76720" y="2781360"/>
          <a:ext cx="1365120" cy="939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781360"/>
                    <a:ext cx="13651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84360" y="2962440"/>
          <a:ext cx="1672920" cy="53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2962440"/>
                    <a:ext cx="16729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156360" y="2637000"/>
          <a:ext cx="1800360" cy="944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2637000"/>
                    <a:ext cx="180036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765440" y="4154400"/>
            <a:ext cx="273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比例函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表现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788000" y="4956120"/>
          <a:ext cx="1439640" cy="633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88000" y="4956120"/>
                    <a:ext cx="14396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788000" y="4398840"/>
          <a:ext cx="1150920" cy="542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88000" y="4398840"/>
                    <a:ext cx="1150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372360" y="4389480"/>
          <a:ext cx="2160360" cy="407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372360" y="4389480"/>
                    <a:ext cx="21603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859280" y="3429000"/>
          <a:ext cx="1008000" cy="1008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859280" y="342900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4211640" y="393372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8600" y="4292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372360" y="5108400"/>
          <a:ext cx="2160360" cy="4082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72360" y="5108400"/>
                    <a:ext cx="21603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372360" y="3716280"/>
          <a:ext cx="2160360" cy="4078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72360" y="3716280"/>
                    <a:ext cx="21603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 txBox="1"/>
          <p:nvPr/>
        </p:nvSpPr>
        <p:spPr>
          <a:xfrm>
            <a:off x="1835280" y="0"/>
            <a:ext cx="2449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火眼金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3640" y="2421000"/>
            <a:ext cx="8086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已知函数                是反比例函数，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=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若函数                   是反比例函数，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 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若函数                       是反比例函数，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=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300720" y="333360"/>
          <a:ext cx="234000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333360"/>
                    <a:ext cx="23400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635280" y="23446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276720" y="3357720"/>
          <a:ext cx="2016000" cy="52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3357720"/>
                    <a:ext cx="2016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348000" y="4189320"/>
          <a:ext cx="2376360" cy="608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8000" y="4189320"/>
                    <a:ext cx="2376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765440" y="2838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47640" y="3781440"/>
          <a:ext cx="792360" cy="58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7640" y="3781440"/>
                    <a:ext cx="7923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981440" y="4710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788000" y="1413000"/>
          <a:ext cx="1512720" cy="66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88000" y="1413000"/>
                    <a:ext cx="15127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4788000" y="941400"/>
          <a:ext cx="1150920" cy="54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88000" y="941400"/>
                    <a:ext cx="1150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72360" y="1004760"/>
          <a:ext cx="2160360" cy="408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72360" y="1004760"/>
                    <a:ext cx="21603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859280" y="44280"/>
          <a:ext cx="1008000" cy="1008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59280" y="44280"/>
                    <a:ext cx="1008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4427640" y="47772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788000" y="1341360"/>
          <a:ext cx="1439640" cy="743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88000" y="1341360"/>
                    <a:ext cx="14396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408720" y="1501920"/>
          <a:ext cx="2195640" cy="414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408720" y="1501920"/>
                    <a:ext cx="21956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 txBox="1"/>
          <p:nvPr/>
        </p:nvSpPr>
        <p:spPr>
          <a:xfrm>
            <a:off x="684360" y="620640"/>
            <a:ext cx="273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能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4:43:48Z</dcterms:created>
  <dc:creator>win xp</dc:creator>
  <dc:description/>
  <dc:language>en-US</dc:language>
  <cp:lastModifiedBy>lianxiang</cp:lastModifiedBy>
  <dcterms:modified xsi:type="dcterms:W3CDTF">2012-03-08T23:17:42Z</dcterms:modified>
  <cp:revision>266</cp:revision>
  <dc:subject/>
  <dc:title>幻灯片 1</dc:title>
</cp:coreProperties>
</file>