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04920"/>
            <a:ext cx="1784160" cy="2324160"/>
            <a:chOff x="0" y="304920"/>
            <a:chExt cx="1784160" cy="2324160"/>
          </a:xfrm>
        </p:grpSpPr>
        <p:sp>
          <p:nvSpPr>
            <p:cNvPr id="1" name=""/>
            <p:cNvSpPr/>
            <p:nvPr/>
          </p:nvSpPr>
          <p:spPr>
            <a:xfrm flipH="1">
              <a:off x="0" y="403560"/>
              <a:ext cx="1784160" cy="144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3680" y="308160"/>
              <a:ext cx="1440" cy="232092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8280" y="304920"/>
              <a:ext cx="19224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2" y="0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5" y="37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5" y="85"/>
                  </a:lnTo>
                  <a:lnTo>
                    <a:pt x="10" y="95"/>
                  </a:lnTo>
                  <a:lnTo>
                    <a:pt x="18" y="104"/>
                  </a:lnTo>
                  <a:lnTo>
                    <a:pt x="27" y="112"/>
                  </a:lnTo>
                  <a:lnTo>
                    <a:pt x="37" y="117"/>
                  </a:lnTo>
                  <a:lnTo>
                    <a:pt x="49" y="121"/>
                  </a:lnTo>
                  <a:lnTo>
                    <a:pt x="61" y="122"/>
                  </a:lnTo>
                  <a:lnTo>
                    <a:pt x="73" y="121"/>
                  </a:lnTo>
                  <a:lnTo>
                    <a:pt x="84" y="117"/>
                  </a:lnTo>
                  <a:lnTo>
                    <a:pt x="94" y="112"/>
                  </a:lnTo>
                  <a:lnTo>
                    <a:pt x="103" y="104"/>
                  </a:lnTo>
                  <a:lnTo>
                    <a:pt x="110" y="96"/>
                  </a:lnTo>
                  <a:lnTo>
                    <a:pt x="116" y="85"/>
                  </a:lnTo>
                  <a:lnTo>
                    <a:pt x="119" y="74"/>
                  </a:lnTo>
                  <a:lnTo>
                    <a:pt x="121" y="62"/>
                  </a:lnTo>
                </a:path>
              </a:pathLst>
            </a:custGeom>
            <a:noFill/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772400" y="6283440"/>
            <a:ext cx="326880" cy="269640"/>
            <a:chOff x="7772400" y="6283440"/>
            <a:chExt cx="326880" cy="26964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772400" y="6283440"/>
              <a:ext cx="32688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772400" y="6283440"/>
              <a:ext cx="326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7340760" y="4276440"/>
            <a:ext cx="1784160" cy="2324520"/>
            <a:chOff x="7340760" y="4276440"/>
            <a:chExt cx="1784160" cy="2324520"/>
          </a:xfrm>
        </p:grpSpPr>
        <p:sp>
          <p:nvSpPr>
            <p:cNvPr id="8" name=""/>
            <p:cNvSpPr/>
            <p:nvPr/>
          </p:nvSpPr>
          <p:spPr>
            <a:xfrm flipV="1">
              <a:off x="7340760" y="6500880"/>
              <a:ext cx="1784160" cy="64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8924760" y="4276440"/>
              <a:ext cx="6480" cy="23209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32960" y="6407280"/>
              <a:ext cx="19188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2"/>
                  </a:moveTo>
                  <a:lnTo>
                    <a:pt x="60" y="122"/>
                  </a:lnTo>
                  <a:lnTo>
                    <a:pt x="61" y="122"/>
                  </a:lnTo>
                  <a:lnTo>
                    <a:pt x="73" y="121"/>
                  </a:lnTo>
                  <a:lnTo>
                    <a:pt x="84" y="117"/>
                  </a:lnTo>
                  <a:lnTo>
                    <a:pt x="95" y="112"/>
                  </a:lnTo>
                  <a:lnTo>
                    <a:pt x="103" y="104"/>
                  </a:lnTo>
                  <a:lnTo>
                    <a:pt x="111" y="95"/>
                  </a:lnTo>
                  <a:lnTo>
                    <a:pt x="116" y="85"/>
                  </a:lnTo>
                  <a:lnTo>
                    <a:pt x="120" y="73"/>
                  </a:lnTo>
                  <a:lnTo>
                    <a:pt x="121" y="61"/>
                  </a:lnTo>
                  <a:lnTo>
                    <a:pt x="120" y="49"/>
                  </a:lnTo>
                  <a:lnTo>
                    <a:pt x="116" y="37"/>
                  </a:lnTo>
                  <a:lnTo>
                    <a:pt x="111" y="27"/>
                  </a:lnTo>
                  <a:lnTo>
                    <a:pt x="103" y="18"/>
                  </a:lnTo>
                  <a:lnTo>
                    <a:pt x="94" y="10"/>
                  </a:lnTo>
                  <a:lnTo>
                    <a:pt x="84" y="5"/>
                  </a:lnTo>
                  <a:lnTo>
                    <a:pt x="72" y="1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2" y="48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8001000" y="0"/>
            <a:ext cx="1162080" cy="10382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7086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8001000" y="6095880"/>
            <a:ext cx="1219320" cy="4557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7"/>
          <a:stretch/>
        </p:blipFill>
        <p:spPr>
          <a:xfrm>
            <a:off x="25560" y="586728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7205760" y="6508800"/>
            <a:ext cx="193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隶书"/>
                <a:ea typeface="楷体_GB2312"/>
              </a:rPr>
              <a:t>建湖县实验初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074840" cy="16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2666880"/>
            <a:ext cx="662940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§11.3  </a:t>
            </a: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证明   </a:t>
            </a: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10480" y="6172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4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4572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五  归纳文字命题的证明步骤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7524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根据命题，画出图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根据命题，结合图形，写出已知、求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写出证明过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4018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基本事实：同位角相等，两直线平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652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证明：内错角相等，两直线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533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六  典型例题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1781640" y="38862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证明：同旁内角互补，两直线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2971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3840" y="42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1066680"/>
            <a:ext cx="7543800" cy="54104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736640" y="523800"/>
            <a:ext cx="342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1760" y="2925360"/>
            <a:ext cx="60696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回头一看，我想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80" y="7920"/>
            <a:ext cx="1422720" cy="1311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86200" y="182880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由基本事实可以判定其他命题的正确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证明与图形有关命题的一般步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从证明中，我们可以感受到人类对真理的执着追求和严谨的科学态度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0"/>
            <a:ext cx="409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有哪些收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与大家共分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53352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反馈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1228680" y="1004040"/>
            <a:ext cx="46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：如图，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A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CB, ∠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52280" y="1432440"/>
            <a:ext cx="929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∥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证明：∵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A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CB, ∠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∴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A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C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即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∴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∥BC(                 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3429000" cy="1859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08660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239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等式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25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76960" y="33829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内错角相等，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920" y="53352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反馈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120600" y="1263600"/>
            <a:ext cx="810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证明：在同一平面内，垂直于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条直线的两条直线平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24703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4876920" y="3733560"/>
            <a:ext cx="1523880" cy="756000"/>
            <a:chOff x="4876920" y="3733560"/>
            <a:chExt cx="1523880" cy="756000"/>
          </a:xfrm>
        </p:grpSpPr>
        <p:sp>
          <p:nvSpPr>
            <p:cNvPr id="179" name=""/>
            <p:cNvSpPr/>
            <p:nvPr/>
          </p:nvSpPr>
          <p:spPr>
            <a:xfrm>
              <a:off x="4876920" y="37339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876920" y="3733560"/>
              <a:ext cx="1523520" cy="756000"/>
              <a:chOff x="4876920" y="3733560"/>
              <a:chExt cx="1523520" cy="756000"/>
            </a:xfrm>
          </p:grpSpPr>
          <p:sp>
            <p:nvSpPr>
              <p:cNvPr id="181" name=""/>
              <p:cNvSpPr/>
              <p:nvPr/>
            </p:nvSpPr>
            <p:spPr>
              <a:xfrm>
                <a:off x="4876920" y="3733920"/>
                <a:ext cx="761760" cy="75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638680" y="3733560"/>
                <a:ext cx="761760" cy="75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4876920" y="2444760"/>
            <a:ext cx="3352680" cy="0"/>
          </a:xfrm>
          <a:prstGeom prst="line">
            <a:avLst/>
          </a:prstGeom>
          <a:ln w="540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3733560"/>
            <a:ext cx="3429000" cy="6120"/>
          </a:xfrm>
          <a:prstGeom prst="line">
            <a:avLst/>
          </a:prstGeom>
          <a:ln w="540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52480" y="2044440"/>
            <a:ext cx="2700000" cy="2696040"/>
          </a:xfrm>
          <a:prstGeom prst="line">
            <a:avLst/>
          </a:prstGeom>
          <a:ln w="507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2133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53280" y="3429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219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基本事实：同位角相等，两直线平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21000" y="2276640"/>
            <a:ext cx="3467160" cy="1685880"/>
            <a:chOff x="621000" y="2276640"/>
            <a:chExt cx="3467160" cy="1685880"/>
          </a:xfrm>
        </p:grpSpPr>
        <p:sp>
          <p:nvSpPr>
            <p:cNvPr id="191" name=""/>
            <p:cNvSpPr/>
            <p:nvPr/>
          </p:nvSpPr>
          <p:spPr>
            <a:xfrm>
              <a:off x="1107360" y="2656440"/>
              <a:ext cx="233928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0" y="2276640"/>
              <a:ext cx="643680" cy="843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28400" y="2276640"/>
              <a:ext cx="1050480" cy="843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960" y="2276640"/>
              <a:ext cx="1493280" cy="843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680" y="2276640"/>
              <a:ext cx="1888200" cy="843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0080" y="2276640"/>
              <a:ext cx="2458800" cy="843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63520" y="2276640"/>
              <a:ext cx="315360" cy="843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635200" y="3119760"/>
              <a:ext cx="643680" cy="84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228400" y="3119760"/>
              <a:ext cx="1050480" cy="84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85960" y="3119760"/>
              <a:ext cx="1493280" cy="84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390320" y="3119760"/>
              <a:ext cx="1888200" cy="84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20080" y="3119760"/>
              <a:ext cx="2458800" cy="84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963520" y="3119760"/>
              <a:ext cx="315360" cy="84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21000" y="3389400"/>
              <a:ext cx="3467160" cy="487800"/>
              <a:chOff x="621000" y="3389400"/>
              <a:chExt cx="3467160" cy="487800"/>
            </a:xfrm>
          </p:grpSpPr>
          <p:sp>
            <p:nvSpPr>
              <p:cNvPr id="205" name=""/>
              <p:cNvSpPr/>
              <p:nvPr/>
            </p:nvSpPr>
            <p:spPr>
              <a:xfrm>
                <a:off x="832320" y="3519720"/>
                <a:ext cx="298152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5760" y="3389400"/>
                <a:ext cx="3024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华文中宋"/>
                    <a:ea typeface="华文中宋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1000" y="3389400"/>
                <a:ext cx="259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华文中宋"/>
                    <a:ea typeface="华文中宋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874440" y="2518200"/>
              <a:ext cx="281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华文中宋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67000" y="3107520"/>
              <a:ext cx="30240" cy="30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0920" y="297684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03520" y="2473560"/>
              <a:ext cx="273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华文中宋"/>
                  <a:ea typeface="华文中宋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2320" y="3525840"/>
              <a:ext cx="298152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28600" y="4983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证明：内错角相等，两直线平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4572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六  例题精讲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76920" y="3733560"/>
            <a:ext cx="1523880" cy="756000"/>
            <a:chOff x="4876920" y="3733560"/>
            <a:chExt cx="1523880" cy="756000"/>
          </a:xfrm>
        </p:grpSpPr>
        <p:sp>
          <p:nvSpPr>
            <p:cNvPr id="216" name=""/>
            <p:cNvSpPr/>
            <p:nvPr/>
          </p:nvSpPr>
          <p:spPr>
            <a:xfrm>
              <a:off x="4876920" y="37339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876920" y="3733560"/>
              <a:ext cx="1523520" cy="756000"/>
              <a:chOff x="4876920" y="3733560"/>
              <a:chExt cx="1523520" cy="7560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3733920"/>
                <a:ext cx="761760" cy="75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638680" y="3733560"/>
                <a:ext cx="761760" cy="75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808E-007 L 0.14167 -0.18876 E">
                                      <p:cBhvr>
                                        <p:cTn id="40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4572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一  你的判断对吗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124080" cy="259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3809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图（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809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图（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48200" y="1758960"/>
            <a:ext cx="36734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6880" y="1162080"/>
            <a:ext cx="1011240" cy="13240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08600" y="1162080"/>
            <a:ext cx="1649520" cy="13240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13440" y="1162080"/>
            <a:ext cx="2344680" cy="13240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2800" y="1162080"/>
            <a:ext cx="2965320" cy="13240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97120" y="1162080"/>
            <a:ext cx="3861000" cy="13240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2760" y="1162080"/>
            <a:ext cx="495360" cy="13240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446520" y="2486160"/>
            <a:ext cx="1011240" cy="13237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08600" y="2486160"/>
            <a:ext cx="1649520" cy="13237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13080" y="2486160"/>
            <a:ext cx="2344680" cy="13237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492440" y="2486160"/>
            <a:ext cx="2965320" cy="13237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596760" y="2486160"/>
            <a:ext cx="3861000" cy="13237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62760" y="2486160"/>
            <a:ext cx="495360" cy="13237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308040" y="2909880"/>
            <a:ext cx="5212440" cy="366120"/>
            <a:chOff x="3308040" y="2909880"/>
            <a:chExt cx="5212440" cy="366120"/>
          </a:xfrm>
        </p:grpSpPr>
        <p:sp>
          <p:nvSpPr>
            <p:cNvPr id="73" name=""/>
            <p:cNvSpPr/>
            <p:nvPr/>
          </p:nvSpPr>
          <p:spPr>
            <a:xfrm>
              <a:off x="3616200" y="3114720"/>
              <a:ext cx="46814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94040" y="2909880"/>
              <a:ext cx="22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08040" y="2909880"/>
              <a:ext cx="1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476160" y="1523880"/>
            <a:ext cx="21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39040" y="246708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96280" y="2262240"/>
            <a:ext cx="25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03320" y="1523880"/>
            <a:ext cx="204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16200" y="3124080"/>
            <a:ext cx="4681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494960"/>
            <a:ext cx="92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如图（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），线段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与线段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CD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的长度是否相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104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如图（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），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直线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与直线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CD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是否平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3124080"/>
            <a:ext cx="4343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1481E-006 L 3.88889E-006 -0.19908 E">
                                      <p:cBhvr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321336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实数学家们早就遇到了这样的问题，人类对数学命题进行证明的研究已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年的历史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公元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，古希腊数学家欧几里得写出了举世闻名的巨著《原本》，在这本书里，他挑选了一些基本定义和基本事实作为证实其他命题的出发点，推导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条定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原本》是人类智慧的伟大成就之一，它对科学和人类文化的发展产生了深远的影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289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33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一个数学结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正确性如何确认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0816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基本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0868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基本事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8720" y="4678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出发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325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289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533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一个数学结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正确性如何确认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0816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基本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868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基本事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8720" y="4678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出发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286000"/>
            <a:ext cx="2286000" cy="19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34 -0.24444 E">
                                      <p:cBhvr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-0.50938 -0.11991 E">
                                      <p:cBhvr>
                                        <p:cTn id="4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5.55556E-006 L 0.12499 -0.24445 E">
                                      <p:cBhvr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690200"/>
            <a:ext cx="9220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同位角相等，两直线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两直线平行，同位角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两边和它们的夹角对应相等的两个三角形全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两角和它们的夹边对应相等的两个三角形全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三边对应相等的两个三角形全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此外，等式的有关性质和不等式的有关性质也   都看作基本事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4572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二  认识基本事实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45720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三  用推理的方法证实“同角的补角相等”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-228600" y="1168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条件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结论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581280"/>
            <a:ext cx="7467840" cy="1463760"/>
            <a:chOff x="838080" y="3581280"/>
            <a:chExt cx="7467840" cy="1463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10419" t="0" r="8332" b="0"/>
            <a:stretch/>
          </p:blipFill>
          <p:spPr>
            <a:xfrm>
              <a:off x="838080" y="3673440"/>
              <a:ext cx="247824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505320" y="3581280"/>
              <a:ext cx="220968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095880" y="3581280"/>
              <a:ext cx="2210040" cy="146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2438280" y="1066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两个角是同一个角的补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1600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这两个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209680"/>
            <a:ext cx="0" cy="1371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对象具体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52280" y="5028120"/>
            <a:ext cx="92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条件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_____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85720" y="4952880"/>
            <a:ext cx="37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∠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与∠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互补，∠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与∠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互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2200" y="548640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∠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中宋"/>
              </a:rPr>
              <a:t>2=∠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6400" y="556272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: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52280" y="5028120"/>
            <a:ext cx="92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已知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_____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6400" y="556272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求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: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743200"/>
            <a:ext cx="59436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7960"/>
            <a:ext cx="865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∵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互补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∴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2=180° 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∴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=180°-∠1 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∵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互补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∴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3=180° 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∴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=180°-∠1 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∵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=180°-∠1 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∴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=∠3        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2120" y="952560"/>
            <a:ext cx="6629040" cy="1104840"/>
            <a:chOff x="762120" y="952560"/>
            <a:chExt cx="6629040" cy="1104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rcRect l="10419" t="0" r="8332" b="0"/>
            <a:stretch/>
          </p:blipFill>
          <p:spPr>
            <a:xfrm>
              <a:off x="762120" y="1022040"/>
              <a:ext cx="219996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129840" y="952560"/>
              <a:ext cx="196128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5429520" y="952560"/>
              <a:ext cx="19616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1996920" y="173196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与∠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互补，∠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与∠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9480" y="216072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=∠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143000" y="173628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已知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3480" y="21621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求证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657600"/>
            <a:ext cx="594360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96080" y="1905120"/>
            <a:ext cx="1676520" cy="609480"/>
            <a:chOff x="7696080" y="1905120"/>
            <a:chExt cx="1676520" cy="609480"/>
          </a:xfrm>
        </p:grpSpPr>
        <p:sp>
          <p:nvSpPr>
            <p:cNvPr id="128" name=""/>
            <p:cNvSpPr/>
            <p:nvPr/>
          </p:nvSpPr>
          <p:spPr>
            <a:xfrm>
              <a:off x="7696080" y="1905120"/>
              <a:ext cx="1219320" cy="609480"/>
            </a:xfrm>
            <a:prstGeom prst="wedgeEllipseCallout">
              <a:avLst>
                <a:gd name="adj1" fmla="val -105861"/>
                <a:gd name="adj2" fmla="val 85939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400" y="19051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推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95280" y="3595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2=180°  (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95680"/>
            <a:ext cx="594360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334120"/>
            <a:ext cx="594360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666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证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45720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三  用推理的方法证实“同角的补角相等”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4887360" y="26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0840" y="3062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互补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682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0480" y="3962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式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44600" y="43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0840" y="480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互补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525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式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44600" y="5653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86800" y="609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量代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4920" y="4572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证明和定理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3408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证明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推理的方法证实真命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过程叫做证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经过证明的真命题称为定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3534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同角的补角相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可以作为以后推理的依据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533520"/>
            <a:ext cx="3733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四  思考与交流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76520"/>
            <a:ext cx="60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证明：对顶角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2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顶角相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可以作为以后推理的依据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5-22T16:17:29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