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803D-8487-4F93-A0C6-981C98F8D7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C078-FA18-49F6-8F33-D12EFD3700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0BDF-B81F-424F-A321-EB03907D8E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0107-20A8-43A0-BA95-FBB1BCA6D0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0792-C9D8-4C6B-945E-EC8181C7B3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9E0A-A281-4446-9F01-5CBCAAEEA7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FE23-224F-4ECA-A60A-18D52A5D96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F9C7-1B6C-414C-859B-9309BFF1C0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9B18-7EC6-477A-8916-2E1FFED713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C75C-2E3B-4485-841B-B5CE91C5DB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5523-3231-417E-BD09-7F4CEA05AC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1B45-FA94-47BC-8CB6-B5756EBD4F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16E7-CDF9-4246-8A74-706C60A57D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851-82B6-4AB8-A9DB-5CC180D131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828E-DA64-45AF-A19E-99BB3154E8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8289-062E-4F73-8989-3DC59BF87E9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E5B0-FE0D-4120-9D6C-038A4F5CC4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11CB-F5C2-440E-9FF8-55AA47371A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3ED-8E92-4B87-AB19-20D68AAA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22C-BA16-4517-B5E7-EA69B49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913-36EC-4B95-A5F6-9134C3E4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110C-9558-4B1E-8AEE-9FF6272F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E38-2413-48F8-ABA2-0E549C18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1BB-4B8A-488A-9F2C-0669638F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0AF-D893-4D86-A0E9-F76A7F02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E0D-0165-488B-BDA2-0F145684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CD4-31ED-46C5-921C-D34A01BC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4FF-535B-415B-9181-053FC71C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629-A192-4A87-8CD2-E21E8990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01B-A26E-4ACB-9320-3319D6F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23D5-6C84-4C3A-BD86-7389AFEB3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slide" Target="slide7.xml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slide" Target="slide5.xml"/><Relationship Id="rId6" Type="http://schemas.openxmlformats.org/officeDocument/2006/relationships/image" Target="../media/image5.wmf"/><Relationship Id="rId7" Type="http://schemas.openxmlformats.org/officeDocument/2006/relationships/package" Target="../embeddings/oleObject3.xlsx"/><Relationship Id="rId8" Type="http://schemas.openxmlformats.org/officeDocument/2006/relationships/slide" Target="slide4.xml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7"/>
          <p:cNvSpPr/>
          <p:nvPr/>
        </p:nvSpPr>
        <p:spPr>
          <a:xfrm>
            <a:off x="214200" y="1860480"/>
            <a:ext cx="89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黑体"/>
                <a:ea typeface="黑体"/>
              </a:rPr>
              <a:t>7.2 </a:t>
            </a:r>
            <a:r>
              <a:rPr b="1" lang="zh-CN" sz="6000" spc="-1" strike="noStrike">
                <a:solidFill>
                  <a:srgbClr val="0033cc"/>
                </a:solidFill>
                <a:latin typeface="黑体"/>
                <a:ea typeface="黑体"/>
              </a:rPr>
              <a:t>统计表、统计图的选用</a:t>
            </a:r>
            <a:r>
              <a:rPr b="1" lang="en-US" sz="6000" spc="-1" strike="noStrike">
                <a:solidFill>
                  <a:srgbClr val="0033cc"/>
                </a:solidFill>
                <a:latin typeface="黑体"/>
                <a:ea typeface="黑体"/>
              </a:rPr>
              <a:t>(2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57120" y="444600"/>
            <a:ext cx="8072640" cy="571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12600"/>
          <a:ext cx="9144000" cy="684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00"/>
                    <a:ext cx="914400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3"/>
          <p:cNvSpPr/>
          <p:nvPr/>
        </p:nvSpPr>
        <p:spPr>
          <a:xfrm>
            <a:off x="519840" y="11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586520" y="3541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643920" y="2017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625000" y="2017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606440" y="300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1024"/>
          <p:cNvGraphicFramePr/>
          <p:nvPr/>
        </p:nvGraphicFramePr>
        <p:xfrm>
          <a:off x="0" y="457200"/>
          <a:ext cx="9144000" cy="59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3"/>
          <p:cNvSpPr/>
          <p:nvPr/>
        </p:nvSpPr>
        <p:spPr>
          <a:xfrm>
            <a:off x="457200" y="1143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亿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026360" y="3571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力提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表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届奥运会金牌榜和中国历届奥运会金牌获得数。你准备采用哪种统计图来反映表中所反映的数据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2743200"/>
          <a:ext cx="8001000" cy="1422360"/>
        </p:xfrm>
        <a:graphic>
          <a:graphicData uri="http://schemas.openxmlformats.org/drawingml/2006/table">
            <a:tbl>
              <a:tblPr/>
              <a:tblGrid>
                <a:gridCol w="1144440"/>
                <a:gridCol w="1141560"/>
                <a:gridCol w="1144440"/>
                <a:gridCol w="1140120"/>
                <a:gridCol w="1285560"/>
                <a:gridCol w="1000440"/>
                <a:gridCol w="1144440"/>
              </a:tblGrid>
              <a:tr h="73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国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美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中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俄罗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澳大利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日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  <a:ea typeface="隶书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金牌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9" name="Text Box 50"/>
          <p:cNvSpPr/>
          <p:nvPr/>
        </p:nvSpPr>
        <p:spPr>
          <a:xfrm>
            <a:off x="1467360" y="47149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扇形统计图或用条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026"/>
          <p:cNvSpPr/>
          <p:nvPr/>
        </p:nvSpPr>
        <p:spPr>
          <a:xfrm>
            <a:off x="142920" y="326880"/>
            <a:ext cx="87789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、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下列问题中选用哪种统计图较恰当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为了反映某个月股市涨跌变化情况，有关人员抽取该月的数据作统计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）为了解市民对“随地吐痰就要重罚”的态度（赞成、基本赞成、无所谓、反对）某新闻机构对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00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位市民做了调查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某公司为了反映该公司产品销售数量，将全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个月的销售情况制作成一张统计图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）护士每隔几小时给病人量一次体温，以了解病人的体温变化情况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）某校老师中初级职称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中级职称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，高级职称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）某市实施科教兴市战略，大力发展教育事业，近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来对教育的投入如下（单位：亿元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5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0.94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6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.5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.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8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03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1999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1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.5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1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2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19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3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30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　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2004</a:t>
            </a:r>
            <a:r>
              <a:rPr b="1" lang="zh-CN" sz="22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3.6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27"/>
          <p:cNvSpPr/>
          <p:nvPr/>
        </p:nvSpPr>
        <p:spPr>
          <a:xfrm>
            <a:off x="654480" y="533412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答 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折线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28"/>
          <p:cNvSpPr/>
          <p:nvPr/>
        </p:nvSpPr>
        <p:spPr>
          <a:xfrm>
            <a:off x="4302720" y="5334120"/>
            <a:ext cx="39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条形统计图或扇形统计图（后者最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9"/>
          <p:cNvSpPr/>
          <p:nvPr/>
        </p:nvSpPr>
        <p:spPr>
          <a:xfrm>
            <a:off x="1215000" y="57546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条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30"/>
          <p:cNvSpPr/>
          <p:nvPr/>
        </p:nvSpPr>
        <p:spPr>
          <a:xfrm>
            <a:off x="3577320" y="57546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折线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31"/>
          <p:cNvSpPr/>
          <p:nvPr/>
        </p:nvSpPr>
        <p:spPr>
          <a:xfrm>
            <a:off x="1215000" y="62118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扇形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32"/>
          <p:cNvSpPr/>
          <p:nvPr/>
        </p:nvSpPr>
        <p:spPr>
          <a:xfrm>
            <a:off x="3947760" y="62118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条形统计图或折线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26"/>
          <p:cNvSpPr/>
          <p:nvPr/>
        </p:nvSpPr>
        <p:spPr>
          <a:xfrm>
            <a:off x="0" y="71280"/>
            <a:ext cx="89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是某校七年级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班一次数学考试成绩的系统形图，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小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大于等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其余关推）由图可知：此次共有＿＿＿＿人参加考试；人数最多的在＿＿＿＿＿分数段，若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以上为优秀，那么本次考试的优秀率为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1024"/>
          <p:cNvGraphicFramePr/>
          <p:nvPr/>
        </p:nvGraphicFramePr>
        <p:xfrm>
          <a:off x="304920" y="2286000"/>
          <a:ext cx="8839080" cy="390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88390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28"/>
          <p:cNvSpPr/>
          <p:nvPr/>
        </p:nvSpPr>
        <p:spPr>
          <a:xfrm>
            <a:off x="1431000" y="954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29"/>
          <p:cNvSpPr/>
          <p:nvPr/>
        </p:nvSpPr>
        <p:spPr>
          <a:xfrm>
            <a:off x="6348960" y="95400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0"/>
          <p:cNvSpPr/>
          <p:nvPr/>
        </p:nvSpPr>
        <p:spPr>
          <a:xfrm>
            <a:off x="6717240" y="1295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7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79280" y="26028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某报社为了了解读者对一报纸四个版面的喜欢程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进行了一次问卷调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要求读者选出自己最喜欢的一个版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将结果绘成了如下统计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请说出你从条形图中读出的信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并补全扇形统计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要求第二版与第三版相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0" y="2781360"/>
          <a:ext cx="5470560" cy="37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547056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08720" y="2781360"/>
            <a:ext cx="3317760" cy="3292560"/>
          </a:xfrm>
          <a:prstGeom prst="rect">
            <a:avLst/>
          </a:prstGeom>
          <a:ln w="0">
            <a:noFill/>
          </a:ln>
        </p:spPr>
      </p:pic>
      <p:sp>
        <p:nvSpPr>
          <p:cNvPr id="127" name="Line 5"/>
          <p:cNvSpPr/>
          <p:nvPr/>
        </p:nvSpPr>
        <p:spPr>
          <a:xfrm flipH="1">
            <a:off x="7164000" y="3213000"/>
            <a:ext cx="863640" cy="122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740720" y="335772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新魏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第二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156360" y="342900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华文新魏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华文新魏"/>
              </a:rPr>
              <a:t>第一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914400" y="3124080"/>
            <a:ext cx="765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通过本节课的学习你有什么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00240" y="11430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小   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14240" y="4357800"/>
            <a:ext cx="765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作业：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17    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14400" y="1676520"/>
          <a:ext cx="7924680" cy="4064040"/>
        </p:xfrm>
        <a:graphic>
          <a:graphicData uri="http://schemas.openxmlformats.org/drawingml/2006/table">
            <a:tbl>
              <a:tblPr/>
              <a:tblGrid>
                <a:gridCol w="2108160"/>
                <a:gridCol w="1263600"/>
                <a:gridCol w="1181160"/>
                <a:gridCol w="1095480"/>
                <a:gridCol w="1181160"/>
                <a:gridCol w="1095120"/>
              </a:tblGrid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普查          学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高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初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小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二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64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5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三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8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8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2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4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四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9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3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0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第五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9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46"/>
          <p:cNvSpPr/>
          <p:nvPr/>
        </p:nvSpPr>
        <p:spPr>
          <a:xfrm>
            <a:off x="1981080" y="533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7"/>
          <p:cNvSpPr/>
          <p:nvPr/>
        </p:nvSpPr>
        <p:spPr>
          <a:xfrm>
            <a:off x="1219320" y="7621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8"/>
          <p:cNvSpPr/>
          <p:nvPr/>
        </p:nvSpPr>
        <p:spPr>
          <a:xfrm>
            <a:off x="1066680" y="16765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1024"/>
          <p:cNvGraphicFramePr/>
          <p:nvPr/>
        </p:nvGraphicFramePr>
        <p:xfrm>
          <a:off x="0" y="0"/>
          <a:ext cx="91440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828800" y="5181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来源：第五次人口普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5800" y="1676520"/>
          <a:ext cx="8305920" cy="4064040"/>
        </p:xfrm>
        <a:graphic>
          <a:graphicData uri="http://schemas.openxmlformats.org/drawingml/2006/table">
            <a:tbl>
              <a:tblPr/>
              <a:tblGrid>
                <a:gridCol w="2208240"/>
                <a:gridCol w="1325520"/>
                <a:gridCol w="1238400"/>
                <a:gridCol w="1147680"/>
                <a:gridCol w="1236600"/>
                <a:gridCol w="1149480"/>
              </a:tblGrid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普查          学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高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初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小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二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64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5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三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8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8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2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4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四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9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3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0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五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200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1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39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" name="Text Box 46"/>
          <p:cNvSpPr/>
          <p:nvPr/>
        </p:nvSpPr>
        <p:spPr>
          <a:xfrm>
            <a:off x="1981080" y="533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7"/>
          <p:cNvSpPr/>
          <p:nvPr/>
        </p:nvSpPr>
        <p:spPr>
          <a:xfrm>
            <a:off x="1219320" y="7621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8"/>
          <p:cNvSpPr/>
          <p:nvPr/>
        </p:nvSpPr>
        <p:spPr>
          <a:xfrm>
            <a:off x="1066680" y="16765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1024"/>
          <p:cNvGraphicFramePr/>
          <p:nvPr/>
        </p:nvGraphicFramePr>
        <p:xfrm>
          <a:off x="1066680" y="1066680"/>
          <a:ext cx="73915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391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3"/>
          <p:cNvSpPr/>
          <p:nvPr/>
        </p:nvSpPr>
        <p:spPr>
          <a:xfrm>
            <a:off x="1295280" y="3808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人中具有大学教育程度人数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562200" y="61722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来源：中国国家统计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104560" y="114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81956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066680" y="1676520"/>
          <a:ext cx="7772400" cy="4064040"/>
        </p:xfrm>
        <a:graphic>
          <a:graphicData uri="http://schemas.openxmlformats.org/drawingml/2006/table">
            <a:tbl>
              <a:tblPr/>
              <a:tblGrid>
                <a:gridCol w="2067120"/>
                <a:gridCol w="1239840"/>
                <a:gridCol w="1158840"/>
                <a:gridCol w="1074600"/>
                <a:gridCol w="1157400"/>
                <a:gridCol w="1074600"/>
              </a:tblGrid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普查          学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大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高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初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小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二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64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8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5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三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82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7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8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2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94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第四次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1990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0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3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70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0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第五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200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年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9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7" name="Text Box 46"/>
          <p:cNvSpPr/>
          <p:nvPr/>
        </p:nvSpPr>
        <p:spPr>
          <a:xfrm>
            <a:off x="1981080" y="5335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7"/>
          <p:cNvSpPr/>
          <p:nvPr/>
        </p:nvSpPr>
        <p:spPr>
          <a:xfrm>
            <a:off x="1219320" y="7621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的人数统计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8"/>
          <p:cNvSpPr/>
          <p:nvPr/>
        </p:nvSpPr>
        <p:spPr>
          <a:xfrm>
            <a:off x="1066680" y="16765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1024"/>
          <p:cNvGraphicFramePr/>
          <p:nvPr/>
        </p:nvGraphicFramePr>
        <p:xfrm>
          <a:off x="0" y="0"/>
          <a:ext cx="8458200" cy="635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45820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3"/>
          <p:cNvSpPr/>
          <p:nvPr/>
        </p:nvSpPr>
        <p:spPr>
          <a:xfrm>
            <a:off x="2819520" y="6172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来源：第五次人口普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85800" y="1371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98624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育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1024"/>
          <p:cNvGraphicFramePr/>
          <p:nvPr/>
        </p:nvGraphicFramePr>
        <p:xfrm>
          <a:off x="4800600" y="0"/>
          <a:ext cx="4343400" cy="32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1024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0"/>
                    <a:ext cx="4343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025"/>
          <p:cNvGraphicFramePr/>
          <p:nvPr/>
        </p:nvGraphicFramePr>
        <p:xfrm>
          <a:off x="0" y="3497400"/>
          <a:ext cx="4724280" cy="3360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8" name="Object 1025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497400"/>
                    <a:ext cx="472428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1153080" y="3276720"/>
            <a:ext cx="23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每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万人中具有大学教育程度人数分布统计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5992200" y="609480"/>
            <a:ext cx="234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年每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人数统计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26"/>
          <p:cNvGraphicFramePr/>
          <p:nvPr/>
        </p:nvGraphicFramePr>
        <p:xfrm>
          <a:off x="0" y="0"/>
          <a:ext cx="4800600" cy="3200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2" name="Object 1026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48006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7"/>
          <p:cNvSpPr/>
          <p:nvPr/>
        </p:nvSpPr>
        <p:spPr>
          <a:xfrm>
            <a:off x="1186560" y="609480"/>
            <a:ext cx="255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年每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万人中受教育程度人数分布统计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876920" y="33526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你能从哪幅图中看出每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人中具有大学文化程度人数的变化趋势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876920" y="49687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每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人中具有初中文化程度的人数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876920" y="57913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每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万人中具有初中文化程度人数约占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" y="8380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我们学过哪些统计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1420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条形统计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114200" y="31719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折线统计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114200" y="4419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扇形统计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191120" y="838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三种图各自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052160" y="19810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清楚地表现每个项目的具体数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908160" y="32004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清楚地反映事物的变化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971800" y="4419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清楚地表示出各部分在总体中所占的百分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2:56:20Z</dcterms:created>
  <dc:creator/>
  <dc:description/>
  <dc:language>en-US</dc:language>
  <cp:lastModifiedBy/>
  <dcterms:modified xsi:type="dcterms:W3CDTF">2014-02-20T02:56:30Z</dcterms:modified>
  <cp:revision>1</cp:revision>
  <dc:subject/>
  <dc:title/>
</cp:coreProperties>
</file>