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1.png" ContentType="image/png"/>
  <Override PartName="/ppt/media/image19.png" ContentType="image/png"/>
  <Override PartName="/ppt/media/image1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055-BB18-4132-8757-1ACDCBDE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0B5-6FD0-4D6A-8611-1E0109FD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076-B0B1-47FD-8F40-F093B06E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B3A-F3C4-455E-B8F5-4EAD58E9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985-C5B1-47A1-B471-CD13B89B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ACC-3780-42D2-91CE-6B23A0E4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0B2C-5540-49D8-BC13-0C6CC49F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CFFD-EA6F-47A3-B3C0-DAF46F2E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E26D-7BCA-4F7C-B458-BA44865F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F668-13A0-4936-9D13-763D80C1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458-3FC3-46DB-9559-503BE07E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1129-A99F-4A57-AA55-6284FDB5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1FC3-1100-4AB4-B251-A157D358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9637-C602-413F-BB24-276B839E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CA29-9ED0-4886-8085-A5C0AE39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828E-DBF4-46D9-BDD3-45F5BAF4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2F65-7451-431A-B96E-511F7E95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1855-8C1D-4B48-BF0F-5F079E80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6BCC-AFBF-465A-B933-D4048B9D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7757-89BF-47E3-A4AA-C75E1730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0CA89-31D6-47C8-B58D-7DF76B43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DE6-75BD-482A-99BB-9B18F5F4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DC48-64B0-419D-8177-C496AC02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3748-51E0-4BB4-B031-5A9120A7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D5B1-93AA-467B-8C00-EB18B111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5070-D8AA-4874-83AA-7E0089BD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037E-291D-455E-A770-C7C9A5E6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4F68-A205-4F8B-9825-6DC4FED2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AE99D-1EDC-4C35-B8DD-73AAC22C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AA11-E4CE-4BF1-A589-0D31F28B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1CAF3-6CDA-4FF0-B0DA-3A94798C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3BB2-886D-41D9-931C-F78F4F95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9C2-122D-4E4B-8E0D-768FEEB5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49B21-8470-4A93-835D-39A539F0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0EDAA-4E5A-4F04-9D85-4A664BD2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D6FF-5ED9-4BEF-BCCA-09C6AB78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CE1F8-30BA-4820-92A7-3BED92D9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E70D-C9E4-4265-98E3-E4DE99E1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9EA9-E396-4CD9-BA90-2FDAFCCE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F9AE-097B-4EBB-93DC-285CD59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DD36-ECF7-4288-B1FA-88B68167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D01B-761C-4744-B435-BC808892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D343-2D11-4204-9DFB-46FF5F87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29C-EEDB-48FB-B18D-61EE9BD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4D7E-3C66-486E-A37B-7753748D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A6F-E6B7-44E4-823C-5FF010D4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D7F-C414-4C22-97E0-1B047103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B4B-BE3E-45AA-A591-9F0F563F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DD6E-E639-47FE-A947-8EAD6ABD1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7"/>
          <p:cNvGraphicFramePr/>
          <p:nvPr/>
        </p:nvGraphicFramePr>
        <p:xfrm>
          <a:off x="3492360" y="2276640"/>
          <a:ext cx="5632560" cy="23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2276640"/>
                    <a:ext cx="563256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" name=""/>
          <p:cNvGrpSpPr/>
          <p:nvPr/>
        </p:nvGrpSpPr>
        <p:grpSpPr>
          <a:xfrm>
            <a:off x="5221440" y="3821040"/>
            <a:ext cx="3670920" cy="680760"/>
            <a:chOff x="5221440" y="3821040"/>
            <a:chExt cx="3670920" cy="680760"/>
          </a:xfrm>
        </p:grpSpPr>
        <p:pic>
          <p:nvPicPr>
            <p:cNvPr id="46" name="Picture 40" descr="校名"/>
            <p:cNvPicPr/>
            <p:nvPr/>
          </p:nvPicPr>
          <p:blipFill>
            <a:blip r:embed="rId7"/>
            <a:stretch/>
          </p:blipFill>
          <p:spPr>
            <a:xfrm>
              <a:off x="6040440" y="3823560"/>
              <a:ext cx="285192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1" descr="校徽-高清版"/>
            <p:cNvPicPr/>
            <p:nvPr/>
          </p:nvPicPr>
          <p:blipFill>
            <a:blip r:embed="rId8"/>
            <a:stretch/>
          </p:blipFill>
          <p:spPr>
            <a:xfrm>
              <a:off x="5221440" y="3821040"/>
              <a:ext cx="55872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Object 42" descr=""/>
            <p:cNvPicPr/>
            <p:nvPr/>
          </p:nvPicPr>
          <p:blipFill>
            <a:blip r:embed="rId9"/>
            <a:stretch/>
          </p:blipFill>
          <p:spPr>
            <a:xfrm>
              <a:off x="6743520" y="4237920"/>
              <a:ext cx="1402560" cy="22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4" descr="http://192.168.1.3/images/stories/editorupload/cnfilead1bbb5442152ff232e014315256277a.jpg"/>
          <p:cNvPicPr/>
          <p:nvPr/>
        </p:nvPicPr>
        <p:blipFill>
          <a:blip r:embed="rId10">
            <a:lum bright="40000"/>
          </a:blip>
          <a:srcRect l="15000" t="14992" r="0" b="31669"/>
          <a:stretch/>
        </p:blipFill>
        <p:spPr>
          <a:xfrm>
            <a:off x="0" y="2276640"/>
            <a:ext cx="4876920" cy="230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图片1"/>
          <p:cNvPicPr/>
          <p:nvPr/>
        </p:nvPicPr>
        <p:blipFill>
          <a:blip r:embed="rId11"/>
          <a:stretch/>
        </p:blipFill>
        <p:spPr>
          <a:xfrm>
            <a:off x="5330880" y="4829040"/>
            <a:ext cx="3705120" cy="1192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635A-C644-49B7-BD32-E1B3C19DB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A85D-DA04-4805-AC5D-2C3F62999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A560-019D-4FA9-953D-AEEC36A43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3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Object 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7"/>
          <p:cNvGraphicFramePr/>
          <p:nvPr/>
        </p:nvGraphicFramePr>
        <p:xfrm>
          <a:off x="3492360" y="2276640"/>
          <a:ext cx="5632560" cy="23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Object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360" y="2276640"/>
                    <a:ext cx="563256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5221440" y="3821040"/>
            <a:ext cx="3670920" cy="680760"/>
            <a:chOff x="5221440" y="3821040"/>
            <a:chExt cx="3670920" cy="680760"/>
          </a:xfrm>
        </p:grpSpPr>
        <p:pic>
          <p:nvPicPr>
            <p:cNvPr id="217" name="Picture 40" descr="校名"/>
            <p:cNvPicPr/>
            <p:nvPr/>
          </p:nvPicPr>
          <p:blipFill>
            <a:blip r:embed="rId6"/>
            <a:stretch/>
          </p:blipFill>
          <p:spPr>
            <a:xfrm>
              <a:off x="6040440" y="3823560"/>
              <a:ext cx="285192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1" descr="校徽-高清版"/>
            <p:cNvPicPr/>
            <p:nvPr/>
          </p:nvPicPr>
          <p:blipFill>
            <a:blip r:embed="rId7"/>
            <a:stretch/>
          </p:blipFill>
          <p:spPr>
            <a:xfrm>
              <a:off x="5221440" y="3821040"/>
              <a:ext cx="558720" cy="680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9" name="Object 42"/>
            <p:cNvGraphicFramePr/>
            <p:nvPr/>
          </p:nvGraphicFramePr>
          <p:xfrm>
            <a:off x="6743520" y="4237920"/>
            <a:ext cx="1402560" cy="229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0" name="Object 4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743520" y="4237920"/>
                      <a:ext cx="1402560" cy="22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21" name="Picture 44" descr="http://192.168.1.3/images/stories/editorupload/cnfilead1bbb5442152ff232e014315256277a.jpg"/>
          <p:cNvPicPr/>
          <p:nvPr/>
        </p:nvPicPr>
        <p:blipFill>
          <a:blip r:embed="rId10">
            <a:lum bright="40000"/>
          </a:blip>
          <a:srcRect l="15000" t="14992" r="0" b="31669"/>
          <a:stretch/>
        </p:blipFill>
        <p:spPr>
          <a:xfrm>
            <a:off x="0" y="2276640"/>
            <a:ext cx="4876920" cy="230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9" descr="图片1"/>
          <p:cNvPicPr/>
          <p:nvPr/>
        </p:nvPicPr>
        <p:blipFill>
          <a:blip r:embed="rId11"/>
          <a:stretch/>
        </p:blipFill>
        <p:spPr>
          <a:xfrm>
            <a:off x="5330880" y="4829040"/>
            <a:ext cx="3705120" cy="119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5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324000" y="4724280"/>
            <a:ext cx="56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师附中新城初中    郑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187280" y="620640"/>
            <a:ext cx="64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6.1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　函  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ShockwaveFlash1"/>
          <p:cNvGraphicFramePr/>
          <p:nvPr/>
        </p:nvGraphicFramePr>
        <p:xfrm>
          <a:off x="396720" y="1700280"/>
          <a:ext cx="2880000" cy="28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720" y="1700280"/>
                    <a:ext cx="2880000" cy="28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3637080" y="314172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5487840" y="1989000"/>
            <a:ext cx="2324160" cy="2286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3"/>
          <p:cNvSpPr/>
          <p:nvPr/>
        </p:nvSpPr>
        <p:spPr>
          <a:xfrm>
            <a:off x="157320" y="8424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ShockwaveFlash1"/>
          <p:cNvGraphicFramePr/>
          <p:nvPr/>
        </p:nvGraphicFramePr>
        <p:xfrm>
          <a:off x="539640" y="4653000"/>
          <a:ext cx="2519640" cy="22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653000"/>
                    <a:ext cx="2519640" cy="223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2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7720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4357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4357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5057640" y="2060640"/>
            <a:ext cx="4086360" cy="23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79280" y="549360"/>
          <a:ext cx="8820000" cy="971640"/>
        </p:xfrm>
        <a:graphic>
          <a:graphicData uri="http://schemas.openxmlformats.org/drawingml/2006/table">
            <a:tbl>
              <a:tblPr/>
              <a:tblGrid>
                <a:gridCol w="2089080"/>
                <a:gridCol w="1150920"/>
                <a:gridCol w="1081080"/>
                <a:gridCol w="1150920"/>
                <a:gridCol w="1152720"/>
                <a:gridCol w="1081080"/>
                <a:gridCol w="111420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zh-CN" sz="24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年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r>
                        <a:rPr b="0" lang="zh-CN" sz="24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Text Box 13"/>
          <p:cNvSpPr/>
          <p:nvPr/>
        </p:nvSpPr>
        <p:spPr>
          <a:xfrm>
            <a:off x="250920" y="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问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5003640" y="155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问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5"/>
          <a:stretch/>
        </p:blipFill>
        <p:spPr>
          <a:xfrm>
            <a:off x="468360" y="1844640"/>
            <a:ext cx="4319640" cy="24973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3"/>
          <p:cNvSpPr/>
          <p:nvPr/>
        </p:nvSpPr>
        <p:spPr>
          <a:xfrm>
            <a:off x="250920" y="1459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问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76720" y="4437000"/>
            <a:ext cx="7056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述问题有什么共同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3"/>
          <p:cNvSpPr/>
          <p:nvPr/>
        </p:nvSpPr>
        <p:spPr>
          <a:xfrm>
            <a:off x="250920" y="4221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问题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324000" y="907920"/>
            <a:ext cx="79930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地，在一个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变化过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的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个变量</a:t>
            </a:r>
            <a:r>
              <a:rPr b="0" lang="zh-CN" sz="3200" spc="-1" strike="noStrike" baseline="5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如果对于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每一个值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有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与它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对应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我们称 </a:t>
            </a: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y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是 </a:t>
            </a: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x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的函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x</a:t>
            </a:r>
            <a:r>
              <a:rPr b="0" i="1" lang="en-US" sz="3200" spc="-1" strike="noStrike" baseline="30000">
                <a:solidFill>
                  <a:srgbClr val="0033cc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是自变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228600" y="152280"/>
            <a:ext cx="1319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概念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7720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4357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4357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24000" y="1197000"/>
          <a:ext cx="8496000" cy="911160"/>
        </p:xfrm>
        <a:graphic>
          <a:graphicData uri="http://schemas.openxmlformats.org/drawingml/2006/table">
            <a:tbl>
              <a:tblPr/>
              <a:tblGrid>
                <a:gridCol w="2012760"/>
                <a:gridCol w="1108080"/>
                <a:gridCol w="1041120"/>
                <a:gridCol w="1108080"/>
                <a:gridCol w="1111320"/>
                <a:gridCol w="1041480"/>
                <a:gridCol w="1073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zh-CN" sz="24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年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r>
                        <a:rPr b="0" lang="zh-CN" sz="24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Text Box 13"/>
          <p:cNvSpPr/>
          <p:nvPr/>
        </p:nvSpPr>
        <p:spPr>
          <a:xfrm>
            <a:off x="108000" y="115920"/>
            <a:ext cx="14396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再认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4"/>
          <p:cNvSpPr/>
          <p:nvPr/>
        </p:nvSpPr>
        <p:spPr>
          <a:xfrm>
            <a:off x="395280" y="2997360"/>
            <a:ext cx="8137440" cy="162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变化过程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对于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每一个值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都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唯一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值与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所以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函数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自变量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37720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4357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108000" y="115920"/>
            <a:ext cx="151128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再认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ShockwaveFlash1"/>
          <p:cNvGraphicFramePr/>
          <p:nvPr/>
        </p:nvGraphicFramePr>
        <p:xfrm>
          <a:off x="69840" y="907920"/>
          <a:ext cx="2519280" cy="23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40" y="907920"/>
                    <a:ext cx="2519280" cy="237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5" name="Rectangle 24"/>
          <p:cNvSpPr/>
          <p:nvPr/>
        </p:nvSpPr>
        <p:spPr>
          <a:xfrm>
            <a:off x="2556000" y="1052640"/>
            <a:ext cx="6840360" cy="21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变化过程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对于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每一个值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都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唯一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值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所以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函数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自变量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54040" y="3265560"/>
          <a:ext cx="136836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040" y="3265560"/>
                    <a:ext cx="1368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"/>
          <p:cNvGrpSpPr/>
          <p:nvPr/>
        </p:nvGrpSpPr>
        <p:grpSpPr>
          <a:xfrm>
            <a:off x="142920" y="3860640"/>
            <a:ext cx="3743280" cy="2659320"/>
            <a:chOff x="142920" y="3860640"/>
            <a:chExt cx="3743280" cy="2659320"/>
          </a:xfrm>
        </p:grpSpPr>
        <p:pic>
          <p:nvPicPr>
            <p:cNvPr id="519" name="" descr=""/>
            <p:cNvPicPr/>
            <p:nvPr/>
          </p:nvPicPr>
          <p:blipFill>
            <a:blip r:embed="rId6"/>
            <a:stretch/>
          </p:blipFill>
          <p:spPr>
            <a:xfrm>
              <a:off x="142920" y="3860640"/>
              <a:ext cx="3743280" cy="2111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20" name=""/>
            <p:cNvGraphicFramePr/>
            <p:nvPr/>
          </p:nvGraphicFramePr>
          <p:xfrm>
            <a:off x="503280" y="6021360"/>
            <a:ext cx="1567080" cy="498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3280" y="6021360"/>
                      <a:ext cx="156708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2" name="Rectangle 2"/>
          <p:cNvSpPr/>
          <p:nvPr/>
        </p:nvSpPr>
        <p:spPr>
          <a:xfrm>
            <a:off x="4716360" y="4581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7920000" cy="45799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13"/>
          <p:cNvSpPr/>
          <p:nvPr/>
        </p:nvSpPr>
        <p:spPr>
          <a:xfrm>
            <a:off x="108000" y="115920"/>
            <a:ext cx="14396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再认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2050920" y="98100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30e96"/>
                </a:solidFill>
                <a:latin typeface="Arial"/>
                <a:ea typeface="黑体"/>
              </a:rPr>
              <a:t>气象站测得南京某日气温变化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0" y="1050840"/>
            <a:ext cx="11304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一根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铁丝围成一个长方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当长方形的宽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.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长为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当长方形的宽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.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长为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这个长方形的长是宽的函数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>
            <a:hlinkClick r:id="rId2" action="ppaction://hlinksldjump"/>
          </p:cNvPr>
          <p:cNvSpPr/>
          <p:nvPr/>
        </p:nvSpPr>
        <p:spPr>
          <a:xfrm>
            <a:off x="228600" y="152280"/>
            <a:ext cx="103032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179280" y="3716280"/>
            <a:ext cx="8640720" cy="228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：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设当长方形的宽为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时，长为</a:t>
            </a:r>
            <a:r>
              <a:rPr b="0" lang="zh-CN" sz="2800" spc="-1" strike="noStrike" baseline="30000">
                <a:solidFill>
                  <a:srgbClr val="0033cc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变化过程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对于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　　每一个值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都有唯一的值与它对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所以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zh-CN" sz="2800" spc="-1" strike="noStrike" baseline="30000">
                <a:solidFill>
                  <a:srgbClr val="0033cc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baseline="30000">
                <a:solidFill>
                  <a:srgbClr val="0033cc"/>
                </a:solidFill>
                <a:latin typeface="Times New Roman"/>
              </a:rPr>
              <a:t>　　　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函数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自变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395280" y="836640"/>
            <a:ext cx="56167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图示的运算程序，输入一个实数</a:t>
            </a:r>
            <a:r>
              <a:rPr b="0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便可以输出一个相应的实数</a:t>
            </a:r>
            <a:r>
              <a:rPr b="0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611280" y="285264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函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084720" y="1160640"/>
            <a:ext cx="2590920" cy="4500000"/>
            <a:chOff x="6084720" y="1160640"/>
            <a:chExt cx="2590920" cy="4500000"/>
          </a:xfrm>
        </p:grpSpPr>
        <p:sp>
          <p:nvSpPr>
            <p:cNvPr id="532" name="Line 4"/>
            <p:cNvSpPr/>
            <p:nvPr/>
          </p:nvSpPr>
          <p:spPr>
            <a:xfrm>
              <a:off x="7381800" y="1773000"/>
              <a:ext cx="0" cy="414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"/>
            <p:cNvSpPr/>
            <p:nvPr/>
          </p:nvSpPr>
          <p:spPr>
            <a:xfrm>
              <a:off x="6852960" y="2259000"/>
              <a:ext cx="1042920" cy="485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6"/>
            <p:cNvSpPr/>
            <p:nvPr/>
          </p:nvSpPr>
          <p:spPr>
            <a:xfrm>
              <a:off x="7387920" y="2781000"/>
              <a:ext cx="0" cy="44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7"/>
            <p:cNvSpPr/>
            <p:nvPr/>
          </p:nvSpPr>
          <p:spPr>
            <a:xfrm>
              <a:off x="6876720" y="3267000"/>
              <a:ext cx="1019160" cy="4694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8"/>
            <p:cNvSpPr/>
            <p:nvPr/>
          </p:nvSpPr>
          <p:spPr>
            <a:xfrm>
              <a:off x="7400880" y="3741480"/>
              <a:ext cx="0" cy="428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>
              <a:off x="6895800" y="4209840"/>
              <a:ext cx="1020960" cy="4424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0"/>
            <p:cNvSpPr/>
            <p:nvPr/>
          </p:nvSpPr>
          <p:spPr>
            <a:xfrm>
              <a:off x="7412040" y="4668480"/>
              <a:ext cx="0" cy="41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"/>
            <p:cNvSpPr/>
            <p:nvPr/>
          </p:nvSpPr>
          <p:spPr>
            <a:xfrm>
              <a:off x="6084720" y="5121000"/>
              <a:ext cx="2590920" cy="53964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输出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2"/>
            <p:cNvSpPr/>
            <p:nvPr/>
          </p:nvSpPr>
          <p:spPr>
            <a:xfrm>
              <a:off x="6995880" y="2205000"/>
              <a:ext cx="12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3"/>
            <p:cNvSpPr/>
            <p:nvPr/>
          </p:nvSpPr>
          <p:spPr>
            <a:xfrm>
              <a:off x="6900840" y="3213000"/>
              <a:ext cx="13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4"/>
            <p:cNvSpPr/>
            <p:nvPr/>
          </p:nvSpPr>
          <p:spPr>
            <a:xfrm>
              <a:off x="6924600" y="4133520"/>
              <a:ext cx="15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1"/>
            <p:cNvSpPr/>
            <p:nvPr/>
          </p:nvSpPr>
          <p:spPr>
            <a:xfrm>
              <a:off x="6084720" y="1160640"/>
              <a:ext cx="2590920" cy="53928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输入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6588000" y="1917720"/>
            <a:ext cx="1656000" cy="289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3">
            <a:hlinkClick r:id="rId2" action="ppaction://hlinksldjump"/>
          </p:cNvPr>
          <p:cNvSpPr/>
          <p:nvPr/>
        </p:nvSpPr>
        <p:spPr>
          <a:xfrm>
            <a:off x="228600" y="152280"/>
            <a:ext cx="146376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124000" y="256536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5"/>
          <p:cNvSpPr/>
          <p:nvPr/>
        </p:nvSpPr>
        <p:spPr>
          <a:xfrm>
            <a:off x="324000" y="1197000"/>
            <a:ext cx="842472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举一个存在函数关系的例子，说给你的同桌听，并相互判断一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说的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228600" y="152280"/>
            <a:ext cx="146376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7"/>
          <p:cNvSpPr/>
          <p:nvPr/>
        </p:nvSpPr>
        <p:spPr>
          <a:xfrm>
            <a:off x="-17812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5"/>
          <p:cNvSpPr/>
          <p:nvPr/>
        </p:nvSpPr>
        <p:spPr>
          <a:xfrm>
            <a:off x="177840" y="836640"/>
            <a:ext cx="8642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线段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线段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一个定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垂直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射线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上有一个动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重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分别连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B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284720" y="2836800"/>
            <a:ext cx="4032360" cy="3473280"/>
            <a:chOff x="4284720" y="2836800"/>
            <a:chExt cx="4032360" cy="3473280"/>
          </a:xfrm>
        </p:grpSpPr>
        <p:grpSp>
          <p:nvGrpSpPr>
            <p:cNvPr id="552" name=""/>
            <p:cNvGrpSpPr/>
            <p:nvPr/>
          </p:nvGrpSpPr>
          <p:grpSpPr>
            <a:xfrm>
              <a:off x="4284720" y="2836800"/>
              <a:ext cx="4032360" cy="3473280"/>
              <a:chOff x="4284720" y="2836800"/>
              <a:chExt cx="4032360" cy="347328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4645080" y="3124080"/>
                <a:ext cx="3024000" cy="2736720"/>
                <a:chOff x="4645080" y="3124080"/>
                <a:chExt cx="3024000" cy="2736720"/>
              </a:xfrm>
            </p:grpSpPr>
            <p:sp>
              <p:nvSpPr>
                <p:cNvPr id="554" name="Line 7"/>
                <p:cNvSpPr/>
                <p:nvPr/>
              </p:nvSpPr>
              <p:spPr>
                <a:xfrm>
                  <a:off x="4646520" y="5860800"/>
                  <a:ext cx="3022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8"/>
                <p:cNvSpPr/>
                <p:nvPr/>
              </p:nvSpPr>
              <p:spPr>
                <a:xfrm>
                  <a:off x="6493320" y="3124080"/>
                  <a:ext cx="0" cy="273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9"/>
                <p:cNvSpPr/>
                <p:nvPr/>
              </p:nvSpPr>
              <p:spPr>
                <a:xfrm flipV="1">
                  <a:off x="4645080" y="3807000"/>
                  <a:ext cx="1848240" cy="205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0"/>
                <p:cNvSpPr/>
                <p:nvPr/>
              </p:nvSpPr>
              <p:spPr>
                <a:xfrm>
                  <a:off x="6493320" y="3807000"/>
                  <a:ext cx="1175760" cy="205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11"/>
              <p:cNvSpPr/>
              <p:nvPr/>
            </p:nvSpPr>
            <p:spPr>
              <a:xfrm>
                <a:off x="4284720" y="57164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2"/>
              <p:cNvSpPr/>
              <p:nvPr/>
            </p:nvSpPr>
            <p:spPr>
              <a:xfrm>
                <a:off x="7669440" y="5789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13"/>
              <p:cNvSpPr/>
              <p:nvPr/>
            </p:nvSpPr>
            <p:spPr>
              <a:xfrm>
                <a:off x="6516720" y="3557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14"/>
              <p:cNvSpPr/>
              <p:nvPr/>
            </p:nvSpPr>
            <p:spPr>
              <a:xfrm>
                <a:off x="6300720" y="5789520"/>
                <a:ext cx="64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5"/>
              <p:cNvSpPr/>
              <p:nvPr/>
            </p:nvSpPr>
            <p:spPr>
              <a:xfrm>
                <a:off x="6445440" y="28368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16"/>
            <p:cNvSpPr/>
            <p:nvPr/>
          </p:nvSpPr>
          <p:spPr>
            <a:xfrm flipV="1">
              <a:off x="6302520" y="47815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>
              <a:off x="6500880" y="568332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>
              <a:off x="6645240" y="5683320"/>
              <a:ext cx="1800" cy="176040"/>
            </a:xfrm>
            <a:custGeom>
              <a:avLst/>
              <a:gdLst/>
              <a:ahLst/>
              <a:rect l="l" t="t" r="r" b="b"/>
              <a:pathLst>
                <a:path w="1" h="111">
                  <a:moveTo>
                    <a:pt x="0" y="0"/>
                  </a:moveTo>
                  <a:lnTo>
                    <a:pt x="0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13"/>
          <p:cNvSpPr/>
          <p:nvPr/>
        </p:nvSpPr>
        <p:spPr>
          <a:xfrm>
            <a:off x="250920" y="28526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你能结合上面的背景提出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228600" y="152280"/>
            <a:ext cx="189540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畅所欲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7720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357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564000" y="98100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3"/>
          <p:cNvSpPr/>
          <p:nvPr/>
        </p:nvSpPr>
        <p:spPr>
          <a:xfrm>
            <a:off x="179280" y="2852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课后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5280" y="386064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学评价手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函数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228600" y="152280"/>
            <a:ext cx="225576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小结与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WordArt 4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4104000" cy="122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ShockwaveFlash1"/>
          <p:cNvGraphicFramePr/>
          <p:nvPr/>
        </p:nvGraphicFramePr>
        <p:xfrm>
          <a:off x="971640" y="836640"/>
          <a:ext cx="712944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836640"/>
                    <a:ext cx="7129440" cy="518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9" name="Text Box 13"/>
          <p:cNvSpPr/>
          <p:nvPr/>
        </p:nvSpPr>
        <p:spPr>
          <a:xfrm>
            <a:off x="324000" y="115920"/>
            <a:ext cx="115236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58680" y="59500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加油过程中，涉及到哪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357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95280" y="1440000"/>
            <a:ext cx="8137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加完油，汽车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m/h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速度从甲地匀速驶往乙地，在汽车行驶过程中，涉及到哪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228600" y="15228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9"/>
          <p:cNvSpPr/>
          <p:nvPr/>
        </p:nvSpPr>
        <p:spPr>
          <a:xfrm>
            <a:off x="468360" y="1628640"/>
            <a:ext cx="8229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常量   变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某一变化过程中，数值保持不变的量叫做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常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可以取不同数值的量叫做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变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228600" y="152280"/>
            <a:ext cx="137160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概念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228600" y="981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表是近几年我校入学人数统计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79280" y="1844640"/>
          <a:ext cx="8825040" cy="971640"/>
        </p:xfrm>
        <a:graphic>
          <a:graphicData uri="http://schemas.openxmlformats.org/drawingml/2006/table">
            <a:tbl>
              <a:tblPr/>
              <a:tblGrid>
                <a:gridCol w="2232000"/>
                <a:gridCol w="1152720"/>
                <a:gridCol w="1152360"/>
                <a:gridCol w="1079640"/>
                <a:gridCol w="1081080"/>
                <a:gridCol w="1008000"/>
                <a:gridCol w="11192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年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2"/>
          <p:cNvSpPr/>
          <p:nvPr/>
        </p:nvSpPr>
        <p:spPr>
          <a:xfrm>
            <a:off x="0" y="3141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这个变化过程中，哪些量是变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3716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你能描述这两个变量之间的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468360" y="4365720"/>
            <a:ext cx="8496360" cy="21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变化过程中，有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随着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确定时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随着确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取定一个值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也有一个值和它对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228600" y="15228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7"/>
          <p:cNvSpPr/>
          <p:nvPr/>
        </p:nvSpPr>
        <p:spPr>
          <a:xfrm>
            <a:off x="684360" y="5229360"/>
            <a:ext cx="8929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请你仿照问题一描述图中气温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）和时间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）的关系</a:t>
            </a:r>
            <a:r>
              <a:rPr b="0" lang="en-US" sz="2300" spc="-1" strike="noStrike">
                <a:solidFill>
                  <a:srgbClr val="001413"/>
                </a:solidFill>
                <a:latin typeface="黑体"/>
                <a:ea typeface="黑体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920000" cy="4579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0"/>
          <p:cNvSpPr/>
          <p:nvPr/>
        </p:nvSpPr>
        <p:spPr>
          <a:xfrm>
            <a:off x="2050920" y="69228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30e96"/>
                </a:solidFill>
                <a:latin typeface="Arial"/>
                <a:ea typeface="黑体"/>
              </a:rPr>
              <a:t>气象站测得南京某日气温变化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995720" y="2149200"/>
            <a:ext cx="0" cy="1655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16000" y="2157480"/>
            <a:ext cx="38876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357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764480" y="383688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091880" y="439740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32000" y="2997360"/>
            <a:ext cx="64764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79640" y="2997360"/>
            <a:ext cx="504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06800" y="3849840"/>
            <a:ext cx="0" cy="288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115640" y="4116240"/>
            <a:ext cx="10796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2997360"/>
            <a:ext cx="574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3284640"/>
            <a:ext cx="2232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321000" y="3295800"/>
            <a:ext cx="0" cy="504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2997360"/>
            <a:ext cx="574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879720" y="2985840"/>
            <a:ext cx="0" cy="863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16000" y="2990880"/>
            <a:ext cx="2735280" cy="6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2708280"/>
            <a:ext cx="50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40360" y="2708280"/>
            <a:ext cx="57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27640" y="2431800"/>
            <a:ext cx="11160" cy="1368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116000" y="2420640"/>
            <a:ext cx="3311640" cy="11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16360" y="2708280"/>
            <a:ext cx="5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92720" y="2700360"/>
            <a:ext cx="5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541840" y="2420640"/>
            <a:ext cx="0" cy="1390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2436840"/>
            <a:ext cx="4392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107040" y="2997360"/>
            <a:ext cx="0" cy="814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6000" y="2997360"/>
            <a:ext cx="4968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96000" y="2708280"/>
            <a:ext cx="5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2708280"/>
            <a:ext cx="5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468360" y="4508640"/>
            <a:ext cx="8496360" cy="21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变化过程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随着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确定时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随着确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取定一个值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也有一个值和它对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659640" y="3573360"/>
            <a:ext cx="0" cy="238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16000" y="3557520"/>
            <a:ext cx="554364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72360" y="2781360"/>
            <a:ext cx="576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59600" y="33735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48360" y="2997360"/>
            <a:ext cx="576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2997360"/>
            <a:ext cx="576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4389480"/>
            <a:ext cx="6624720" cy="9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157320" y="8424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52760" y="3838680"/>
            <a:ext cx="0" cy="576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7720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4357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00200" y="765720"/>
            <a:ext cx="1617480" cy="1020960"/>
            <a:chOff x="700200" y="765720"/>
            <a:chExt cx="1617480" cy="1020960"/>
          </a:xfrm>
        </p:grpSpPr>
        <p:grpSp>
          <p:nvGrpSpPr>
            <p:cNvPr id="332" name=""/>
            <p:cNvGrpSpPr/>
            <p:nvPr/>
          </p:nvGrpSpPr>
          <p:grpSpPr>
            <a:xfrm>
              <a:off x="1276560" y="765720"/>
              <a:ext cx="515880" cy="261000"/>
              <a:chOff x="1276560" y="765720"/>
              <a:chExt cx="515880" cy="261000"/>
            </a:xfrm>
          </p:grpSpPr>
          <p:sp>
            <p:nvSpPr>
              <p:cNvPr id="333" name="Line 10"/>
              <p:cNvSpPr/>
              <p:nvPr/>
            </p:nvSpPr>
            <p:spPr>
              <a:xfrm>
                <a:off x="1276560" y="76572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 flipV="1" rot="1515000">
                <a:off x="1698840" y="952560"/>
                <a:ext cx="84600" cy="5868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801800" y="1040400"/>
              <a:ext cx="515880" cy="261000"/>
              <a:chOff x="1801800" y="1040400"/>
              <a:chExt cx="515880" cy="261000"/>
            </a:xfrm>
          </p:grpSpPr>
          <p:sp>
            <p:nvSpPr>
              <p:cNvPr id="336" name="Line 13"/>
              <p:cNvSpPr/>
              <p:nvPr/>
            </p:nvSpPr>
            <p:spPr>
              <a:xfrm>
                <a:off x="1801800" y="104040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 flipV="1" rot="1515000">
                <a:off x="2224080" y="1227240"/>
                <a:ext cx="84600" cy="5868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1225800" y="1040400"/>
              <a:ext cx="515520" cy="261000"/>
              <a:chOff x="1225800" y="1040400"/>
              <a:chExt cx="515520" cy="261000"/>
            </a:xfrm>
          </p:grpSpPr>
          <p:sp>
            <p:nvSpPr>
              <p:cNvPr id="339" name="Line 16"/>
              <p:cNvSpPr/>
              <p:nvPr/>
            </p:nvSpPr>
            <p:spPr>
              <a:xfrm flipH="1">
                <a:off x="1316520" y="104040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 flipH="1" flipV="1" rot="20085000">
                <a:off x="1234080" y="1226520"/>
                <a:ext cx="84600" cy="5904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225440" y="1295280"/>
              <a:ext cx="515880" cy="261360"/>
              <a:chOff x="1225440" y="1295280"/>
              <a:chExt cx="515880" cy="261360"/>
            </a:xfrm>
          </p:grpSpPr>
          <p:sp>
            <p:nvSpPr>
              <p:cNvPr id="342" name="Line 19"/>
              <p:cNvSpPr/>
              <p:nvPr/>
            </p:nvSpPr>
            <p:spPr>
              <a:xfrm flipH="1" flipV="1">
                <a:off x="1316520" y="135648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 flipH="1" rot="1515000">
                <a:off x="1233360" y="1310400"/>
                <a:ext cx="84600" cy="5940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1262160" y="1525680"/>
              <a:ext cx="515520" cy="261000"/>
              <a:chOff x="1262160" y="1525680"/>
              <a:chExt cx="515520" cy="261000"/>
            </a:xfrm>
          </p:grpSpPr>
          <p:sp>
            <p:nvSpPr>
              <p:cNvPr id="345" name="Line 22"/>
              <p:cNvSpPr/>
              <p:nvPr/>
            </p:nvSpPr>
            <p:spPr>
              <a:xfrm flipV="1">
                <a:off x="1262160" y="158652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 rot="20085000">
                <a:off x="1684440" y="1540800"/>
                <a:ext cx="84600" cy="5904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795680" y="1295280"/>
              <a:ext cx="515880" cy="261360"/>
              <a:chOff x="1795680" y="1295280"/>
              <a:chExt cx="515880" cy="261360"/>
            </a:xfrm>
          </p:grpSpPr>
          <p:sp>
            <p:nvSpPr>
              <p:cNvPr id="348" name="Line 25"/>
              <p:cNvSpPr/>
              <p:nvPr/>
            </p:nvSpPr>
            <p:spPr>
              <a:xfrm flipV="1">
                <a:off x="1795680" y="135648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 rot="20085000">
                <a:off x="2217960" y="1310400"/>
                <a:ext cx="84600" cy="5940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00200" y="1038960"/>
              <a:ext cx="515880" cy="261360"/>
              <a:chOff x="700200" y="1038960"/>
              <a:chExt cx="515880" cy="261360"/>
            </a:xfrm>
          </p:grpSpPr>
          <p:sp>
            <p:nvSpPr>
              <p:cNvPr id="351" name="Line 28"/>
              <p:cNvSpPr/>
              <p:nvPr/>
            </p:nvSpPr>
            <p:spPr>
              <a:xfrm>
                <a:off x="700200" y="103896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29"/>
              <p:cNvSpPr/>
              <p:nvPr/>
            </p:nvSpPr>
            <p:spPr>
              <a:xfrm flipV="1" rot="1515000">
                <a:off x="1122480" y="1225440"/>
                <a:ext cx="84600" cy="5904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00200" y="1295280"/>
              <a:ext cx="515880" cy="261360"/>
              <a:chOff x="700200" y="1295280"/>
              <a:chExt cx="515880" cy="261360"/>
            </a:xfrm>
          </p:grpSpPr>
          <p:sp>
            <p:nvSpPr>
              <p:cNvPr id="354" name="Line 31"/>
              <p:cNvSpPr/>
              <p:nvPr/>
            </p:nvSpPr>
            <p:spPr>
              <a:xfrm flipV="1">
                <a:off x="700200" y="135648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32"/>
              <p:cNvSpPr/>
              <p:nvPr/>
            </p:nvSpPr>
            <p:spPr>
              <a:xfrm rot="20085000">
                <a:off x="1122480" y="1310400"/>
                <a:ext cx="84600" cy="5940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700200" y="1989720"/>
            <a:ext cx="2682720" cy="1020960"/>
            <a:chOff x="700200" y="1989720"/>
            <a:chExt cx="2682720" cy="1020960"/>
          </a:xfrm>
        </p:grpSpPr>
        <p:grpSp>
          <p:nvGrpSpPr>
            <p:cNvPr id="357" name=""/>
            <p:cNvGrpSpPr/>
            <p:nvPr/>
          </p:nvGrpSpPr>
          <p:grpSpPr>
            <a:xfrm>
              <a:off x="2290680" y="1989720"/>
              <a:ext cx="1092240" cy="1020960"/>
              <a:chOff x="2290680" y="1989720"/>
              <a:chExt cx="1092240" cy="10209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341800" y="1989720"/>
                <a:ext cx="515880" cy="261000"/>
                <a:chOff x="2341800" y="1989720"/>
                <a:chExt cx="515880" cy="261000"/>
              </a:xfrm>
            </p:grpSpPr>
            <p:sp>
              <p:nvSpPr>
                <p:cNvPr id="359" name="Line 36"/>
                <p:cNvSpPr/>
                <p:nvPr/>
              </p:nvSpPr>
              <p:spPr>
                <a:xfrm>
                  <a:off x="2341800" y="19897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37"/>
                <p:cNvSpPr/>
                <p:nvPr/>
              </p:nvSpPr>
              <p:spPr>
                <a:xfrm flipV="1" rot="1515000">
                  <a:off x="2764080" y="217656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867040" y="2264400"/>
                <a:ext cx="515880" cy="261000"/>
                <a:chOff x="2867040" y="2264400"/>
                <a:chExt cx="515880" cy="261000"/>
              </a:xfrm>
            </p:grpSpPr>
            <p:sp>
              <p:nvSpPr>
                <p:cNvPr id="362" name="Line 39"/>
                <p:cNvSpPr/>
                <p:nvPr/>
              </p:nvSpPr>
              <p:spPr>
                <a:xfrm>
                  <a:off x="2867040" y="2264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40"/>
                <p:cNvSpPr/>
                <p:nvPr/>
              </p:nvSpPr>
              <p:spPr>
                <a:xfrm flipV="1" rot="1515000">
                  <a:off x="3289320" y="245124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291040" y="2264400"/>
                <a:ext cx="515520" cy="261000"/>
                <a:chOff x="2291040" y="2264400"/>
                <a:chExt cx="515520" cy="261000"/>
              </a:xfrm>
            </p:grpSpPr>
            <p:sp>
              <p:nvSpPr>
                <p:cNvPr id="365" name="Line 42"/>
                <p:cNvSpPr/>
                <p:nvPr/>
              </p:nvSpPr>
              <p:spPr>
                <a:xfrm flipH="1">
                  <a:off x="2381760" y="2264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43"/>
                <p:cNvSpPr/>
                <p:nvPr/>
              </p:nvSpPr>
              <p:spPr>
                <a:xfrm flipH="1" flipV="1" rot="20085000">
                  <a:off x="2299320" y="245052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290680" y="2519280"/>
                <a:ext cx="515880" cy="261360"/>
                <a:chOff x="2290680" y="2519280"/>
                <a:chExt cx="515880" cy="261360"/>
              </a:xfrm>
            </p:grpSpPr>
            <p:sp>
              <p:nvSpPr>
                <p:cNvPr id="368" name="Line 45"/>
                <p:cNvSpPr/>
                <p:nvPr/>
              </p:nvSpPr>
              <p:spPr>
                <a:xfrm flipH="1" flipV="1">
                  <a:off x="2381760" y="2580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46"/>
                <p:cNvSpPr/>
                <p:nvPr/>
              </p:nvSpPr>
              <p:spPr>
                <a:xfrm flipH="1" rot="1515000">
                  <a:off x="2298600" y="2534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327400" y="2749680"/>
                <a:ext cx="515520" cy="261000"/>
                <a:chOff x="2327400" y="2749680"/>
                <a:chExt cx="515520" cy="261000"/>
              </a:xfrm>
            </p:grpSpPr>
            <p:sp>
              <p:nvSpPr>
                <p:cNvPr id="371" name="Line 48"/>
                <p:cNvSpPr/>
                <p:nvPr/>
              </p:nvSpPr>
              <p:spPr>
                <a:xfrm flipV="1">
                  <a:off x="2327400" y="28105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49"/>
                <p:cNvSpPr/>
                <p:nvPr/>
              </p:nvSpPr>
              <p:spPr>
                <a:xfrm rot="20085000">
                  <a:off x="2749680" y="276480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860920" y="2519280"/>
                <a:ext cx="515880" cy="261360"/>
                <a:chOff x="2860920" y="2519280"/>
                <a:chExt cx="515880" cy="261360"/>
              </a:xfrm>
            </p:grpSpPr>
            <p:sp>
              <p:nvSpPr>
                <p:cNvPr id="374" name="Line 51"/>
                <p:cNvSpPr/>
                <p:nvPr/>
              </p:nvSpPr>
              <p:spPr>
                <a:xfrm flipV="1">
                  <a:off x="2860920" y="2580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52"/>
                <p:cNvSpPr/>
                <p:nvPr/>
              </p:nvSpPr>
              <p:spPr>
                <a:xfrm rot="20085000">
                  <a:off x="3283200" y="2534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700200" y="1989720"/>
              <a:ext cx="1617480" cy="1020960"/>
              <a:chOff x="700200" y="1989720"/>
              <a:chExt cx="1617480" cy="102096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1276560" y="1989720"/>
                <a:ext cx="515880" cy="261000"/>
                <a:chOff x="1276560" y="1989720"/>
                <a:chExt cx="515880" cy="261000"/>
              </a:xfrm>
            </p:grpSpPr>
            <p:sp>
              <p:nvSpPr>
                <p:cNvPr id="378" name="Line 55"/>
                <p:cNvSpPr/>
                <p:nvPr/>
              </p:nvSpPr>
              <p:spPr>
                <a:xfrm>
                  <a:off x="1276560" y="19897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56"/>
                <p:cNvSpPr/>
                <p:nvPr/>
              </p:nvSpPr>
              <p:spPr>
                <a:xfrm flipV="1" rot="1515000">
                  <a:off x="1698840" y="217656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801800" y="2264400"/>
                <a:ext cx="515880" cy="261000"/>
                <a:chOff x="1801800" y="2264400"/>
                <a:chExt cx="515880" cy="261000"/>
              </a:xfrm>
            </p:grpSpPr>
            <p:sp>
              <p:nvSpPr>
                <p:cNvPr id="381" name="Line 58"/>
                <p:cNvSpPr/>
                <p:nvPr/>
              </p:nvSpPr>
              <p:spPr>
                <a:xfrm>
                  <a:off x="1801800" y="2264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59"/>
                <p:cNvSpPr/>
                <p:nvPr/>
              </p:nvSpPr>
              <p:spPr>
                <a:xfrm flipV="1" rot="1515000">
                  <a:off x="2224080" y="245124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1225800" y="2264400"/>
                <a:ext cx="515520" cy="261000"/>
                <a:chOff x="1225800" y="2264400"/>
                <a:chExt cx="515520" cy="261000"/>
              </a:xfrm>
            </p:grpSpPr>
            <p:sp>
              <p:nvSpPr>
                <p:cNvPr id="384" name="Line 61"/>
                <p:cNvSpPr/>
                <p:nvPr/>
              </p:nvSpPr>
              <p:spPr>
                <a:xfrm flipH="1">
                  <a:off x="1316520" y="2264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62"/>
                <p:cNvSpPr/>
                <p:nvPr/>
              </p:nvSpPr>
              <p:spPr>
                <a:xfrm flipH="1" flipV="1" rot="20085000">
                  <a:off x="1234080" y="245052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225440" y="2519280"/>
                <a:ext cx="515880" cy="261360"/>
                <a:chOff x="1225440" y="2519280"/>
                <a:chExt cx="515880" cy="261360"/>
              </a:xfrm>
            </p:grpSpPr>
            <p:sp>
              <p:nvSpPr>
                <p:cNvPr id="387" name="Line 64"/>
                <p:cNvSpPr/>
                <p:nvPr/>
              </p:nvSpPr>
              <p:spPr>
                <a:xfrm flipH="1" flipV="1">
                  <a:off x="1316520" y="2580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65"/>
                <p:cNvSpPr/>
                <p:nvPr/>
              </p:nvSpPr>
              <p:spPr>
                <a:xfrm flipH="1" rot="1515000">
                  <a:off x="1233360" y="2534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262160" y="2749680"/>
                <a:ext cx="515520" cy="261000"/>
                <a:chOff x="1262160" y="2749680"/>
                <a:chExt cx="515520" cy="261000"/>
              </a:xfrm>
            </p:grpSpPr>
            <p:sp>
              <p:nvSpPr>
                <p:cNvPr id="390" name="Line 67"/>
                <p:cNvSpPr/>
                <p:nvPr/>
              </p:nvSpPr>
              <p:spPr>
                <a:xfrm flipV="1">
                  <a:off x="1262160" y="28105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68"/>
                <p:cNvSpPr/>
                <p:nvPr/>
              </p:nvSpPr>
              <p:spPr>
                <a:xfrm rot="20085000">
                  <a:off x="1684440" y="276480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1795680" y="2519280"/>
                <a:ext cx="515880" cy="261360"/>
                <a:chOff x="1795680" y="2519280"/>
                <a:chExt cx="515880" cy="261360"/>
              </a:xfrm>
            </p:grpSpPr>
            <p:sp>
              <p:nvSpPr>
                <p:cNvPr id="393" name="Line 70"/>
                <p:cNvSpPr/>
                <p:nvPr/>
              </p:nvSpPr>
              <p:spPr>
                <a:xfrm flipV="1">
                  <a:off x="1795680" y="2580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71"/>
                <p:cNvSpPr/>
                <p:nvPr/>
              </p:nvSpPr>
              <p:spPr>
                <a:xfrm rot="20085000">
                  <a:off x="2217960" y="2534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00200" y="2262960"/>
                <a:ext cx="515880" cy="261360"/>
                <a:chOff x="700200" y="2262960"/>
                <a:chExt cx="515880" cy="261360"/>
              </a:xfrm>
            </p:grpSpPr>
            <p:sp>
              <p:nvSpPr>
                <p:cNvPr id="396" name="Line 73"/>
                <p:cNvSpPr/>
                <p:nvPr/>
              </p:nvSpPr>
              <p:spPr>
                <a:xfrm>
                  <a:off x="700200" y="226296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74"/>
                <p:cNvSpPr/>
                <p:nvPr/>
              </p:nvSpPr>
              <p:spPr>
                <a:xfrm flipV="1" rot="1515000">
                  <a:off x="1122480" y="244944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00200" y="2519280"/>
                <a:ext cx="515880" cy="261360"/>
                <a:chOff x="700200" y="2519280"/>
                <a:chExt cx="515880" cy="261360"/>
              </a:xfrm>
            </p:grpSpPr>
            <p:sp>
              <p:nvSpPr>
                <p:cNvPr id="399" name="Line 76"/>
                <p:cNvSpPr/>
                <p:nvPr/>
              </p:nvSpPr>
              <p:spPr>
                <a:xfrm flipV="1">
                  <a:off x="700200" y="2580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77"/>
                <p:cNvSpPr/>
                <p:nvPr/>
              </p:nvSpPr>
              <p:spPr>
                <a:xfrm rot="20085000">
                  <a:off x="1122480" y="2534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1" name=""/>
          <p:cNvGrpSpPr/>
          <p:nvPr/>
        </p:nvGrpSpPr>
        <p:grpSpPr>
          <a:xfrm>
            <a:off x="700200" y="3213720"/>
            <a:ext cx="3763800" cy="1020960"/>
            <a:chOff x="700200" y="3213720"/>
            <a:chExt cx="3763800" cy="1020960"/>
          </a:xfrm>
        </p:grpSpPr>
        <p:grpSp>
          <p:nvGrpSpPr>
            <p:cNvPr id="402" name=""/>
            <p:cNvGrpSpPr/>
            <p:nvPr/>
          </p:nvGrpSpPr>
          <p:grpSpPr>
            <a:xfrm>
              <a:off x="700200" y="3213720"/>
              <a:ext cx="1617480" cy="1020960"/>
              <a:chOff x="700200" y="3213720"/>
              <a:chExt cx="1617480" cy="10209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276560" y="3213720"/>
                <a:ext cx="515880" cy="261000"/>
                <a:chOff x="1276560" y="3213720"/>
                <a:chExt cx="515880" cy="261000"/>
              </a:xfrm>
            </p:grpSpPr>
            <p:sp>
              <p:nvSpPr>
                <p:cNvPr id="404" name="Line 81"/>
                <p:cNvSpPr/>
                <p:nvPr/>
              </p:nvSpPr>
              <p:spPr>
                <a:xfrm>
                  <a:off x="1276560" y="32137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82"/>
                <p:cNvSpPr/>
                <p:nvPr/>
              </p:nvSpPr>
              <p:spPr>
                <a:xfrm flipV="1" rot="1515000">
                  <a:off x="1698840" y="340056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801800" y="3488400"/>
                <a:ext cx="515880" cy="261000"/>
                <a:chOff x="1801800" y="3488400"/>
                <a:chExt cx="515880" cy="261000"/>
              </a:xfrm>
            </p:grpSpPr>
            <p:sp>
              <p:nvSpPr>
                <p:cNvPr id="407" name="Line 84"/>
                <p:cNvSpPr/>
                <p:nvPr/>
              </p:nvSpPr>
              <p:spPr>
                <a:xfrm>
                  <a:off x="180180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85"/>
                <p:cNvSpPr/>
                <p:nvPr/>
              </p:nvSpPr>
              <p:spPr>
                <a:xfrm flipV="1" rot="1515000">
                  <a:off x="2224080" y="367524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225800" y="3488400"/>
                <a:ext cx="515520" cy="261000"/>
                <a:chOff x="1225800" y="3488400"/>
                <a:chExt cx="515520" cy="261000"/>
              </a:xfrm>
            </p:grpSpPr>
            <p:sp>
              <p:nvSpPr>
                <p:cNvPr id="410" name="Line 87"/>
                <p:cNvSpPr/>
                <p:nvPr/>
              </p:nvSpPr>
              <p:spPr>
                <a:xfrm flipH="1">
                  <a:off x="131652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88"/>
                <p:cNvSpPr/>
                <p:nvPr/>
              </p:nvSpPr>
              <p:spPr>
                <a:xfrm flipH="1" flipV="1" rot="20085000">
                  <a:off x="1234080" y="367452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225440" y="3743280"/>
                <a:ext cx="515880" cy="261360"/>
                <a:chOff x="1225440" y="3743280"/>
                <a:chExt cx="515880" cy="261360"/>
              </a:xfrm>
            </p:grpSpPr>
            <p:sp>
              <p:nvSpPr>
                <p:cNvPr id="413" name="Line 90"/>
                <p:cNvSpPr/>
                <p:nvPr/>
              </p:nvSpPr>
              <p:spPr>
                <a:xfrm flipH="1" flipV="1">
                  <a:off x="131652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91"/>
                <p:cNvSpPr/>
                <p:nvPr/>
              </p:nvSpPr>
              <p:spPr>
                <a:xfrm flipH="1" rot="1515000">
                  <a:off x="123336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62160" y="3973680"/>
                <a:ext cx="515520" cy="261000"/>
                <a:chOff x="1262160" y="3973680"/>
                <a:chExt cx="515520" cy="261000"/>
              </a:xfrm>
            </p:grpSpPr>
            <p:sp>
              <p:nvSpPr>
                <p:cNvPr id="416" name="Line 93"/>
                <p:cNvSpPr/>
                <p:nvPr/>
              </p:nvSpPr>
              <p:spPr>
                <a:xfrm flipV="1">
                  <a:off x="1262160" y="40345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94"/>
                <p:cNvSpPr/>
                <p:nvPr/>
              </p:nvSpPr>
              <p:spPr>
                <a:xfrm rot="20085000">
                  <a:off x="1684440" y="398880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795680" y="3743280"/>
                <a:ext cx="515880" cy="261360"/>
                <a:chOff x="1795680" y="3743280"/>
                <a:chExt cx="515880" cy="261360"/>
              </a:xfrm>
            </p:grpSpPr>
            <p:sp>
              <p:nvSpPr>
                <p:cNvPr id="419" name="Line 96"/>
                <p:cNvSpPr/>
                <p:nvPr/>
              </p:nvSpPr>
              <p:spPr>
                <a:xfrm flipV="1">
                  <a:off x="179568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97"/>
                <p:cNvSpPr/>
                <p:nvPr/>
              </p:nvSpPr>
              <p:spPr>
                <a:xfrm rot="20085000">
                  <a:off x="221796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00200" y="3486960"/>
                <a:ext cx="515880" cy="261360"/>
                <a:chOff x="700200" y="3486960"/>
                <a:chExt cx="515880" cy="261360"/>
              </a:xfrm>
            </p:grpSpPr>
            <p:sp>
              <p:nvSpPr>
                <p:cNvPr id="422" name="Line 99"/>
                <p:cNvSpPr/>
                <p:nvPr/>
              </p:nvSpPr>
              <p:spPr>
                <a:xfrm>
                  <a:off x="700200" y="348696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100"/>
                <p:cNvSpPr/>
                <p:nvPr/>
              </p:nvSpPr>
              <p:spPr>
                <a:xfrm flipV="1" rot="1515000">
                  <a:off x="1122480" y="367344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700200" y="3743280"/>
                <a:ext cx="515880" cy="261360"/>
                <a:chOff x="700200" y="3743280"/>
                <a:chExt cx="515880" cy="261360"/>
              </a:xfrm>
            </p:grpSpPr>
            <p:sp>
              <p:nvSpPr>
                <p:cNvPr id="425" name="Line 102"/>
                <p:cNvSpPr/>
                <p:nvPr/>
              </p:nvSpPr>
              <p:spPr>
                <a:xfrm flipV="1">
                  <a:off x="70020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103"/>
                <p:cNvSpPr/>
                <p:nvPr/>
              </p:nvSpPr>
              <p:spPr>
                <a:xfrm rot="20085000">
                  <a:off x="112248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7" name=""/>
            <p:cNvGrpSpPr/>
            <p:nvPr/>
          </p:nvGrpSpPr>
          <p:grpSpPr>
            <a:xfrm>
              <a:off x="3371760" y="3213720"/>
              <a:ext cx="1092240" cy="1020960"/>
              <a:chOff x="3371760" y="3213720"/>
              <a:chExt cx="1092240" cy="10209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3422880" y="3213720"/>
                <a:ext cx="515880" cy="261000"/>
                <a:chOff x="3422880" y="3213720"/>
                <a:chExt cx="515880" cy="261000"/>
              </a:xfrm>
            </p:grpSpPr>
            <p:sp>
              <p:nvSpPr>
                <p:cNvPr id="429" name="Line 106"/>
                <p:cNvSpPr/>
                <p:nvPr/>
              </p:nvSpPr>
              <p:spPr>
                <a:xfrm>
                  <a:off x="3422880" y="32137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107"/>
                <p:cNvSpPr/>
                <p:nvPr/>
              </p:nvSpPr>
              <p:spPr>
                <a:xfrm flipV="1" rot="1515000">
                  <a:off x="3845160" y="340056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3948120" y="3488400"/>
                <a:ext cx="515880" cy="261000"/>
                <a:chOff x="3948120" y="3488400"/>
                <a:chExt cx="515880" cy="261000"/>
              </a:xfrm>
            </p:grpSpPr>
            <p:sp>
              <p:nvSpPr>
                <p:cNvPr id="432" name="Line 109"/>
                <p:cNvSpPr/>
                <p:nvPr/>
              </p:nvSpPr>
              <p:spPr>
                <a:xfrm>
                  <a:off x="394812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110"/>
                <p:cNvSpPr/>
                <p:nvPr/>
              </p:nvSpPr>
              <p:spPr>
                <a:xfrm flipV="1" rot="1515000">
                  <a:off x="4370400" y="367524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372120" y="3488400"/>
                <a:ext cx="515520" cy="261000"/>
                <a:chOff x="3372120" y="3488400"/>
                <a:chExt cx="515520" cy="261000"/>
              </a:xfrm>
            </p:grpSpPr>
            <p:sp>
              <p:nvSpPr>
                <p:cNvPr id="435" name="Line 112"/>
                <p:cNvSpPr/>
                <p:nvPr/>
              </p:nvSpPr>
              <p:spPr>
                <a:xfrm flipH="1">
                  <a:off x="346284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13"/>
                <p:cNvSpPr/>
                <p:nvPr/>
              </p:nvSpPr>
              <p:spPr>
                <a:xfrm flipH="1" flipV="1" rot="20085000">
                  <a:off x="3380400" y="367452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3371760" y="3743280"/>
                <a:ext cx="515880" cy="261360"/>
                <a:chOff x="3371760" y="3743280"/>
                <a:chExt cx="515880" cy="261360"/>
              </a:xfrm>
            </p:grpSpPr>
            <p:sp>
              <p:nvSpPr>
                <p:cNvPr id="438" name="Line 115"/>
                <p:cNvSpPr/>
                <p:nvPr/>
              </p:nvSpPr>
              <p:spPr>
                <a:xfrm flipH="1" flipV="1">
                  <a:off x="346284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116"/>
                <p:cNvSpPr/>
                <p:nvPr/>
              </p:nvSpPr>
              <p:spPr>
                <a:xfrm flipH="1" rot="1515000">
                  <a:off x="337968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408480" y="3973680"/>
                <a:ext cx="515520" cy="261000"/>
                <a:chOff x="3408480" y="3973680"/>
                <a:chExt cx="515520" cy="261000"/>
              </a:xfrm>
            </p:grpSpPr>
            <p:sp>
              <p:nvSpPr>
                <p:cNvPr id="441" name="Line 118"/>
                <p:cNvSpPr/>
                <p:nvPr/>
              </p:nvSpPr>
              <p:spPr>
                <a:xfrm flipV="1">
                  <a:off x="3408480" y="40345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119"/>
                <p:cNvSpPr/>
                <p:nvPr/>
              </p:nvSpPr>
              <p:spPr>
                <a:xfrm rot="20085000">
                  <a:off x="3830760" y="398880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942000" y="3743280"/>
                <a:ext cx="515880" cy="261360"/>
                <a:chOff x="3942000" y="3743280"/>
                <a:chExt cx="515880" cy="261360"/>
              </a:xfrm>
            </p:grpSpPr>
            <p:sp>
              <p:nvSpPr>
                <p:cNvPr id="444" name="Line 121"/>
                <p:cNvSpPr/>
                <p:nvPr/>
              </p:nvSpPr>
              <p:spPr>
                <a:xfrm flipV="1">
                  <a:off x="394200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122"/>
                <p:cNvSpPr/>
                <p:nvPr/>
              </p:nvSpPr>
              <p:spPr>
                <a:xfrm rot="20085000">
                  <a:off x="436428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6" name=""/>
            <p:cNvGrpSpPr/>
            <p:nvPr/>
          </p:nvGrpSpPr>
          <p:grpSpPr>
            <a:xfrm>
              <a:off x="2290680" y="3213720"/>
              <a:ext cx="1092240" cy="1020960"/>
              <a:chOff x="2290680" y="3213720"/>
              <a:chExt cx="1092240" cy="102096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2341800" y="3213720"/>
                <a:ext cx="515880" cy="261000"/>
                <a:chOff x="2341800" y="3213720"/>
                <a:chExt cx="515880" cy="261000"/>
              </a:xfrm>
            </p:grpSpPr>
            <p:sp>
              <p:nvSpPr>
                <p:cNvPr id="448" name="Line 125"/>
                <p:cNvSpPr/>
                <p:nvPr/>
              </p:nvSpPr>
              <p:spPr>
                <a:xfrm>
                  <a:off x="2341800" y="32137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126"/>
                <p:cNvSpPr/>
                <p:nvPr/>
              </p:nvSpPr>
              <p:spPr>
                <a:xfrm flipV="1" rot="1515000">
                  <a:off x="2764080" y="340056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2867040" y="3488400"/>
                <a:ext cx="515880" cy="261000"/>
                <a:chOff x="2867040" y="3488400"/>
                <a:chExt cx="515880" cy="261000"/>
              </a:xfrm>
            </p:grpSpPr>
            <p:sp>
              <p:nvSpPr>
                <p:cNvPr id="451" name="Line 128"/>
                <p:cNvSpPr/>
                <p:nvPr/>
              </p:nvSpPr>
              <p:spPr>
                <a:xfrm>
                  <a:off x="286704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129"/>
                <p:cNvSpPr/>
                <p:nvPr/>
              </p:nvSpPr>
              <p:spPr>
                <a:xfrm flipV="1" rot="1515000">
                  <a:off x="3289320" y="367524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2291040" y="3488400"/>
                <a:ext cx="515520" cy="261000"/>
                <a:chOff x="2291040" y="3488400"/>
                <a:chExt cx="515520" cy="261000"/>
              </a:xfrm>
            </p:grpSpPr>
            <p:sp>
              <p:nvSpPr>
                <p:cNvPr id="454" name="Line 131"/>
                <p:cNvSpPr/>
                <p:nvPr/>
              </p:nvSpPr>
              <p:spPr>
                <a:xfrm flipH="1">
                  <a:off x="238176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32"/>
                <p:cNvSpPr/>
                <p:nvPr/>
              </p:nvSpPr>
              <p:spPr>
                <a:xfrm flipH="1" flipV="1" rot="20085000">
                  <a:off x="2299320" y="367452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290680" y="3743280"/>
                <a:ext cx="515880" cy="261360"/>
                <a:chOff x="2290680" y="3743280"/>
                <a:chExt cx="515880" cy="261360"/>
              </a:xfrm>
            </p:grpSpPr>
            <p:sp>
              <p:nvSpPr>
                <p:cNvPr id="457" name="Line 134"/>
                <p:cNvSpPr/>
                <p:nvPr/>
              </p:nvSpPr>
              <p:spPr>
                <a:xfrm flipH="1" flipV="1">
                  <a:off x="238176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135"/>
                <p:cNvSpPr/>
                <p:nvPr/>
              </p:nvSpPr>
              <p:spPr>
                <a:xfrm flipH="1" rot="1515000">
                  <a:off x="229860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2327400" y="3973680"/>
                <a:ext cx="515520" cy="261000"/>
                <a:chOff x="2327400" y="3973680"/>
                <a:chExt cx="515520" cy="261000"/>
              </a:xfrm>
            </p:grpSpPr>
            <p:sp>
              <p:nvSpPr>
                <p:cNvPr id="460" name="Line 137"/>
                <p:cNvSpPr/>
                <p:nvPr/>
              </p:nvSpPr>
              <p:spPr>
                <a:xfrm flipV="1">
                  <a:off x="2327400" y="40345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138"/>
                <p:cNvSpPr/>
                <p:nvPr/>
              </p:nvSpPr>
              <p:spPr>
                <a:xfrm rot="20085000">
                  <a:off x="2749680" y="398880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860920" y="3743280"/>
                <a:ext cx="515880" cy="261360"/>
                <a:chOff x="2860920" y="3743280"/>
                <a:chExt cx="515880" cy="261360"/>
              </a:xfrm>
            </p:grpSpPr>
            <p:sp>
              <p:nvSpPr>
                <p:cNvPr id="463" name="Line 140"/>
                <p:cNvSpPr/>
                <p:nvPr/>
              </p:nvSpPr>
              <p:spPr>
                <a:xfrm flipV="1">
                  <a:off x="286092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141"/>
                <p:cNvSpPr/>
                <p:nvPr/>
              </p:nvSpPr>
              <p:spPr>
                <a:xfrm rot="20085000">
                  <a:off x="328320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5" name=""/>
          <p:cNvSpPr/>
          <p:nvPr/>
        </p:nvSpPr>
        <p:spPr>
          <a:xfrm>
            <a:off x="1116000" y="4005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4572000" y="1916280"/>
            <a:ext cx="705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描述这两个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4"/>
          <p:cNvSpPr/>
          <p:nvPr/>
        </p:nvSpPr>
        <p:spPr>
          <a:xfrm>
            <a:off x="539640" y="4437000"/>
            <a:ext cx="8280360" cy="21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变化过程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随着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确定时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随着确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取定一个值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也有一个值和它对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157320" y="8424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ShockwaveFlash1"/>
          <p:cNvGraphicFramePr/>
          <p:nvPr/>
        </p:nvGraphicFramePr>
        <p:xfrm>
          <a:off x="468360" y="1557360"/>
          <a:ext cx="2879640" cy="28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2879640" cy="288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324000" y="765000"/>
            <a:ext cx="860400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滴激起的波纹可以看成是一个不断向外扩展的圆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4"/>
          <p:cNvSpPr/>
          <p:nvPr/>
        </p:nvSpPr>
        <p:spPr>
          <a:xfrm>
            <a:off x="395280" y="4525920"/>
            <a:ext cx="8496360" cy="21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变化过程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随着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确定时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随着确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取定一个值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也有一个值和它对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157320" y="8424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284720" y="263700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获得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3:56:33Z</dcterms:created>
  <dc:creator>吕晓阳</dc:creator>
  <dc:description/>
  <cp:keywords/>
  <dc:language>en-US</dc:language>
  <cp:lastModifiedBy>user</cp:lastModifiedBy>
  <cp:lastPrinted>1899-12-30T00:00:00Z</cp:lastPrinted>
  <dcterms:modified xsi:type="dcterms:W3CDTF">2013-10-23T09:50:04Z</dcterms:modified>
  <cp:revision>8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