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C8A-8011-42FF-A7A8-FA6881AE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7F3-FCDB-44F3-8340-81EE89CF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EBF-9B53-45ED-B078-BE3D570D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F85-0822-4CD5-B1F4-037C402A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34E-CE3F-4A38-B1A0-E430B57A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3B6-0ADB-4E7D-A3BA-8FCEE2F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D89-270B-41F3-97C3-A69BE361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9AE-7FEA-4123-BA65-877EDB0C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B75-3DA5-4868-AB1A-6EB6B1E2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35C-E688-40C5-95D4-DBD7D80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8FB-375E-44E6-A81E-25132FF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A85-8192-45CB-A41B-4A612D6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FBB4-9EEA-42D3-9B0F-2AE47453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324000" y="2133720"/>
            <a:ext cx="936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11.3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　不等式的性质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576200" y="500040"/>
            <a:ext cx="12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七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143080" y="364320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宋体"/>
              </a:rPr>
              <a:t>作　者：周进荣（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无锡市蠡园中学</a:t>
            </a:r>
            <a:r>
              <a:rPr b="1" lang="zh-CN" sz="2400" spc="-1" strike="noStrike">
                <a:solidFill>
                  <a:srgbClr val="336600"/>
                </a:solidFill>
                <a:latin typeface="宋体"/>
              </a:rPr>
              <a:t>）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50872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981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下列不等式化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式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332000" y="2276640"/>
            <a:ext cx="4419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285840" y="1428840"/>
            <a:ext cx="803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将不等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的两边都除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你认为对吗？如果不对，错在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36360" y="771480"/>
            <a:ext cx="38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</a:rPr>
              <a:t>拓展延伸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60360" y="26485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你能把不等式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变形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＜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79280" y="3557520"/>
            <a:ext cx="873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若不等式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的解集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则满足条件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的范围是（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＞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＜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2小结与思考 copy"/>
          <p:cNvPicPr/>
          <p:nvPr/>
        </p:nvPicPr>
        <p:blipFill>
          <a:blip r:embed="rId1"/>
          <a:stretch/>
        </p:blipFill>
        <p:spPr>
          <a:xfrm>
            <a:off x="250920" y="692280"/>
            <a:ext cx="2209680" cy="1331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826920" y="1557360"/>
            <a:ext cx="73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今天的学习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等式有那些性质？根据不等式的性质，我们可以把不等式化为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式，通常有哪些步骤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4360" y="126828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</a:rPr>
              <a:t>课后作业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补充习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性质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思考题（选做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个两位数，个位上的数字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十位上的数字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若把这个两位数的个位与十位数对调，得到的两位数大于原来的两位数，试比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．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WordArt 4" descr=""/>
          <p:cNvPicPr/>
          <p:nvPr/>
        </p:nvPicPr>
        <p:blipFill>
          <a:blip r:embed="rId1"/>
          <a:stretch/>
        </p:blipFill>
        <p:spPr>
          <a:xfrm>
            <a:off x="2627280" y="2712960"/>
            <a:ext cx="46213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297000" y="1986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中宋"/>
              </a:rPr>
              <a:t>你知道等式具有哪些性质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14400" y="126828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解方程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187280" y="59500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那么不等式具有哪些性质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3048120"/>
            <a:ext cx="82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等式两边加上或减去同一个数（或同一整式），所得结果仍是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04920" y="2514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等式的性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80880" y="4724280"/>
            <a:ext cx="82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等式两边都乘或除以同一个数（除数不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，所得结果仍是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28600" y="4221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等式的性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24000" y="6271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</a:rPr>
              <a:t>旧知回顾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张亮"/>
          <p:cNvPicPr/>
          <p:nvPr/>
        </p:nvPicPr>
        <p:blipFill>
          <a:blip r:embed="rId1"/>
          <a:stretch/>
        </p:blipFill>
        <p:spPr>
          <a:xfrm rot="12000">
            <a:off x="6443280" y="3068280"/>
            <a:ext cx="158436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张亮"/>
          <p:cNvPicPr/>
          <p:nvPr/>
        </p:nvPicPr>
        <p:blipFill>
          <a:blip r:embed="rId2"/>
          <a:stretch/>
        </p:blipFill>
        <p:spPr>
          <a:xfrm flipH="1" rot="21524400">
            <a:off x="899640" y="3645000"/>
            <a:ext cx="1436760" cy="216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226360" y="2997360"/>
            <a:ext cx="54612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哥哥，今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49280" y="2997360"/>
            <a:ext cx="5461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弟弟，今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556000" y="3068640"/>
            <a:ext cx="3456000" cy="1800360"/>
            <a:chOff x="2556000" y="3068640"/>
            <a:chExt cx="3456000" cy="1800360"/>
          </a:xfrm>
        </p:grpSpPr>
        <p:sp>
          <p:nvSpPr>
            <p:cNvPr id="60" name="AutoShape 12"/>
            <p:cNvSpPr/>
            <p:nvPr/>
          </p:nvSpPr>
          <p:spPr>
            <a:xfrm>
              <a:off x="2556000" y="3068640"/>
              <a:ext cx="3456000" cy="1800360"/>
            </a:xfrm>
            <a:prstGeom prst="wedgeRoundRectCallout">
              <a:avLst>
                <a:gd name="adj1" fmla="val -78203"/>
                <a:gd name="adj2" fmla="val 3201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"/>
            <p:cNvSpPr/>
            <p:nvPr/>
          </p:nvSpPr>
          <p:spPr>
            <a:xfrm>
              <a:off x="2843280" y="3416400"/>
              <a:ext cx="29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再过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，我比你大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6"/>
          <p:cNvSpPr/>
          <p:nvPr/>
        </p:nvSpPr>
        <p:spPr>
          <a:xfrm>
            <a:off x="2627280" y="620640"/>
            <a:ext cx="43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同意弟弟的说话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8"/>
          <p:cNvGrpSpPr/>
          <p:nvPr/>
        </p:nvGrpSpPr>
        <p:grpSpPr>
          <a:xfrm>
            <a:off x="2484360" y="3573360"/>
            <a:ext cx="3530520" cy="1584360"/>
            <a:chOff x="2484360" y="3573360"/>
            <a:chExt cx="3530520" cy="1584360"/>
          </a:xfrm>
        </p:grpSpPr>
        <p:sp>
          <p:nvSpPr>
            <p:cNvPr id="64" name="AutoShape 19"/>
            <p:cNvSpPr/>
            <p:nvPr/>
          </p:nvSpPr>
          <p:spPr>
            <a:xfrm>
              <a:off x="2484360" y="3573360"/>
              <a:ext cx="3530520" cy="1584360"/>
            </a:xfrm>
            <a:prstGeom prst="wedgeRoundRectCallout">
              <a:avLst>
                <a:gd name="adj1" fmla="val 80305"/>
                <a:gd name="adj2" fmla="val -725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0"/>
            <p:cNvSpPr/>
            <p:nvPr/>
          </p:nvSpPr>
          <p:spPr>
            <a:xfrm>
              <a:off x="2700360" y="3816360"/>
              <a:ext cx="31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不对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年前你比我大 ！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3"/>
          <p:cNvSpPr/>
          <p:nvPr/>
        </p:nvSpPr>
        <p:spPr>
          <a:xfrm>
            <a:off x="2340000" y="620640"/>
            <a:ext cx="43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同意哥哥的说话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2627280" y="1517760"/>
            <a:ext cx="431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若不同意，请从不等式的角度分析错的原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例如： 因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所以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2268360" y="1515960"/>
            <a:ext cx="4313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若不同意请从不等式的角度分析错误原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例如：因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&lt;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以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————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27120" y="836640"/>
            <a:ext cx="51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692360" y="1557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627280" y="198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476360" y="27813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通过上面的讨论，我们有什么发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归纳"/>
          <p:cNvPicPr/>
          <p:nvPr/>
        </p:nvPicPr>
        <p:blipFill>
          <a:blip r:embed="rId1"/>
          <a:stretch/>
        </p:blipFill>
        <p:spPr>
          <a:xfrm>
            <a:off x="100080" y="851040"/>
            <a:ext cx="1447560" cy="993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54120" y="1450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不等式的两边都加上（或减去）同一个数或同一个整式，不等号的方向不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47920" y="9079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不等式的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79280" y="400536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要得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需要把不等式两边都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根据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交流"/>
          <p:cNvPicPr/>
          <p:nvPr/>
        </p:nvPicPr>
        <p:blipFill>
          <a:blip r:embed="rId2"/>
          <a:stretch/>
        </p:blipFill>
        <p:spPr>
          <a:xfrm>
            <a:off x="76320" y="2320920"/>
            <a:ext cx="1066680" cy="574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1748520" y="44290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869360" y="4429080"/>
            <a:ext cx="19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不等式的性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50920" y="522936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根据不等式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左右两边同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可化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9280" y="299736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由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左右两边同时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可化为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462680" y="564372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042920" y="3425760"/>
            <a:ext cx="21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4634280" y="3497400"/>
            <a:ext cx="19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不等式的性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258920" y="98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将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两边分别乘同一个数，用不等号填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57120" y="150012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·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038480" y="1500120"/>
            <a:ext cx="5105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·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0" y="4984920"/>
            <a:ext cx="4267080" cy="1973160"/>
            <a:chOff x="0" y="4984920"/>
            <a:chExt cx="4267080" cy="1973160"/>
          </a:xfrm>
        </p:grpSpPr>
        <p:pic>
          <p:nvPicPr>
            <p:cNvPr id="92" name="Picture 6" descr="f卡4"/>
            <p:cNvPicPr/>
            <p:nvPr/>
          </p:nvPicPr>
          <p:blipFill>
            <a:blip r:embed="rId1"/>
            <a:stretch/>
          </p:blipFill>
          <p:spPr>
            <a:xfrm>
              <a:off x="0" y="4984920"/>
              <a:ext cx="426708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149760" y="5491080"/>
              <a:ext cx="366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不等号的方向不改变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4211640" y="4786200"/>
            <a:ext cx="4932000" cy="2209680"/>
            <a:chOff x="4211640" y="4786200"/>
            <a:chExt cx="4932000" cy="2209680"/>
          </a:xfrm>
        </p:grpSpPr>
        <p:pic>
          <p:nvPicPr>
            <p:cNvPr id="95" name="Picture 9" descr="f卡7"/>
            <p:cNvPicPr/>
            <p:nvPr/>
          </p:nvPicPr>
          <p:blipFill>
            <a:blip r:embed="rId2"/>
            <a:stretch/>
          </p:blipFill>
          <p:spPr>
            <a:xfrm>
              <a:off x="4211640" y="4786200"/>
              <a:ext cx="4932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/>
            <p:cNvSpPr/>
            <p:nvPr/>
          </p:nvSpPr>
          <p:spPr>
            <a:xfrm>
              <a:off x="4786200" y="5143320"/>
              <a:ext cx="37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不等号的方向改变了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1440360" y="1500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440360" y="2214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51164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440360" y="36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102720" y="155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102720" y="2316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102720" y="303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102720" y="3763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9" descr="操作"/>
          <p:cNvPicPr/>
          <p:nvPr/>
        </p:nvPicPr>
        <p:blipFill>
          <a:blip r:embed="rId3"/>
          <a:stretch/>
        </p:blipFill>
        <p:spPr>
          <a:xfrm>
            <a:off x="228600" y="72216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归纳"/>
          <p:cNvPicPr/>
          <p:nvPr/>
        </p:nvPicPr>
        <p:blipFill>
          <a:blip r:embed="rId1"/>
          <a:stretch/>
        </p:blipFill>
        <p:spPr>
          <a:xfrm>
            <a:off x="0" y="765000"/>
            <a:ext cx="1295280" cy="762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371600" y="833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不等式的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219320" y="1359000"/>
            <a:ext cx="69530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不等式的两边都乘（或除以）同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不等号的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不等式的两边都乘（或除以）同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不等号的方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改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86600" y="301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负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586600" y="1795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正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1交流"/>
          <p:cNvPicPr/>
          <p:nvPr/>
        </p:nvPicPr>
        <p:blipFill>
          <a:blip r:embed="rId2"/>
          <a:stretch/>
        </p:blipFill>
        <p:spPr>
          <a:xfrm>
            <a:off x="228600" y="3505320"/>
            <a:ext cx="1271520" cy="685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2057400" y="3581280"/>
            <a:ext cx="4952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；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___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2666880" y="5638680"/>
                <a:ext cx="62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4191120" y="5562720"/>
                <a:ext cx="633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11"/>
          <p:cNvSpPr/>
          <p:nvPr/>
        </p:nvSpPr>
        <p:spPr>
          <a:xfrm>
            <a:off x="3359520" y="4267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358812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3511800" y="571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28840" y="1125360"/>
            <a:ext cx="68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下列不等式化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形式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835280" y="2133720"/>
            <a:ext cx="40384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＜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-363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应用"/>
          <p:cNvPicPr/>
          <p:nvPr/>
        </p:nvPicPr>
        <p:blipFill>
          <a:blip r:embed="rId1"/>
          <a:stretch/>
        </p:blipFill>
        <p:spPr>
          <a:xfrm>
            <a:off x="0" y="663480"/>
            <a:ext cx="107640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61800" y="11811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号填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6720" y="169848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79440" y="357012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说出下列不等式变形的依据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15800" y="408132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得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得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由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＜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得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＜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71640" y="18900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不等式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wuliang</dc:creator>
  <dc:description/>
  <dc:language>en-US</dc:language>
  <cp:lastModifiedBy>Administrator</cp:lastModifiedBy>
  <dcterms:modified xsi:type="dcterms:W3CDTF">2013-01-07T07:51:00Z</dcterms:modified>
  <cp:revision>180</cp:revision>
  <dc:subject/>
  <dc:title>幻灯片 1</dc:title>
</cp:coreProperties>
</file>