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2.png" ContentType="image/png"/>
  <Override PartName="/ppt/media/image20.png" ContentType="image/png"/>
  <Override PartName="/ppt/media/image17.gif" ContentType="image/gif"/>
  <Override PartName="/ppt/media/image18.wmf" ContentType="image/x-wmf"/>
  <Override PartName="/ppt/media/image16.jpeg" ContentType="image/jpeg"/>
  <Override PartName="/ppt/media/image15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5.png" ContentType="image/png"/>
  <Override PartName="/ppt/media/image3.wmf" ContentType="image/x-wmf"/>
  <Override PartName="/ppt/media/image13.jpeg" ContentType="image/jpeg"/>
  <Override PartName="/ppt/media/image4.gif" ContentType="image/gi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8A0F-70FD-4104-B64C-FC07AEEE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F5BF-57B6-4C63-8B44-27773EC04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EE76-06AA-4CD2-9C21-AF9C3E17C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CF84-6909-42D9-A08C-A53D3B863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F1A3-5AAB-4AC6-9345-CBD80B4E0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8DEC-D722-4CB8-AFFD-8D2CDDA91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0793-2F18-4268-AEF3-70BD1B424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3544-C2B7-4888-A181-98AD7E403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9943-93B7-489B-A658-E4F64CBC3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7211-2375-4FE2-A064-776C5C71A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F03D-BD9F-4EE7-8A49-74F9F0EB0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998E-52AA-43AF-B636-F91B1DBD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2791-A6D0-48A7-86DA-055753673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B3A0-B095-46F6-A0F1-3B4445C7B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3040-2F18-4B63-BA6B-A6783FE9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C1C3-CCA8-4F53-8AD2-B56FB3EA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EB1D-9E4B-4E97-9629-BB670B7AF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C90-A3E6-40C4-AB6E-18010688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DFD-35DA-49D2-92EC-A60D332D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485AC-07A7-475B-B498-83B063BD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BA91E-98FC-4A05-9EEA-6A4988F6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A56A0-3D54-4B0E-AC05-53A95DE8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B9B3E-7E5F-4065-9412-0812A31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D028D-D588-471A-B2DB-1378CC4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A5D53-4B87-45E5-A901-0637C847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2C271-7308-4A20-B89B-401767A2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F7C0A-2B1F-49F0-A90C-EF76BC31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0CF71-9941-497B-9BDF-84D289DC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44E63-89E4-45F6-A7C7-10FD58BD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9D6-3F87-438E-A737-50C4D935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E1B5-B000-4FF9-9E27-08FB23AA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1689E-DA9B-44D3-9705-6FF0140D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4AD91-EADD-4C1B-AA50-8F4CB88B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35585-6C18-4E8C-9462-5F18DE73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02BD2-E9A8-4045-B9A5-54684555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03AA3-16D8-494B-8934-E22F7CA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D271B-5661-4444-A739-4D44542F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06CB3-2F31-41E5-AFB2-4495E224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8F2B5-986E-4478-90B1-EE8D240E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0B77C-21B0-40D4-BA61-233C9B14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953-207B-4AD3-8F1A-4A546F27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54650-4D4A-4DA5-9B49-6EE6E854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2B900-9C53-4F11-B25F-525FEAF2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4DC8F-BFD8-43D1-91DE-FF20FF9A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ACD06-BB79-4E5C-9E64-D6075E06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3341E-7A7B-474E-B521-1A6A560C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C8681-C401-4360-9F31-D1355BD0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D592D-F4CA-4104-96CC-9CE2F523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2C7A9-FF3B-4C72-9492-E66C632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44A0F-206A-4E43-8D9A-929B677B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4794B-0B35-473D-BC6E-EB083EB4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7545-ACD1-4F99-B3D6-F158144D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CE8BE-E56B-436E-98A2-10014F04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74A3-BF12-44EB-9B4A-EA4C4344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E1508-0E48-4476-8BFA-03B8D412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A3A95-0A4F-47B9-960A-B558F99F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AE843-D0D5-4A2C-85A9-E3F29CE7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6500C-DFDD-4620-AC0F-B10D4508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425AC-F2D9-45AF-A07C-AA24ABAC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2E999-90ED-4301-8974-8B98BEF1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A74AD-7640-4E88-8EAD-F56B87A3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E0114-E823-4C56-A433-A3395D77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C4F2-3B5D-4AE5-8EC6-A526B911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88315-F4F5-4101-AE88-6F4B3B0F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61326-8753-4FF4-A7D8-C733BA5D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C033B-E771-4844-AAE1-C006050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A1EA7-2C8D-4DC2-B41F-45853C54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D2734-450F-40ED-B344-7F8D67AA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F9E76-F4BB-4D73-8E9D-BB69076B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9E0CC-AA1A-42B7-96AF-AA334D9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D9B11-1DD3-452A-B5C3-F80C7146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78600-54B1-492A-ABD1-C56E6948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363CB-B367-4D2A-8769-493ADBAE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59E6-F212-4F03-9FA1-57E24243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329EB-E41B-4023-8516-8956CC48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73BD8-8E14-405D-88FE-696CA4B5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B1C75-1536-4C9D-907B-42E171CC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4E440-FC62-4656-A168-76C37D24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96D7B-A5D3-43E2-909D-E5D24162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6AD48-56F7-41CA-983E-BE135DC2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0B140-9261-4CE7-B151-F8E0403E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D7C2-42F0-410D-AA87-6E00C914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197F-2BE7-4CA4-B88C-81BB3397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9B77-3BFB-463A-BB30-C8DDC051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285C-E5ED-438E-9393-31F35A9D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628-6C67-4549-A814-0DC39EEC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0D78-D640-4048-8192-12DE9383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78A1-50D3-4A87-9CB6-35C59A6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8826-AE5F-4E49-84A3-C372A4EF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DCB7-1F54-4795-BC72-CA22D34F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3F5C-E60D-4236-B39A-413F1248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80C4-EFEE-4DF9-B90A-53F4E8BB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8B9E-7053-4152-BF99-5468D14B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A43A-4FB9-4D9B-B31E-858AB197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2B84-3CE1-4186-806E-6D82B44F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3F3A-E957-4F20-B25E-D1E8FA2A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A7C-18D3-4066-B8B7-A9F36B40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A047-98CB-4C46-8E29-5AD5CC75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9428-18E2-4EED-86CF-9D314BE8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5D23-613D-4275-AE1C-2FEBFE4B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C6AA-E29E-43CF-B331-E9EC05A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408C-EC05-4875-8C6B-981024E2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BF21-27FC-4F5A-9FB2-B5246B71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D557-EF0C-4AC3-8E09-BE2FC3BA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8065-716C-40A4-85EE-71D1D35A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B9B5-8014-43CB-AB05-A7CBD350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C4FD-CE59-4433-8FAB-D4BF58C9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A27-5C28-4EA8-AA8D-44659F4A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7653-F2D6-4C00-815C-7C7888C6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48FE-0CDE-43C1-B653-CFD66AC4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D815C-A269-4992-B20D-6662BC40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2DCA-B9EB-4B50-857C-C80413D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99994-526F-4D07-A4FE-BF4AF5D3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1DB66-BFCF-4753-BC3B-AA413FB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50A8-FC68-4645-98F0-FEEF078C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E5B5-CF25-431B-A4D1-D162229E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88BB-4765-4F47-A389-9448C718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A54F1-2EF8-4E2B-8A6E-C9186D25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770-507B-493F-838F-CBD6D3FC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A0C03-968C-48F9-9EAC-48A4470C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85429-8A50-4F84-8F15-8A9423E0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057FB-4B00-4E45-AC63-0210B784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5FF4E-460B-43CD-B531-75A86004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60F65-832E-49B9-94F1-93D74559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DE84-6986-4E16-B7EC-550DBA4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F1E6E-A4E9-4116-BBA2-CD7F671F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36F0-0BFF-490A-BEB6-0A4ACDF2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051B8-9872-4203-AF38-49A62F07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DF25-23D5-4A9B-9BC6-4E92383A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147-10CD-41C1-9F33-BBB3320E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52E0A-DD35-4101-8E21-7D49486B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66863-F197-4165-A074-05ACCDAB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550E8-C1DD-4EAD-8CE4-1288F383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AA75-95D3-438C-B4A4-F9721495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D3585-FAF3-45FF-91CC-70531998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497A-45C5-49FD-B6E4-7A26DE0E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0EEF1-EB4F-4A60-8B10-1856F7A7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AB69-A812-4571-8C9D-A1DE5D4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53BD-BB77-4628-9374-D4D22773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A5103-1630-4301-B3D0-ABC5BB16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749-870A-433B-B082-01FDB025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F9095-CB0B-4FBF-8266-403F45B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20CD-33D6-4C50-9BC6-FDAB7F7F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050B6-BA7B-4F20-BBED-C9FF5750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8E25-EECC-4147-BA0B-798C66C5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3763-6F91-4E9F-9B95-AD559125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D4E69-A777-4818-A751-4D6E570F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091D-BB24-4FDC-8903-917D4988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2282-60C8-449B-BED3-3D0D98E5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2F81-FC7F-4429-B702-1156C54D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49F15-26D3-4C37-BF61-30B7CA4E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004-EFEE-41EA-ADBB-D94176D8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DAA3B-F487-4548-94B6-329C4BDA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56A9A-5E8E-4688-BA69-7E790A4E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72AA4-4A07-47B6-83A7-5C810ED6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7E578-0098-4397-B2AF-B676CAD0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D99B5-C210-466C-A2FD-E3017A27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0D00-6729-46F0-8182-5DCE6EB2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72D5D-A336-4909-8DF3-4225FF1F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EF6BD-E942-47DE-ABCD-2DE26F56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8DFE-E5ED-4D64-8C00-5A37E05F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CB7E0-AC6C-43B1-8C9E-CE0094B2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A8C-CBFC-48F8-9DEB-ECCEEB7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D37DA-F253-4E92-9ED0-2128CAFC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E7739-F5E6-4E19-9720-F3569D70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617A-C3EA-406E-A7CC-E18B560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C3733-AAB9-4856-A19B-FC5C37DB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AFAAF-A064-44BB-B0BC-022A7B51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458AA-460B-4EBB-9F2C-15318324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76877-2128-4FB9-BF09-B9DE7F34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19B78-C710-484E-9611-D4C788D7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23B0D-011E-4739-89CD-2327680F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1096D-7EBD-4D68-A747-F7591541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2ED-0ED0-4474-9139-B1FA29E91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512-BA1B-45A7-B63B-3113FC5A6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B733-BC7E-4D71-A2C4-85F455FDC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0B3A-69F6-47B3-B799-5168763DA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BCA7-31EF-40EE-A848-7798D7916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0C9C-124F-4E31-B817-C45973D97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D4A4-3171-4539-8872-83556A4CB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4B27-A5E5-4016-8D6C-807EC909D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27AF-00A1-4F15-980C-0E9CEFA18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812E-2E16-4B08-A501-4C03E7861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34D0-C151-4FE0-9452-CB63DD1D4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790A-718E-432D-825C-5F29437E2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DF10-0EB9-466A-8B98-DBEB55DD6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gif"/><Relationship Id="rId3" Type="http://schemas.openxmlformats.org/officeDocument/2006/relationships/slide" Target="slide13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5.png"/><Relationship Id="rId3" Type="http://schemas.openxmlformats.org/officeDocument/2006/relationships/slide" Target="slide13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16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" Target="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gi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3"/>
          <p:cNvSpPr/>
          <p:nvPr/>
        </p:nvSpPr>
        <p:spPr>
          <a:xfrm>
            <a:off x="3170880" y="7398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mbria"/>
                <a:ea typeface="楷体_GB2312"/>
              </a:rPr>
              <a:t>初中数学七年级上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611280" y="2604960"/>
            <a:ext cx="7772400" cy="1111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4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合并同类项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SC0434_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56360" y="4292640"/>
            <a:ext cx="2808360" cy="2357280"/>
          </a:xfrm>
          <a:prstGeom prst="rect">
            <a:avLst/>
          </a:prstGeom>
          <a:ln w="0">
            <a:noFill/>
          </a:ln>
        </p:spPr>
      </p:pic>
      <p:grpSp>
        <p:nvGrpSpPr>
          <p:cNvPr id="859" name="Group 3"/>
          <p:cNvGrpSpPr/>
          <p:nvPr/>
        </p:nvGrpSpPr>
        <p:grpSpPr>
          <a:xfrm>
            <a:off x="3851280" y="41400"/>
            <a:ext cx="5760360" cy="581400"/>
            <a:chOff x="3851280" y="41400"/>
            <a:chExt cx="5760360" cy="581400"/>
          </a:xfrm>
        </p:grpSpPr>
        <p:sp>
          <p:nvSpPr>
            <p:cNvPr id="860" name="Rectangle 4"/>
            <p:cNvSpPr/>
            <p:nvPr/>
          </p:nvSpPr>
          <p:spPr>
            <a:xfrm>
              <a:off x="4138920" y="114480"/>
              <a:ext cx="4896360" cy="4834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4859280" y="41400"/>
              <a:ext cx="432000" cy="5439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3851280" y="41400"/>
              <a:ext cx="719640" cy="54396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Text Box 7"/>
            <p:cNvSpPr/>
            <p:nvPr/>
          </p:nvSpPr>
          <p:spPr>
            <a:xfrm>
              <a:off x="5147280" y="41400"/>
              <a:ext cx="44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变式训练，感悟方法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4" name="Group 8"/>
            <p:cNvGrpSpPr/>
            <p:nvPr/>
          </p:nvGrpSpPr>
          <p:grpSpPr>
            <a:xfrm>
              <a:off x="4283280" y="41400"/>
              <a:ext cx="576000" cy="543960"/>
              <a:chOff x="4283280" y="41400"/>
              <a:chExt cx="576000" cy="543960"/>
            </a:xfrm>
          </p:grpSpPr>
          <p:pic>
            <p:nvPicPr>
              <p:cNvPr id="865" name="Picture 9" descr="0"/>
              <p:cNvPicPr/>
              <p:nvPr/>
            </p:nvPicPr>
            <p:blipFill>
              <a:blip r:embed="rId2"/>
              <a:stretch/>
            </p:blipFill>
            <p:spPr>
              <a:xfrm>
                <a:off x="4283280" y="41400"/>
                <a:ext cx="576000" cy="54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Line 10"/>
              <p:cNvSpPr/>
              <p:nvPr/>
            </p:nvSpPr>
            <p:spPr>
              <a:xfrm>
                <a:off x="4355280" y="41400"/>
                <a:ext cx="50364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67" name="Text Box 11"/>
          <p:cNvSpPr/>
          <p:nvPr/>
        </p:nvSpPr>
        <p:spPr>
          <a:xfrm>
            <a:off x="250920" y="907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课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p7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页，“练一练”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题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）、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Text Box 12"/>
          <p:cNvSpPr/>
          <p:nvPr/>
        </p:nvSpPr>
        <p:spPr>
          <a:xfrm>
            <a:off x="250920" y="1844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合并同类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Object 13"/>
              <p:cNvSpPr txBox="1"/>
              <p:nvPr/>
            </p:nvSpPr>
            <p:spPr>
              <a:xfrm>
                <a:off x="395280" y="2924280"/>
                <a:ext cx="7596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3</m:t>
                    </m:r>
                    <m:r>
                      <m:t xml:space="preserve">）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14"/>
              <p:cNvSpPr txBox="1"/>
              <p:nvPr/>
            </p:nvSpPr>
            <p:spPr>
              <a:xfrm>
                <a:off x="395280" y="4005360"/>
                <a:ext cx="59040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4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1" name="Text Box 15"/>
          <p:cNvSpPr/>
          <p:nvPr/>
        </p:nvSpPr>
        <p:spPr>
          <a:xfrm>
            <a:off x="6335640" y="44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找、移、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2" name="Picture 16" descr="回首页 0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77000"/>
            <a:ext cx="846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Group 2"/>
          <p:cNvGrpSpPr/>
          <p:nvPr/>
        </p:nvGrpSpPr>
        <p:grpSpPr>
          <a:xfrm>
            <a:off x="2411280" y="4797360"/>
            <a:ext cx="6732720" cy="906480"/>
            <a:chOff x="2411280" y="4797360"/>
            <a:chExt cx="6732720" cy="906480"/>
          </a:xfrm>
        </p:grpSpPr>
        <p:sp>
          <p:nvSpPr>
            <p:cNvPr id="874" name="AutoShape 3"/>
            <p:cNvSpPr/>
            <p:nvPr/>
          </p:nvSpPr>
          <p:spPr>
            <a:xfrm>
              <a:off x="2411280" y="4797360"/>
              <a:ext cx="6732720" cy="906480"/>
            </a:xfrm>
            <a:prstGeom prst="irregularSeal1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6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Text Box 4"/>
            <p:cNvSpPr/>
            <p:nvPr/>
          </p:nvSpPr>
          <p:spPr>
            <a:xfrm>
              <a:off x="3568680" y="4941720"/>
              <a:ext cx="453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先合并同类项，后代入求值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6" name="Rectangle 5"/>
          <p:cNvSpPr/>
          <p:nvPr/>
        </p:nvSpPr>
        <p:spPr>
          <a:xfrm>
            <a:off x="4716360" y="58680"/>
            <a:ext cx="4345200" cy="5619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7" name="Group 6"/>
          <p:cNvGrpSpPr/>
          <p:nvPr/>
        </p:nvGrpSpPr>
        <p:grpSpPr>
          <a:xfrm>
            <a:off x="3635280" y="44280"/>
            <a:ext cx="5400720" cy="633600"/>
            <a:chOff x="3635280" y="44280"/>
            <a:chExt cx="5400720" cy="633600"/>
          </a:xfrm>
        </p:grpSpPr>
        <p:sp>
          <p:nvSpPr>
            <p:cNvPr id="878" name="未知"/>
            <p:cNvSpPr/>
            <p:nvPr/>
          </p:nvSpPr>
          <p:spPr>
            <a:xfrm>
              <a:off x="4746600" y="44280"/>
              <a:ext cx="382320" cy="633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Text Box 8"/>
            <p:cNvSpPr/>
            <p:nvPr/>
          </p:nvSpPr>
          <p:spPr>
            <a:xfrm>
              <a:off x="5002200" y="44280"/>
              <a:ext cx="40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拓展提高，应用方法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80" name="Group 9"/>
            <p:cNvGrpSpPr/>
            <p:nvPr/>
          </p:nvGrpSpPr>
          <p:grpSpPr>
            <a:xfrm>
              <a:off x="4235400" y="44280"/>
              <a:ext cx="511200" cy="633600"/>
              <a:chOff x="4235400" y="44280"/>
              <a:chExt cx="511200" cy="633600"/>
            </a:xfrm>
          </p:grpSpPr>
          <p:pic>
            <p:nvPicPr>
              <p:cNvPr id="881" name="Picture 10" descr="0"/>
              <p:cNvPicPr/>
              <p:nvPr/>
            </p:nvPicPr>
            <p:blipFill>
              <a:blip r:embed="rId1"/>
              <a:stretch/>
            </p:blipFill>
            <p:spPr>
              <a:xfrm>
                <a:off x="4235400" y="44280"/>
                <a:ext cx="51120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Line 11"/>
              <p:cNvSpPr/>
              <p:nvPr/>
            </p:nvSpPr>
            <p:spPr>
              <a:xfrm>
                <a:off x="4299120" y="44280"/>
                <a:ext cx="4471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83" name="未知"/>
            <p:cNvSpPr/>
            <p:nvPr/>
          </p:nvSpPr>
          <p:spPr>
            <a:xfrm>
              <a:off x="3635280" y="44280"/>
              <a:ext cx="639720" cy="63360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4" name="Object 13"/>
              <p:cNvSpPr txBox="1"/>
              <p:nvPr/>
            </p:nvSpPr>
            <p:spPr>
              <a:xfrm>
                <a:off x="1619280" y="214200"/>
                <a:ext cx="17287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6492600" y="271260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6" name="Object 15"/>
              <p:cNvSpPr txBox="1"/>
              <p:nvPr/>
            </p:nvSpPr>
            <p:spPr>
              <a:xfrm>
                <a:off x="539640" y="5386320"/>
                <a:ext cx="76136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时，原式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Text Box 16"/>
          <p:cNvSpPr/>
          <p:nvPr/>
        </p:nvSpPr>
        <p:spPr>
          <a:xfrm>
            <a:off x="324000" y="544680"/>
            <a:ext cx="15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知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Text Box 17"/>
          <p:cNvSpPr/>
          <p:nvPr/>
        </p:nvSpPr>
        <p:spPr>
          <a:xfrm>
            <a:off x="3276720" y="5493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求代数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Rectangle 18"/>
          <p:cNvSpPr/>
          <p:nvPr/>
        </p:nvSpPr>
        <p:spPr>
          <a:xfrm>
            <a:off x="7227360" y="1484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0" name="Group 19"/>
          <p:cNvGrpSpPr/>
          <p:nvPr/>
        </p:nvGrpSpPr>
        <p:grpSpPr>
          <a:xfrm>
            <a:off x="787320" y="2392200"/>
            <a:ext cx="7887960" cy="892440"/>
            <a:chOff x="787320" y="2392200"/>
            <a:chExt cx="7887960" cy="892440"/>
          </a:xfrm>
        </p:grpSpPr>
        <mc:AlternateContent>
          <mc:Choice xmlns:a14="http://schemas.microsoft.com/office/drawing/2010/main" Requires="a14">
            <p:sp>
              <p:nvSpPr>
                <p:cNvPr id="891" name="Object 20"/>
                <p:cNvSpPr txBox="1"/>
                <p:nvPr/>
              </p:nvSpPr>
              <p:spPr>
                <a:xfrm>
                  <a:off x="787320" y="2392200"/>
                  <a:ext cx="705564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2" name="Freeform 21"/>
            <p:cNvSpPr/>
            <p:nvPr/>
          </p:nvSpPr>
          <p:spPr>
            <a:xfrm>
              <a:off x="2444400" y="3132000"/>
              <a:ext cx="1171800" cy="152640"/>
            </a:xfrm>
            <a:custGeom>
              <a:avLst/>
              <a:gdLst>
                <a:gd name="textAreaLeft" fmla="*/ 0 w 1171800"/>
                <a:gd name="textAreaRight" fmla="*/ 1171800 w 1171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63" h="45">
                  <a:moveTo>
                    <a:pt x="0" y="0"/>
                  </a:moveTo>
                  <a:cubicBezTo>
                    <a:pt x="15" y="22"/>
                    <a:pt x="30" y="45"/>
                    <a:pt x="45" y="45"/>
                  </a:cubicBezTo>
                  <a:cubicBezTo>
                    <a:pt x="60" y="45"/>
                    <a:pt x="75" y="0"/>
                    <a:pt x="90" y="0"/>
                  </a:cubicBezTo>
                  <a:cubicBezTo>
                    <a:pt x="105" y="0"/>
                    <a:pt x="121" y="45"/>
                    <a:pt x="136" y="45"/>
                  </a:cubicBezTo>
                  <a:cubicBezTo>
                    <a:pt x="151" y="45"/>
                    <a:pt x="166" y="0"/>
                    <a:pt x="181" y="0"/>
                  </a:cubicBezTo>
                  <a:cubicBezTo>
                    <a:pt x="196" y="0"/>
                    <a:pt x="211" y="45"/>
                    <a:pt x="226" y="45"/>
                  </a:cubicBezTo>
                  <a:cubicBezTo>
                    <a:pt x="241" y="45"/>
                    <a:pt x="257" y="0"/>
                    <a:pt x="272" y="0"/>
                  </a:cubicBezTo>
                  <a:cubicBezTo>
                    <a:pt x="287" y="0"/>
                    <a:pt x="302" y="45"/>
                    <a:pt x="317" y="45"/>
                  </a:cubicBezTo>
                  <a:cubicBezTo>
                    <a:pt x="332" y="45"/>
                    <a:pt x="355" y="7"/>
                    <a:pt x="36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Line 22"/>
            <p:cNvSpPr/>
            <p:nvPr/>
          </p:nvSpPr>
          <p:spPr>
            <a:xfrm>
              <a:off x="1125360" y="3205080"/>
              <a:ext cx="1241640" cy="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Line 23"/>
            <p:cNvSpPr/>
            <p:nvPr/>
          </p:nvSpPr>
          <p:spPr>
            <a:xfrm>
              <a:off x="6185520" y="3205080"/>
              <a:ext cx="879480" cy="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Line 24"/>
            <p:cNvSpPr/>
            <p:nvPr/>
          </p:nvSpPr>
          <p:spPr>
            <a:xfrm>
              <a:off x="3691080" y="3205080"/>
              <a:ext cx="1173960" cy="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Freeform 25"/>
            <p:cNvSpPr/>
            <p:nvPr/>
          </p:nvSpPr>
          <p:spPr>
            <a:xfrm>
              <a:off x="5011920" y="3132000"/>
              <a:ext cx="1171800" cy="152640"/>
            </a:xfrm>
            <a:custGeom>
              <a:avLst/>
              <a:gdLst>
                <a:gd name="textAreaLeft" fmla="*/ 0 w 1171800"/>
                <a:gd name="textAreaRight" fmla="*/ 1171800 w 1171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63" h="45">
                  <a:moveTo>
                    <a:pt x="0" y="0"/>
                  </a:moveTo>
                  <a:cubicBezTo>
                    <a:pt x="15" y="22"/>
                    <a:pt x="30" y="45"/>
                    <a:pt x="45" y="45"/>
                  </a:cubicBezTo>
                  <a:cubicBezTo>
                    <a:pt x="60" y="45"/>
                    <a:pt x="75" y="0"/>
                    <a:pt x="90" y="0"/>
                  </a:cubicBezTo>
                  <a:cubicBezTo>
                    <a:pt x="105" y="0"/>
                    <a:pt x="121" y="45"/>
                    <a:pt x="136" y="45"/>
                  </a:cubicBezTo>
                  <a:cubicBezTo>
                    <a:pt x="151" y="45"/>
                    <a:pt x="166" y="0"/>
                    <a:pt x="181" y="0"/>
                  </a:cubicBezTo>
                  <a:cubicBezTo>
                    <a:pt x="196" y="0"/>
                    <a:pt x="211" y="45"/>
                    <a:pt x="226" y="45"/>
                  </a:cubicBezTo>
                  <a:cubicBezTo>
                    <a:pt x="241" y="45"/>
                    <a:pt x="257" y="0"/>
                    <a:pt x="272" y="0"/>
                  </a:cubicBezTo>
                  <a:cubicBezTo>
                    <a:pt x="287" y="0"/>
                    <a:pt x="302" y="45"/>
                    <a:pt x="317" y="45"/>
                  </a:cubicBezTo>
                  <a:cubicBezTo>
                    <a:pt x="332" y="45"/>
                    <a:pt x="355" y="7"/>
                    <a:pt x="36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Rectangle 26"/>
            <p:cNvSpPr/>
            <p:nvPr/>
          </p:nvSpPr>
          <p:spPr>
            <a:xfrm>
              <a:off x="7789680" y="2457360"/>
              <a:ext cx="88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找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8" name="Group 27"/>
          <p:cNvGrpSpPr/>
          <p:nvPr/>
        </p:nvGrpSpPr>
        <p:grpSpPr>
          <a:xfrm>
            <a:off x="539640" y="3297240"/>
            <a:ext cx="9577080" cy="720720"/>
            <a:chOff x="539640" y="3297240"/>
            <a:chExt cx="9577080" cy="720720"/>
          </a:xfrm>
        </p:grpSpPr>
        <mc:AlternateContent>
          <mc:Choice xmlns:a14="http://schemas.microsoft.com/office/drawing/2010/main" Requires="a14">
            <p:sp>
              <p:nvSpPr>
                <p:cNvPr id="899" name="Object 28"/>
                <p:cNvSpPr txBox="1"/>
                <p:nvPr/>
              </p:nvSpPr>
              <p:spPr>
                <a:xfrm>
                  <a:off x="539640" y="3297240"/>
                  <a:ext cx="603864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0" name="Rectangle 29"/>
            <p:cNvSpPr/>
            <p:nvPr/>
          </p:nvSpPr>
          <p:spPr>
            <a:xfrm>
              <a:off x="6588000" y="3297240"/>
              <a:ext cx="35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移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1" name="Group 30"/>
          <p:cNvGrpSpPr/>
          <p:nvPr/>
        </p:nvGrpSpPr>
        <p:grpSpPr>
          <a:xfrm>
            <a:off x="539640" y="4089240"/>
            <a:ext cx="6526080" cy="708120"/>
            <a:chOff x="539640" y="4089240"/>
            <a:chExt cx="6526080" cy="708120"/>
          </a:xfrm>
        </p:grpSpPr>
        <mc:AlternateContent>
          <mc:Choice xmlns:a14="http://schemas.microsoft.com/office/drawing/2010/main" Requires="a14">
            <p:sp>
              <p:nvSpPr>
                <p:cNvPr id="902" name="Object 31"/>
                <p:cNvSpPr txBox="1"/>
                <p:nvPr/>
              </p:nvSpPr>
              <p:spPr>
                <a:xfrm>
                  <a:off x="539640" y="4089240"/>
                  <a:ext cx="585828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3" name="Rectangle 32"/>
            <p:cNvSpPr/>
            <p:nvPr/>
          </p:nvSpPr>
          <p:spPr>
            <a:xfrm>
              <a:off x="6174360" y="4089240"/>
              <a:ext cx="89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并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4" name="Object 33"/>
              <p:cNvSpPr txBox="1"/>
              <p:nvPr/>
            </p:nvSpPr>
            <p:spPr>
              <a:xfrm>
                <a:off x="539640" y="4954680"/>
                <a:ext cx="15796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Text Box 34"/>
          <p:cNvSpPr/>
          <p:nvPr/>
        </p:nvSpPr>
        <p:spPr>
          <a:xfrm>
            <a:off x="-36360" y="24336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35"/>
              <p:cNvSpPr txBox="1"/>
              <p:nvPr/>
            </p:nvSpPr>
            <p:spPr>
              <a:xfrm>
                <a:off x="468360" y="1413000"/>
                <a:ext cx="619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7" name="Picture 36" descr="回首页 0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98000" y="5877000"/>
            <a:ext cx="846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4716360" y="58680"/>
            <a:ext cx="4345200" cy="5619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9" name="Picture 3" descr="SC0434_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859280" y="3157560"/>
            <a:ext cx="4176720" cy="3700440"/>
          </a:xfrm>
          <a:prstGeom prst="rect">
            <a:avLst/>
          </a:prstGeom>
          <a:ln w="0">
            <a:noFill/>
          </a:ln>
        </p:spPr>
      </p:pic>
      <p:grpSp>
        <p:nvGrpSpPr>
          <p:cNvPr id="910" name="Group 4"/>
          <p:cNvGrpSpPr/>
          <p:nvPr/>
        </p:nvGrpSpPr>
        <p:grpSpPr>
          <a:xfrm>
            <a:off x="5940360" y="3672000"/>
            <a:ext cx="1887480" cy="1174680"/>
            <a:chOff x="5940360" y="3672000"/>
            <a:chExt cx="1887480" cy="1174680"/>
          </a:xfrm>
        </p:grpSpPr>
        <p:sp>
          <p:nvSpPr>
            <p:cNvPr id="911" name="Text Box 5"/>
            <p:cNvSpPr/>
            <p:nvPr/>
          </p:nvSpPr>
          <p:spPr>
            <a:xfrm>
              <a:off x="5940360" y="36720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先合并同类项，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Rectangle 6"/>
            <p:cNvSpPr/>
            <p:nvPr/>
          </p:nvSpPr>
          <p:spPr>
            <a:xfrm>
              <a:off x="6522480" y="426528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再代入求值。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3" name="Text Box 7"/>
          <p:cNvSpPr/>
          <p:nvPr/>
        </p:nvSpPr>
        <p:spPr>
          <a:xfrm>
            <a:off x="34920" y="92700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求代数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4" name="Object 8"/>
              <p:cNvSpPr txBox="1"/>
              <p:nvPr/>
            </p:nvSpPr>
            <p:spPr>
              <a:xfrm>
                <a:off x="2195640" y="861840"/>
                <a:ext cx="6856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15" name="Text Box 9"/>
          <p:cNvSpPr/>
          <p:nvPr/>
        </p:nvSpPr>
        <p:spPr>
          <a:xfrm>
            <a:off x="538200" y="215100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值，其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Object 10"/>
              <p:cNvSpPr txBox="1"/>
              <p:nvPr/>
            </p:nvSpPr>
            <p:spPr>
              <a:xfrm>
                <a:off x="3165480" y="1844640"/>
                <a:ext cx="27748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7" name="Group 11"/>
          <p:cNvGrpSpPr/>
          <p:nvPr/>
        </p:nvGrpSpPr>
        <p:grpSpPr>
          <a:xfrm>
            <a:off x="3635280" y="58680"/>
            <a:ext cx="5400720" cy="633600"/>
            <a:chOff x="3635280" y="58680"/>
            <a:chExt cx="5400720" cy="633600"/>
          </a:xfrm>
        </p:grpSpPr>
        <p:sp>
          <p:nvSpPr>
            <p:cNvPr id="918" name="未知"/>
            <p:cNvSpPr/>
            <p:nvPr/>
          </p:nvSpPr>
          <p:spPr>
            <a:xfrm>
              <a:off x="4746600" y="58680"/>
              <a:ext cx="382320" cy="633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Text Box 13"/>
            <p:cNvSpPr/>
            <p:nvPr/>
          </p:nvSpPr>
          <p:spPr>
            <a:xfrm>
              <a:off x="5002200" y="58680"/>
              <a:ext cx="40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拓展提高，应用方法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0" name="Group 14"/>
            <p:cNvGrpSpPr/>
            <p:nvPr/>
          </p:nvGrpSpPr>
          <p:grpSpPr>
            <a:xfrm>
              <a:off x="4235400" y="58680"/>
              <a:ext cx="511200" cy="633600"/>
              <a:chOff x="4235400" y="58680"/>
              <a:chExt cx="511200" cy="633600"/>
            </a:xfrm>
          </p:grpSpPr>
          <p:pic>
            <p:nvPicPr>
              <p:cNvPr id="921" name="Picture 15" descr="0"/>
              <p:cNvPicPr/>
              <p:nvPr/>
            </p:nvPicPr>
            <p:blipFill>
              <a:blip r:embed="rId2"/>
              <a:stretch/>
            </p:blipFill>
            <p:spPr>
              <a:xfrm>
                <a:off x="4235400" y="58680"/>
                <a:ext cx="51120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2" name="Line 16"/>
              <p:cNvSpPr/>
              <p:nvPr/>
            </p:nvSpPr>
            <p:spPr>
              <a:xfrm>
                <a:off x="4299120" y="58680"/>
                <a:ext cx="4471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23" name="未知"/>
            <p:cNvSpPr/>
            <p:nvPr/>
          </p:nvSpPr>
          <p:spPr>
            <a:xfrm>
              <a:off x="3635280" y="58680"/>
              <a:ext cx="639720" cy="63360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2" descr="BAS004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3"/>
          <p:cNvSpPr/>
          <p:nvPr/>
        </p:nvSpPr>
        <p:spPr>
          <a:xfrm>
            <a:off x="1619280" y="765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畅所欲言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6" name="Picture 4" descr="1165A"/>
          <p:cNvPicPr/>
          <p:nvPr/>
        </p:nvPicPr>
        <p:blipFill>
          <a:blip r:embed="rId2"/>
          <a:stretch/>
        </p:blipFill>
        <p:spPr>
          <a:xfrm>
            <a:off x="179280" y="411120"/>
            <a:ext cx="1979640" cy="1649520"/>
          </a:xfrm>
          <a:prstGeom prst="rect">
            <a:avLst/>
          </a:prstGeom>
          <a:ln w="0">
            <a:noFill/>
          </a:ln>
        </p:spPr>
      </p:pic>
      <p:sp>
        <p:nvSpPr>
          <p:cNvPr id="927" name="AutoShape 5"/>
          <p:cNvSpPr/>
          <p:nvPr/>
        </p:nvSpPr>
        <p:spPr>
          <a:xfrm>
            <a:off x="576360" y="1989000"/>
            <a:ext cx="8172360" cy="1800360"/>
          </a:xfrm>
          <a:prstGeom prst="cloudCallout">
            <a:avLst>
              <a:gd name="adj1" fmla="val -42134"/>
              <a:gd name="adj2" fmla="val 108819"/>
            </a:avLst>
          </a:prstGeom>
          <a:solidFill>
            <a:srgbClr val="ffff00"/>
          </a:solidFill>
          <a:ln w="47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这节课你学到了什么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WordArt 6"/>
          <p:cNvSpPr txBox="1"/>
          <p:nvPr/>
        </p:nvSpPr>
        <p:spPr>
          <a:xfrm>
            <a:off x="5580000" y="189000"/>
            <a:ext cx="33847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归纳小结，体验快乐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newsflash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Group 2"/>
          <p:cNvGrpSpPr/>
          <p:nvPr/>
        </p:nvGrpSpPr>
        <p:grpSpPr>
          <a:xfrm>
            <a:off x="0" y="549360"/>
            <a:ext cx="2555640" cy="1429920"/>
            <a:chOff x="0" y="549360"/>
            <a:chExt cx="2555640" cy="1429920"/>
          </a:xfrm>
        </p:grpSpPr>
        <p:sp>
          <p:nvSpPr>
            <p:cNvPr id="930" name="Arc 3"/>
            <p:cNvSpPr/>
            <p:nvPr/>
          </p:nvSpPr>
          <p:spPr>
            <a:xfrm rot="4935600">
              <a:off x="702000" y="1485000"/>
              <a:ext cx="453960" cy="47484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fill="none" w="17057" h="20702">
                  <a:moveTo>
                    <a:pt x="6164" y="0"/>
                  </a:moveTo>
                  <a:cubicBezTo>
                    <a:pt x="10483" y="1286"/>
                    <a:pt x="14292" y="3891"/>
                    <a:pt x="17057" y="7449"/>
                  </a:cubicBezTo>
                </a:path>
                <a:path stroke="0" w="17057" h="20702">
                  <a:moveTo>
                    <a:pt x="6164" y="0"/>
                  </a:moveTo>
                  <a:cubicBezTo>
                    <a:pt x="10483" y="1286"/>
                    <a:pt x="14292" y="3891"/>
                    <a:pt x="17057" y="7449"/>
                  </a:cubicBezTo>
                  <a:lnTo>
                    <a:pt x="0" y="20702"/>
                  </a:lnTo>
                  <a:close/>
                </a:path>
              </a:pathLst>
            </a:custGeom>
            <a:noFill/>
            <a:ln cap="sq"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Oval 4"/>
            <p:cNvSpPr/>
            <p:nvPr/>
          </p:nvSpPr>
          <p:spPr>
            <a:xfrm>
              <a:off x="0" y="549360"/>
              <a:ext cx="2542680" cy="115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>
                    <a:alpha val="73333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Text Box 5"/>
            <p:cNvSpPr/>
            <p:nvPr/>
          </p:nvSpPr>
          <p:spPr>
            <a:xfrm>
              <a:off x="171360" y="682560"/>
              <a:ext cx="238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楷体_GB2312"/>
                </a:rPr>
                <a:t>字母同，相同字母指数同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3" name="Group 6"/>
          <p:cNvGrpSpPr/>
          <p:nvPr/>
        </p:nvGrpSpPr>
        <p:grpSpPr>
          <a:xfrm>
            <a:off x="0" y="1460520"/>
            <a:ext cx="3708360" cy="1974600"/>
            <a:chOff x="0" y="1460520"/>
            <a:chExt cx="3708360" cy="1974600"/>
          </a:xfrm>
        </p:grpSpPr>
        <p:sp>
          <p:nvSpPr>
            <p:cNvPr id="934" name="Arc 7"/>
            <p:cNvSpPr/>
            <p:nvPr/>
          </p:nvSpPr>
          <p:spPr>
            <a:xfrm rot="2053800">
              <a:off x="900000" y="2852640"/>
              <a:ext cx="611280" cy="449280"/>
            </a:xfrm>
            <a:custGeom>
              <a:avLst/>
              <a:gdLst>
                <a:gd name="textAreaLeft" fmla="*/ 0 w 611280"/>
                <a:gd name="textAreaRight" fmla="*/ 611640 w 61128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fill="none" w="22982" h="21600">
                  <a:moveTo>
                    <a:pt x="0" y="828"/>
                  </a:moveTo>
                  <a:cubicBezTo>
                    <a:pt x="1927" y="278"/>
                    <a:pt x="3921" y="-1"/>
                    <a:pt x="5925" y="0"/>
                  </a:cubicBezTo>
                  <a:cubicBezTo>
                    <a:pt x="12594" y="0"/>
                    <a:pt x="18890" y="3081"/>
                    <a:pt x="22982" y="8347"/>
                  </a:cubicBezTo>
                </a:path>
                <a:path stroke="0" w="22982" h="21600">
                  <a:moveTo>
                    <a:pt x="0" y="828"/>
                  </a:moveTo>
                  <a:cubicBezTo>
                    <a:pt x="1927" y="278"/>
                    <a:pt x="3921" y="-1"/>
                    <a:pt x="5925" y="0"/>
                  </a:cubicBezTo>
                  <a:cubicBezTo>
                    <a:pt x="12594" y="0"/>
                    <a:pt x="18890" y="3081"/>
                    <a:pt x="22982" y="8347"/>
                  </a:cubicBezTo>
                  <a:lnTo>
                    <a:pt x="5925" y="21600"/>
                  </a:lnTo>
                  <a:close/>
                </a:path>
              </a:pathLst>
            </a:custGeom>
            <a:noFill/>
            <a:ln cap="sq"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5" name="Group 8"/>
            <p:cNvGrpSpPr/>
            <p:nvPr/>
          </p:nvGrpSpPr>
          <p:grpSpPr>
            <a:xfrm>
              <a:off x="0" y="1916280"/>
              <a:ext cx="1763280" cy="889920"/>
              <a:chOff x="0" y="1916280"/>
              <a:chExt cx="1763280" cy="889920"/>
            </a:xfrm>
          </p:grpSpPr>
          <p:sp>
            <p:nvSpPr>
              <p:cNvPr id="936" name="Oval 9"/>
              <p:cNvSpPr/>
              <p:nvPr/>
            </p:nvSpPr>
            <p:spPr>
              <a:xfrm>
                <a:off x="145800" y="1916280"/>
                <a:ext cx="1395720" cy="889920"/>
              </a:xfrm>
              <a:prstGeom prst="ellipse">
                <a:avLst/>
              </a:prstGeom>
              <a:solidFill>
                <a:srgbClr val="ffff00"/>
              </a:solidFill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7" name="Text Box 10"/>
              <p:cNvSpPr/>
              <p:nvPr/>
            </p:nvSpPr>
            <p:spPr>
              <a:xfrm>
                <a:off x="0" y="2021400"/>
                <a:ext cx="176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同类项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38" name="Arc 11"/>
            <p:cNvSpPr/>
            <p:nvPr/>
          </p:nvSpPr>
          <p:spPr>
            <a:xfrm flipH="1" rot="20139600">
              <a:off x="2050560" y="2205000"/>
              <a:ext cx="1513080" cy="833760"/>
            </a:xfrm>
            <a:custGeom>
              <a:avLst/>
              <a:gdLst>
                <a:gd name="textAreaLeft" fmla="*/ -360 w 1513080"/>
                <a:gd name="textAreaRight" fmla="*/ 1513080 w 151308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fill="none" w="20756" h="18652">
                  <a:moveTo>
                    <a:pt x="10893" y="-1"/>
                  </a:moveTo>
                  <a:cubicBezTo>
                    <a:pt x="15687" y="2799"/>
                    <a:pt x="19219" y="7338"/>
                    <a:pt x="20756" y="12673"/>
                  </a:cubicBezTo>
                </a:path>
                <a:path stroke="0" w="20756" h="18652">
                  <a:moveTo>
                    <a:pt x="10893" y="-1"/>
                  </a:moveTo>
                  <a:cubicBezTo>
                    <a:pt x="15687" y="2799"/>
                    <a:pt x="19219" y="7338"/>
                    <a:pt x="20756" y="12673"/>
                  </a:cubicBezTo>
                  <a:lnTo>
                    <a:pt x="0" y="18652"/>
                  </a:lnTo>
                  <a:close/>
                </a:path>
              </a:pathLst>
            </a:custGeom>
            <a:noFill/>
            <a:ln cap="sq" w="88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Oval 12"/>
            <p:cNvSpPr/>
            <p:nvPr/>
          </p:nvSpPr>
          <p:spPr>
            <a:xfrm>
              <a:off x="2050920" y="1460520"/>
              <a:ext cx="1513080" cy="1104840"/>
            </a:xfrm>
            <a:prstGeom prst="ellipse">
              <a:avLst/>
            </a:prstGeom>
            <a:solidFill>
              <a:srgbClr val="ffff00"/>
            </a:solidFill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0" name="Group 13"/>
            <p:cNvGrpSpPr/>
            <p:nvPr/>
          </p:nvGrpSpPr>
          <p:grpSpPr>
            <a:xfrm>
              <a:off x="1979640" y="1482840"/>
              <a:ext cx="1728720" cy="867960"/>
              <a:chOff x="1979640" y="1482840"/>
              <a:chExt cx="1728720" cy="867960"/>
            </a:xfrm>
          </p:grpSpPr>
          <p:sp>
            <p:nvSpPr>
              <p:cNvPr id="941" name="Text Box 14"/>
              <p:cNvSpPr/>
              <p:nvPr/>
            </p:nvSpPr>
            <p:spPr>
              <a:xfrm>
                <a:off x="1979640" y="1482840"/>
                <a:ext cx="172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</a:rPr>
                  <a:t>合并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2" name="Rectangle 15"/>
              <p:cNvSpPr/>
              <p:nvPr/>
            </p:nvSpPr>
            <p:spPr>
              <a:xfrm>
                <a:off x="2414520" y="183024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</a:rPr>
                  <a:t>同类项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43" name="Group 16"/>
          <p:cNvGrpSpPr/>
          <p:nvPr/>
        </p:nvGrpSpPr>
        <p:grpSpPr>
          <a:xfrm>
            <a:off x="6516720" y="2205000"/>
            <a:ext cx="2160720" cy="1289880"/>
            <a:chOff x="6516720" y="2205000"/>
            <a:chExt cx="2160720" cy="1289880"/>
          </a:xfrm>
        </p:grpSpPr>
        <p:grpSp>
          <p:nvGrpSpPr>
            <p:cNvPr id="944" name="Group 17"/>
            <p:cNvGrpSpPr/>
            <p:nvPr/>
          </p:nvGrpSpPr>
          <p:grpSpPr>
            <a:xfrm>
              <a:off x="6516720" y="2205000"/>
              <a:ext cx="2017800" cy="1289880"/>
              <a:chOff x="6516720" y="2205000"/>
              <a:chExt cx="2017800" cy="1289880"/>
            </a:xfrm>
          </p:grpSpPr>
          <p:sp>
            <p:nvSpPr>
              <p:cNvPr id="945" name="Arc 18"/>
              <p:cNvSpPr/>
              <p:nvPr/>
            </p:nvSpPr>
            <p:spPr>
              <a:xfrm rot="6207000">
                <a:off x="7105320" y="3048120"/>
                <a:ext cx="368640" cy="43380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fill="none" w="17057" h="21591">
                    <a:moveTo>
                      <a:pt x="622" y="-1"/>
                    </a:moveTo>
                    <a:cubicBezTo>
                      <a:pt x="7070" y="185"/>
                      <a:pt x="13098" y="3244"/>
                      <a:pt x="17057" y="8338"/>
                    </a:cubicBezTo>
                  </a:path>
                  <a:path stroke="0" w="17057" h="21591">
                    <a:moveTo>
                      <a:pt x="622" y="-1"/>
                    </a:moveTo>
                    <a:cubicBezTo>
                      <a:pt x="7070" y="185"/>
                      <a:pt x="13098" y="3244"/>
                      <a:pt x="17057" y="8338"/>
                    </a:cubicBezTo>
                    <a:lnTo>
                      <a:pt x="0" y="21591"/>
                    </a:lnTo>
                    <a:close/>
                  </a:path>
                </a:pathLst>
              </a:custGeom>
              <a:noFill/>
              <a:ln cap="sq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6" name="Oval 19"/>
              <p:cNvSpPr/>
              <p:nvPr/>
            </p:nvSpPr>
            <p:spPr>
              <a:xfrm>
                <a:off x="6516720" y="2205000"/>
                <a:ext cx="2017800" cy="9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73333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47" name="Text Box 20"/>
            <p:cNvSpPr/>
            <p:nvPr/>
          </p:nvSpPr>
          <p:spPr>
            <a:xfrm>
              <a:off x="6588000" y="2405160"/>
              <a:ext cx="20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楷体_GB2312"/>
                </a:rPr>
                <a:t>找、移、并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8" name="Group 21"/>
          <p:cNvGrpSpPr/>
          <p:nvPr/>
        </p:nvGrpSpPr>
        <p:grpSpPr>
          <a:xfrm>
            <a:off x="4067280" y="981000"/>
            <a:ext cx="3528720" cy="1567800"/>
            <a:chOff x="4067280" y="981000"/>
            <a:chExt cx="3528720" cy="1567800"/>
          </a:xfrm>
        </p:grpSpPr>
        <p:grpSp>
          <p:nvGrpSpPr>
            <p:cNvPr id="949" name="Group 22"/>
            <p:cNvGrpSpPr/>
            <p:nvPr/>
          </p:nvGrpSpPr>
          <p:grpSpPr>
            <a:xfrm>
              <a:off x="4067280" y="981000"/>
              <a:ext cx="3528720" cy="1567800"/>
              <a:chOff x="4067280" y="981000"/>
              <a:chExt cx="3528720" cy="1567800"/>
            </a:xfrm>
          </p:grpSpPr>
          <p:sp>
            <p:nvSpPr>
              <p:cNvPr id="950" name="Arc 23"/>
              <p:cNvSpPr/>
              <p:nvPr/>
            </p:nvSpPr>
            <p:spPr>
              <a:xfrm rot="6207000">
                <a:off x="4739040" y="1824120"/>
                <a:ext cx="563040" cy="731160"/>
              </a:xfrm>
              <a:custGeom>
                <a:avLst/>
                <a:gdLst>
                  <a:gd name="textAreaLeft" fmla="*/ 0 w 563040"/>
                  <a:gd name="textAreaRight" fmla="*/ 563400 w 56304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fill="none" w="17057" h="21506">
                    <a:moveTo>
                      <a:pt x="2011" y="-1"/>
                    </a:moveTo>
                    <a:cubicBezTo>
                      <a:pt x="7951" y="555"/>
                      <a:pt x="13396" y="3542"/>
                      <a:pt x="17057" y="8253"/>
                    </a:cubicBezTo>
                  </a:path>
                  <a:path stroke="0" w="17057" h="21506">
                    <a:moveTo>
                      <a:pt x="2011" y="-1"/>
                    </a:moveTo>
                    <a:cubicBezTo>
                      <a:pt x="7951" y="555"/>
                      <a:pt x="13396" y="3542"/>
                      <a:pt x="17057" y="8253"/>
                    </a:cubicBezTo>
                    <a:lnTo>
                      <a:pt x="0" y="21506"/>
                    </a:lnTo>
                    <a:close/>
                  </a:path>
                </a:pathLst>
              </a:custGeom>
              <a:noFill/>
              <a:ln cap="sq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1" name="Oval 24"/>
              <p:cNvSpPr/>
              <p:nvPr/>
            </p:nvSpPr>
            <p:spPr>
              <a:xfrm>
                <a:off x="4067280" y="981000"/>
                <a:ext cx="3528720" cy="1072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73333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2" name="Text Box 25"/>
            <p:cNvSpPr/>
            <p:nvPr/>
          </p:nvSpPr>
          <p:spPr>
            <a:xfrm>
              <a:off x="4500720" y="1042920"/>
              <a:ext cx="302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楷体_GB2312"/>
                </a:rPr>
                <a:t>系数相加，字母与字母指数不变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3" name="Arc 26"/>
          <p:cNvSpPr/>
          <p:nvPr/>
        </p:nvSpPr>
        <p:spPr>
          <a:xfrm rot="5400000">
            <a:off x="2532600" y="3091680"/>
            <a:ext cx="1598760" cy="1552320"/>
          </a:xfrm>
          <a:custGeom>
            <a:avLst/>
            <a:gdLst>
              <a:gd name="textAreaLeft" fmla="*/ 0 w 1598760"/>
              <a:gd name="textAreaRight" fmla="*/ 1599120 w 159876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fill="none" w="21563" h="21600">
                <a:moveTo>
                  <a:pt x="-1" y="5473"/>
                </a:moveTo>
                <a:cubicBezTo>
                  <a:pt x="3956" y="1948"/>
                  <a:pt x="9070" y="-1"/>
                  <a:pt x="14370" y="0"/>
                </a:cubicBezTo>
                <a:cubicBezTo>
                  <a:pt x="16820" y="0"/>
                  <a:pt x="19252" y="416"/>
                  <a:pt x="21563" y="1232"/>
                </a:cubicBezTo>
              </a:path>
              <a:path stroke="0" w="21563" h="21600">
                <a:moveTo>
                  <a:pt x="-1" y="5473"/>
                </a:moveTo>
                <a:cubicBezTo>
                  <a:pt x="3956" y="1948"/>
                  <a:pt x="9070" y="-1"/>
                  <a:pt x="14370" y="0"/>
                </a:cubicBezTo>
                <a:cubicBezTo>
                  <a:pt x="16820" y="0"/>
                  <a:pt x="19252" y="416"/>
                  <a:pt x="21563" y="1232"/>
                </a:cubicBezTo>
                <a:lnTo>
                  <a:pt x="14370" y="21600"/>
                </a:lnTo>
                <a:close/>
              </a:path>
            </a:pathLst>
          </a:custGeom>
          <a:noFill/>
          <a:ln cap="sq"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Arc 27"/>
          <p:cNvSpPr/>
          <p:nvPr/>
        </p:nvSpPr>
        <p:spPr>
          <a:xfrm flipH="1" rot="17790600">
            <a:off x="4324320" y="4871160"/>
            <a:ext cx="2514600" cy="1147680"/>
          </a:xfrm>
          <a:custGeom>
            <a:avLst/>
            <a:gdLst>
              <a:gd name="textAreaLeft" fmla="*/ -360 w 2514600"/>
              <a:gd name="textAreaRight" fmla="*/ 2514600 w 251460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fill="none" w="36235" h="25703">
                <a:moveTo>
                  <a:pt x="-1" y="5713"/>
                </a:moveTo>
                <a:cubicBezTo>
                  <a:pt x="3988" y="2039"/>
                  <a:pt x="9212" y="-1"/>
                  <a:pt x="14635" y="0"/>
                </a:cubicBezTo>
                <a:cubicBezTo>
                  <a:pt x="26564" y="0"/>
                  <a:pt x="36235" y="9670"/>
                  <a:pt x="36235" y="21600"/>
                </a:cubicBezTo>
                <a:cubicBezTo>
                  <a:pt x="36235" y="22977"/>
                  <a:pt x="36103" y="24350"/>
                  <a:pt x="35841" y="25702"/>
                </a:cubicBezTo>
              </a:path>
              <a:path stroke="0" w="36235" h="25703">
                <a:moveTo>
                  <a:pt x="-1" y="5713"/>
                </a:moveTo>
                <a:cubicBezTo>
                  <a:pt x="3988" y="2039"/>
                  <a:pt x="9212" y="-1"/>
                  <a:pt x="14635" y="0"/>
                </a:cubicBezTo>
                <a:cubicBezTo>
                  <a:pt x="26564" y="0"/>
                  <a:pt x="36235" y="9670"/>
                  <a:pt x="36235" y="21600"/>
                </a:cubicBezTo>
                <a:cubicBezTo>
                  <a:pt x="36235" y="22977"/>
                  <a:pt x="36103" y="24350"/>
                  <a:pt x="35841" y="25702"/>
                </a:cubicBezTo>
                <a:lnTo>
                  <a:pt x="14635" y="21600"/>
                </a:lnTo>
                <a:close/>
              </a:path>
            </a:pathLst>
          </a:custGeom>
          <a:noFill/>
          <a:ln cap="sq"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Arc 28"/>
          <p:cNvSpPr/>
          <p:nvPr/>
        </p:nvSpPr>
        <p:spPr>
          <a:xfrm rot="642000">
            <a:off x="2411280" y="3573360"/>
            <a:ext cx="1514520" cy="154476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fill="none" w="20426" h="21487">
                <a:moveTo>
                  <a:pt x="2208" y="0"/>
                </a:moveTo>
                <a:cubicBezTo>
                  <a:pt x="10579" y="860"/>
                  <a:pt x="17688" y="6504"/>
                  <a:pt x="20425" y="14462"/>
                </a:cubicBezTo>
              </a:path>
              <a:path stroke="0" w="20426" h="21487">
                <a:moveTo>
                  <a:pt x="2208" y="0"/>
                </a:moveTo>
                <a:cubicBezTo>
                  <a:pt x="10579" y="860"/>
                  <a:pt x="17688" y="6504"/>
                  <a:pt x="20425" y="14462"/>
                </a:cubicBezTo>
                <a:lnTo>
                  <a:pt x="0" y="21487"/>
                </a:lnTo>
                <a:close/>
              </a:path>
            </a:pathLst>
          </a:custGeom>
          <a:noFill/>
          <a:ln cap="sq"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Arc 29"/>
          <p:cNvSpPr/>
          <p:nvPr/>
        </p:nvSpPr>
        <p:spPr>
          <a:xfrm rot="1949400">
            <a:off x="1115640" y="3933360"/>
            <a:ext cx="2449440" cy="314172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141720"/>
              <a:gd name="textAreaBottom" fmla="*/ 3142080 h 3141720"/>
            </a:gdLst>
            <a:ahLst/>
            <a:rect l="textAreaLeft" t="textAreaTop" r="textAreaRight" b="textAreaBottom"/>
            <a:pathLst>
              <a:path fill="none" w="21600" h="29118">
                <a:moveTo>
                  <a:pt x="4566" y="0"/>
                </a:moveTo>
                <a:cubicBezTo>
                  <a:pt x="14506" y="2150"/>
                  <a:pt x="21600" y="10942"/>
                  <a:pt x="21600" y="21112"/>
                </a:cubicBezTo>
                <a:cubicBezTo>
                  <a:pt x="21600" y="23854"/>
                  <a:pt x="21077" y="26571"/>
                  <a:pt x="20061" y="29118"/>
                </a:cubicBezTo>
              </a:path>
              <a:path stroke="0" w="21600" h="29118">
                <a:moveTo>
                  <a:pt x="4566" y="0"/>
                </a:moveTo>
                <a:cubicBezTo>
                  <a:pt x="14506" y="2150"/>
                  <a:pt x="21600" y="10942"/>
                  <a:pt x="21600" y="21112"/>
                </a:cubicBezTo>
                <a:cubicBezTo>
                  <a:pt x="21600" y="23854"/>
                  <a:pt x="21077" y="26571"/>
                  <a:pt x="20061" y="29118"/>
                </a:cubicBezTo>
                <a:lnTo>
                  <a:pt x="0" y="21112"/>
                </a:lnTo>
                <a:close/>
              </a:path>
            </a:pathLst>
          </a:custGeom>
          <a:noFill/>
          <a:ln cap="sq"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Arc 30"/>
          <p:cNvSpPr/>
          <p:nvPr/>
        </p:nvSpPr>
        <p:spPr>
          <a:xfrm flipH="1" rot="19266600">
            <a:off x="3994920" y="2133360"/>
            <a:ext cx="4538880" cy="2134800"/>
          </a:xfrm>
          <a:custGeom>
            <a:avLst/>
            <a:gdLst>
              <a:gd name="textAreaLeft" fmla="*/ 360 w 4538880"/>
              <a:gd name="textAreaRight" fmla="*/ 4539600 w 4538880"/>
              <a:gd name="textAreaTop" fmla="*/ 0 h 2134800"/>
              <a:gd name="textAreaBottom" fmla="*/ 2135160 h 2134800"/>
            </a:gdLst>
            <a:ahLst/>
            <a:rect l="textAreaLeft" t="textAreaTop" r="textAreaRight" b="textAreaBottom"/>
            <a:pathLst>
              <a:path fill="none" w="20427" h="14815">
                <a:moveTo>
                  <a:pt x="15718" y="-1"/>
                </a:moveTo>
                <a:cubicBezTo>
                  <a:pt x="17823" y="2233"/>
                  <a:pt x="19429" y="4890"/>
                  <a:pt x="20427" y="7793"/>
                </a:cubicBezTo>
              </a:path>
              <a:path stroke="0" w="20427" h="14815">
                <a:moveTo>
                  <a:pt x="15718" y="-1"/>
                </a:moveTo>
                <a:cubicBezTo>
                  <a:pt x="17823" y="2233"/>
                  <a:pt x="19429" y="4890"/>
                  <a:pt x="20427" y="7793"/>
                </a:cubicBezTo>
                <a:lnTo>
                  <a:pt x="0" y="14815"/>
                </a:lnTo>
                <a:close/>
              </a:path>
            </a:pathLst>
          </a:custGeom>
          <a:noFill/>
          <a:ln cap="sq"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Arc 31"/>
          <p:cNvSpPr/>
          <p:nvPr/>
        </p:nvSpPr>
        <p:spPr>
          <a:xfrm flipH="1" rot="21144000">
            <a:off x="4571280" y="3860640"/>
            <a:ext cx="2016000" cy="981360"/>
          </a:xfrm>
          <a:custGeom>
            <a:avLst/>
            <a:gdLst>
              <a:gd name="textAreaLeft" fmla="*/ 360 w 2016000"/>
              <a:gd name="textAreaRight" fmla="*/ 2016720 w 201600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fill="none" w="20756" h="18903">
                <a:moveTo>
                  <a:pt x="10451" y="0"/>
                </a:moveTo>
                <a:cubicBezTo>
                  <a:pt x="15464" y="2771"/>
                  <a:pt x="19171" y="7420"/>
                  <a:pt x="20756" y="12924"/>
                </a:cubicBezTo>
              </a:path>
              <a:path stroke="0" w="20756" h="18903">
                <a:moveTo>
                  <a:pt x="10451" y="0"/>
                </a:moveTo>
                <a:cubicBezTo>
                  <a:pt x="15464" y="2771"/>
                  <a:pt x="19171" y="7420"/>
                  <a:pt x="20756" y="12924"/>
                </a:cubicBezTo>
                <a:lnTo>
                  <a:pt x="0" y="18903"/>
                </a:lnTo>
                <a:close/>
              </a:path>
            </a:pathLst>
          </a:custGeom>
          <a:noFill/>
          <a:ln cap="sq"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32"/>
          <p:cNvSpPr/>
          <p:nvPr/>
        </p:nvSpPr>
        <p:spPr>
          <a:xfrm>
            <a:off x="2987640" y="50925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合并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 Box 33"/>
          <p:cNvSpPr/>
          <p:nvPr/>
        </p:nvSpPr>
        <p:spPr>
          <a:xfrm>
            <a:off x="3059280" y="559584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同类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1" name="Picture 34" descr="MCj03433450000[1]"/>
          <p:cNvPicPr/>
          <p:nvPr/>
        </p:nvPicPr>
        <p:blipFill>
          <a:blip r:embed="rId1"/>
          <a:stretch/>
        </p:blipFill>
        <p:spPr>
          <a:xfrm>
            <a:off x="6732720" y="4994280"/>
            <a:ext cx="2232000" cy="1863720"/>
          </a:xfrm>
          <a:prstGeom prst="rect">
            <a:avLst/>
          </a:prstGeom>
          <a:ln w="0">
            <a:noFill/>
          </a:ln>
        </p:spPr>
      </p:pic>
      <p:grpSp>
        <p:nvGrpSpPr>
          <p:cNvPr id="962" name="Group 35"/>
          <p:cNvGrpSpPr/>
          <p:nvPr/>
        </p:nvGrpSpPr>
        <p:grpSpPr>
          <a:xfrm>
            <a:off x="1042920" y="2205000"/>
            <a:ext cx="7336080" cy="2230560"/>
            <a:chOff x="1042920" y="2205000"/>
            <a:chExt cx="7336080" cy="2230560"/>
          </a:xfrm>
        </p:grpSpPr>
        <p:grpSp>
          <p:nvGrpSpPr>
            <p:cNvPr id="963" name="Group 36"/>
            <p:cNvGrpSpPr/>
            <p:nvPr/>
          </p:nvGrpSpPr>
          <p:grpSpPr>
            <a:xfrm>
              <a:off x="3348000" y="2205000"/>
              <a:ext cx="1944720" cy="1143000"/>
              <a:chOff x="3348000" y="2205000"/>
              <a:chExt cx="1944720" cy="1143000"/>
            </a:xfrm>
          </p:grpSpPr>
          <p:sp>
            <p:nvSpPr>
              <p:cNvPr id="964" name="Oval 37"/>
              <p:cNvSpPr/>
              <p:nvPr/>
            </p:nvSpPr>
            <p:spPr>
              <a:xfrm>
                <a:off x="3348000" y="2205000"/>
                <a:ext cx="1944720" cy="11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33"/>
                  </a:gs>
                </a:gsLst>
                <a:path path="rect">
                  <a:fillToRect l="50000" t="50000" r="50000" b="50000"/>
                </a:path>
              </a:gradFill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Text Box 38"/>
              <p:cNvSpPr/>
              <p:nvPr/>
            </p:nvSpPr>
            <p:spPr>
              <a:xfrm>
                <a:off x="3780000" y="2427120"/>
                <a:ext cx="115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Times New Roman"/>
                  </a:rPr>
                  <a:t>法则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66" name="Group 39"/>
            <p:cNvGrpSpPr/>
            <p:nvPr/>
          </p:nvGrpSpPr>
          <p:grpSpPr>
            <a:xfrm>
              <a:off x="1042920" y="2898720"/>
              <a:ext cx="2160360" cy="1250640"/>
              <a:chOff x="1042920" y="2898720"/>
              <a:chExt cx="2160360" cy="1250640"/>
            </a:xfrm>
          </p:grpSpPr>
          <p:sp>
            <p:nvSpPr>
              <p:cNvPr id="967" name="Oval 40"/>
              <p:cNvSpPr/>
              <p:nvPr/>
            </p:nvSpPr>
            <p:spPr>
              <a:xfrm>
                <a:off x="1058760" y="2898720"/>
                <a:ext cx="2144520" cy="1250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33"/>
                  </a:gs>
                </a:gsLst>
                <a:path path="rect">
                  <a:fillToRect l="50000" t="50000" r="50000" b="50000"/>
                </a:path>
              </a:gradFill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Text Box 41"/>
              <p:cNvSpPr/>
              <p:nvPr/>
            </p:nvSpPr>
            <p:spPr>
              <a:xfrm>
                <a:off x="1042920" y="3186000"/>
                <a:ext cx="216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Arial"/>
                  </a:rPr>
                  <a:t>概念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69" name="Oval 42"/>
            <p:cNvSpPr/>
            <p:nvPr/>
          </p:nvSpPr>
          <p:spPr>
            <a:xfrm>
              <a:off x="5435640" y="3284640"/>
              <a:ext cx="2130480" cy="11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Text Box 43"/>
            <p:cNvSpPr/>
            <p:nvPr/>
          </p:nvSpPr>
          <p:spPr>
            <a:xfrm>
              <a:off x="5867280" y="3508200"/>
              <a:ext cx="251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方法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1" name="Group 44"/>
          <p:cNvGrpSpPr/>
          <p:nvPr/>
        </p:nvGrpSpPr>
        <p:grpSpPr>
          <a:xfrm>
            <a:off x="2341440" y="549360"/>
            <a:ext cx="2951280" cy="992520"/>
            <a:chOff x="2341440" y="549360"/>
            <a:chExt cx="2951280" cy="992520"/>
          </a:xfrm>
        </p:grpSpPr>
        <p:sp>
          <p:nvSpPr>
            <p:cNvPr id="972" name="Text Box 45"/>
            <p:cNvSpPr/>
            <p:nvPr/>
          </p:nvSpPr>
          <p:spPr>
            <a:xfrm>
              <a:off x="2341440" y="549360"/>
              <a:ext cx="29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把同类项合并成一项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 rot="17329800">
              <a:off x="2917800" y="1051920"/>
              <a:ext cx="431640" cy="432000"/>
            </a:xfrm>
            <a:custGeom>
              <a:avLst/>
              <a:gdLst>
                <a:gd name="textAreaLeft" fmla="*/ 66600 w 431640"/>
                <a:gd name="textAreaRight" fmla="*/ 378000 w 431640"/>
                <a:gd name="textAreaTop" fmla="*/ 108000 h 432000"/>
                <a:gd name="textAreaBottom" fmla="*/ 3240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4" name="WordArt 47"/>
          <p:cNvSpPr txBox="1"/>
          <p:nvPr/>
        </p:nvSpPr>
        <p:spPr>
          <a:xfrm>
            <a:off x="5508720" y="189000"/>
            <a:ext cx="3384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归纳小结，体验快乐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975" name="Picture 48" descr="回首页 0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77000"/>
            <a:ext cx="846000" cy="98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2" descr="dhgif004"/>
          <p:cNvPicPr/>
          <p:nvPr/>
        </p:nvPicPr>
        <p:blipFill>
          <a:blip r:embed="rId1"/>
          <a:stretch/>
        </p:blipFill>
        <p:spPr>
          <a:xfrm>
            <a:off x="6256440" y="3500280"/>
            <a:ext cx="2887560" cy="31687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3"/>
          <p:cNvSpPr/>
          <p:nvPr/>
        </p:nvSpPr>
        <p:spPr>
          <a:xfrm>
            <a:off x="2133720" y="2514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WordArt 4"/>
          <p:cNvSpPr txBox="1"/>
          <p:nvPr/>
        </p:nvSpPr>
        <p:spPr>
          <a:xfrm>
            <a:off x="684360" y="836640"/>
            <a:ext cx="7559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当堂检测，独立应用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79" name="Picture 5" descr="回首页 0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77000"/>
            <a:ext cx="84600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3"/>
          <p:cNvSpPr/>
          <p:nvPr/>
        </p:nvSpPr>
        <p:spPr>
          <a:xfrm>
            <a:off x="250920" y="2306520"/>
            <a:ext cx="95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细心观察！用心思考！大胆实践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345132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快乐学习！健康成长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2" name="Picture 5" descr="14"/>
          <p:cNvPicPr/>
          <p:nvPr/>
        </p:nvPicPr>
        <p:blipFill>
          <a:blip r:embed="rId1"/>
          <a:stretch/>
        </p:blipFill>
        <p:spPr>
          <a:xfrm>
            <a:off x="34920" y="5661000"/>
            <a:ext cx="9074160" cy="12254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6" descr="小花-2"/>
          <p:cNvPicPr/>
          <p:nvPr/>
        </p:nvPicPr>
        <p:blipFill>
          <a:blip r:embed="rId2"/>
          <a:stretch/>
        </p:blipFill>
        <p:spPr>
          <a:xfrm>
            <a:off x="324000" y="5807160"/>
            <a:ext cx="26636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1258920" y="981000"/>
            <a:ext cx="1440000" cy="165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2700360" y="981000"/>
            <a:ext cx="2663640" cy="165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1258920" y="2638440"/>
            <a:ext cx="3097080" cy="122400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4356000" y="2638440"/>
            <a:ext cx="1008000" cy="12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1620720" y="14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学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3492360" y="1486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操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1763640" y="2997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活动中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4614840" y="263700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书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10"/>
          <p:cNvSpPr/>
          <p:nvPr/>
        </p:nvSpPr>
        <p:spPr>
          <a:xfrm flipV="1">
            <a:off x="5364000" y="62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1646280" y="533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3635280" y="5493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13"/>
          <p:cNvSpPr/>
          <p:nvPr/>
        </p:nvSpPr>
        <p:spPr>
          <a:xfrm flipV="1">
            <a:off x="2700360" y="56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14"/>
          <p:cNvSpPr/>
          <p:nvPr/>
        </p:nvSpPr>
        <p:spPr>
          <a:xfrm flipV="1">
            <a:off x="1258920" y="58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Line 15"/>
          <p:cNvSpPr/>
          <p:nvPr/>
        </p:nvSpPr>
        <p:spPr>
          <a:xfrm flipH="1" flipV="1">
            <a:off x="1257120" y="764640"/>
            <a:ext cx="360360" cy="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2340000" y="765000"/>
            <a:ext cx="36036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Line 17"/>
          <p:cNvSpPr/>
          <p:nvPr/>
        </p:nvSpPr>
        <p:spPr>
          <a:xfrm>
            <a:off x="5326200" y="981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Line 18"/>
          <p:cNvSpPr/>
          <p:nvPr/>
        </p:nvSpPr>
        <p:spPr>
          <a:xfrm>
            <a:off x="5364000" y="2637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9"/>
          <p:cNvSpPr/>
          <p:nvPr/>
        </p:nvSpPr>
        <p:spPr>
          <a:xfrm flipV="1">
            <a:off x="5585040" y="981000"/>
            <a:ext cx="43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20"/>
          <p:cNvSpPr/>
          <p:nvPr/>
        </p:nvSpPr>
        <p:spPr>
          <a:xfrm>
            <a:off x="5580000" y="19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21"/>
          <p:cNvSpPr/>
          <p:nvPr/>
        </p:nvSpPr>
        <p:spPr>
          <a:xfrm>
            <a:off x="5437080" y="139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22"/>
          <p:cNvSpPr/>
          <p:nvPr/>
        </p:nvSpPr>
        <p:spPr>
          <a:xfrm flipV="1">
            <a:off x="5580000" y="263700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 Box 23"/>
          <p:cNvSpPr/>
          <p:nvPr/>
        </p:nvSpPr>
        <p:spPr>
          <a:xfrm>
            <a:off x="5364000" y="2997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Line 24"/>
          <p:cNvSpPr/>
          <p:nvPr/>
        </p:nvSpPr>
        <p:spPr>
          <a:xfrm>
            <a:off x="5364000" y="38606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Line 25"/>
          <p:cNvSpPr/>
          <p:nvPr/>
        </p:nvSpPr>
        <p:spPr>
          <a:xfrm>
            <a:off x="1258920" y="3789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Line 26"/>
          <p:cNvSpPr/>
          <p:nvPr/>
        </p:nvSpPr>
        <p:spPr>
          <a:xfrm>
            <a:off x="4356000" y="3840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Line 27"/>
          <p:cNvSpPr/>
          <p:nvPr/>
        </p:nvSpPr>
        <p:spPr>
          <a:xfrm>
            <a:off x="5364000" y="3840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28"/>
          <p:cNvSpPr/>
          <p:nvPr/>
        </p:nvSpPr>
        <p:spPr>
          <a:xfrm>
            <a:off x="3276720" y="4005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29"/>
          <p:cNvSpPr/>
          <p:nvPr/>
        </p:nvSpPr>
        <p:spPr>
          <a:xfrm>
            <a:off x="2629080" y="378936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 Box 30"/>
          <p:cNvSpPr/>
          <p:nvPr/>
        </p:nvSpPr>
        <p:spPr>
          <a:xfrm>
            <a:off x="4609440" y="3932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Line 31"/>
          <p:cNvSpPr/>
          <p:nvPr/>
        </p:nvSpPr>
        <p:spPr>
          <a:xfrm>
            <a:off x="4356000" y="76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Line 32"/>
          <p:cNvSpPr/>
          <p:nvPr/>
        </p:nvSpPr>
        <p:spPr>
          <a:xfrm flipH="1">
            <a:off x="435564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Rectangle 33"/>
          <p:cNvSpPr/>
          <p:nvPr/>
        </p:nvSpPr>
        <p:spPr>
          <a:xfrm>
            <a:off x="395280" y="53737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计算出这个学校的占地面积吗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Rectangle 34"/>
          <p:cNvSpPr/>
          <p:nvPr/>
        </p:nvSpPr>
        <p:spPr>
          <a:xfrm>
            <a:off x="360360" y="458136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如图是某学校的总体规划图，你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35"/>
          <p:cNvSpPr/>
          <p:nvPr/>
        </p:nvSpPr>
        <p:spPr>
          <a:xfrm>
            <a:off x="558000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36"/>
          <p:cNvSpPr/>
          <p:nvPr/>
        </p:nvSpPr>
        <p:spPr>
          <a:xfrm flipH="1">
            <a:off x="2700000" y="765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Line 37"/>
          <p:cNvSpPr/>
          <p:nvPr/>
        </p:nvSpPr>
        <p:spPr>
          <a:xfrm>
            <a:off x="493236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Line 38"/>
          <p:cNvSpPr/>
          <p:nvPr/>
        </p:nvSpPr>
        <p:spPr>
          <a:xfrm flipH="1">
            <a:off x="1258560" y="400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Line 39"/>
          <p:cNvSpPr/>
          <p:nvPr/>
        </p:nvSpPr>
        <p:spPr>
          <a:xfrm>
            <a:off x="755640" y="981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Line 40"/>
          <p:cNvSpPr/>
          <p:nvPr/>
        </p:nvSpPr>
        <p:spPr>
          <a:xfrm>
            <a:off x="793800" y="2637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Line 41"/>
          <p:cNvSpPr/>
          <p:nvPr/>
        </p:nvSpPr>
        <p:spPr>
          <a:xfrm flipV="1">
            <a:off x="1014120" y="981000"/>
            <a:ext cx="39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Line 42"/>
          <p:cNvSpPr/>
          <p:nvPr/>
        </p:nvSpPr>
        <p:spPr>
          <a:xfrm>
            <a:off x="1009800" y="19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43"/>
          <p:cNvSpPr/>
          <p:nvPr/>
        </p:nvSpPr>
        <p:spPr>
          <a:xfrm>
            <a:off x="866520" y="139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Line 44"/>
          <p:cNvSpPr/>
          <p:nvPr/>
        </p:nvSpPr>
        <p:spPr>
          <a:xfrm flipV="1">
            <a:off x="1009800" y="263700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45"/>
          <p:cNvSpPr/>
          <p:nvPr/>
        </p:nvSpPr>
        <p:spPr>
          <a:xfrm>
            <a:off x="793800" y="299736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Line 46"/>
          <p:cNvSpPr/>
          <p:nvPr/>
        </p:nvSpPr>
        <p:spPr>
          <a:xfrm>
            <a:off x="793800" y="3860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47"/>
          <p:cNvSpPr/>
          <p:nvPr/>
        </p:nvSpPr>
        <p:spPr>
          <a:xfrm>
            <a:off x="100980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2"/>
          <p:cNvGrpSpPr/>
          <p:nvPr/>
        </p:nvGrpSpPr>
        <p:grpSpPr>
          <a:xfrm>
            <a:off x="4643280" y="-100080"/>
            <a:ext cx="4723920" cy="1297080"/>
            <a:chOff x="4643280" y="-100080"/>
            <a:chExt cx="4723920" cy="1297080"/>
          </a:xfrm>
        </p:grpSpPr>
        <p:sp>
          <p:nvSpPr>
            <p:cNvPr id="658" name="Line 3"/>
            <p:cNvSpPr/>
            <p:nvPr/>
          </p:nvSpPr>
          <p:spPr>
            <a:xfrm>
              <a:off x="5115240" y="1096920"/>
              <a:ext cx="3937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9" name="Group 4"/>
            <p:cNvGrpSpPr/>
            <p:nvPr/>
          </p:nvGrpSpPr>
          <p:grpSpPr>
            <a:xfrm>
              <a:off x="4643280" y="-100080"/>
              <a:ext cx="4723920" cy="1297080"/>
              <a:chOff x="4643280" y="-100080"/>
              <a:chExt cx="4723920" cy="1297080"/>
            </a:xfrm>
          </p:grpSpPr>
          <p:sp>
            <p:nvSpPr>
              <p:cNvPr id="660" name="Line 5"/>
              <p:cNvSpPr/>
              <p:nvPr/>
            </p:nvSpPr>
            <p:spPr>
              <a:xfrm>
                <a:off x="5115240" y="1197000"/>
                <a:ext cx="39376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Text Box 6"/>
              <p:cNvSpPr/>
              <p:nvPr/>
            </p:nvSpPr>
            <p:spPr>
              <a:xfrm>
                <a:off x="4643280" y="-100080"/>
                <a:ext cx="4723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33cc"/>
                    </a:solidFill>
                    <a:latin typeface="Arial"/>
                    <a:ea typeface="GulimChe"/>
                  </a:rPr>
                  <a:t>学习目标</a:t>
                </a:r>
                <a:endParaRPr b="0" lang="en-US" sz="7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62" name="Text Box 7"/>
          <p:cNvSpPr/>
          <p:nvPr/>
        </p:nvSpPr>
        <p:spPr>
          <a:xfrm>
            <a:off x="538200" y="15145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会说出同类项概念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468360" y="3500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会合并同类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4" name="Picture 9" descr="uarh4nj2[1]"/>
          <p:cNvPicPr/>
          <p:nvPr/>
        </p:nvPicPr>
        <p:blipFill>
          <a:blip r:embed="rId1"/>
          <a:stretch/>
        </p:blipFill>
        <p:spPr>
          <a:xfrm>
            <a:off x="5651640" y="3789360"/>
            <a:ext cx="3024000" cy="22939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0"/>
          <p:cNvSpPr/>
          <p:nvPr/>
        </p:nvSpPr>
        <p:spPr>
          <a:xfrm>
            <a:off x="1303200" y="2492280"/>
            <a:ext cx="31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能识别同类项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3"/>
              <p:cNvSpPr txBox="1"/>
              <p:nvPr/>
            </p:nvSpPr>
            <p:spPr>
              <a:xfrm>
                <a:off x="1092240" y="1303200"/>
                <a:ext cx="1319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0" name="Group 6"/>
          <p:cNvGrpSpPr/>
          <p:nvPr/>
        </p:nvGrpSpPr>
        <p:grpSpPr>
          <a:xfrm>
            <a:off x="3851280" y="-27000"/>
            <a:ext cx="5760360" cy="581400"/>
            <a:chOff x="3851280" y="-27000"/>
            <a:chExt cx="5760360" cy="581400"/>
          </a:xfrm>
        </p:grpSpPr>
        <p:sp>
          <p:nvSpPr>
            <p:cNvPr id="671" name="Rectangle 7"/>
            <p:cNvSpPr/>
            <p:nvPr/>
          </p:nvSpPr>
          <p:spPr>
            <a:xfrm>
              <a:off x="4138920" y="46080"/>
              <a:ext cx="4896360" cy="483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4859280" y="-27000"/>
              <a:ext cx="432000" cy="54432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3851280" y="-27000"/>
              <a:ext cx="719640" cy="54432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Text Box 10"/>
            <p:cNvSpPr/>
            <p:nvPr/>
          </p:nvSpPr>
          <p:spPr>
            <a:xfrm>
              <a:off x="5147280" y="-27000"/>
              <a:ext cx="44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知识为例，探寻方法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5" name="Group 11"/>
            <p:cNvGrpSpPr/>
            <p:nvPr/>
          </p:nvGrpSpPr>
          <p:grpSpPr>
            <a:xfrm>
              <a:off x="4283280" y="-27000"/>
              <a:ext cx="576000" cy="544320"/>
              <a:chOff x="4283280" y="-27000"/>
              <a:chExt cx="576000" cy="544320"/>
            </a:xfrm>
          </p:grpSpPr>
          <p:pic>
            <p:nvPicPr>
              <p:cNvPr id="676" name="Picture 12" descr="0"/>
              <p:cNvPicPr/>
              <p:nvPr/>
            </p:nvPicPr>
            <p:blipFill>
              <a:blip r:embed="rId1"/>
              <a:stretch/>
            </p:blipFill>
            <p:spPr>
              <a:xfrm>
                <a:off x="4283280" y="-27000"/>
                <a:ext cx="57600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Line 13"/>
              <p:cNvSpPr/>
              <p:nvPr/>
            </p:nvSpPr>
            <p:spPr>
              <a:xfrm>
                <a:off x="4355280" y="-27000"/>
                <a:ext cx="50364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678" name="Object 14"/>
              <p:cNvSpPr txBox="1"/>
              <p:nvPr/>
            </p:nvSpPr>
            <p:spPr>
              <a:xfrm>
                <a:off x="3564000" y="1303200"/>
                <a:ext cx="13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15"/>
              <p:cNvSpPr txBox="1"/>
              <p:nvPr/>
            </p:nvSpPr>
            <p:spPr>
              <a:xfrm>
                <a:off x="915840" y="3573360"/>
                <a:ext cx="171144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6"/>
              <p:cNvSpPr txBox="1"/>
              <p:nvPr/>
            </p:nvSpPr>
            <p:spPr>
              <a:xfrm>
                <a:off x="3492360" y="3573360"/>
                <a:ext cx="207504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17"/>
              <p:cNvSpPr txBox="1"/>
              <p:nvPr/>
            </p:nvSpPr>
            <p:spPr>
              <a:xfrm>
                <a:off x="874800" y="5084640"/>
                <a:ext cx="163332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18"/>
              <p:cNvSpPr txBox="1"/>
              <p:nvPr/>
            </p:nvSpPr>
            <p:spPr>
              <a:xfrm>
                <a:off x="3681360" y="5564160"/>
                <a:ext cx="1638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b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19"/>
              <p:cNvSpPr txBox="1"/>
              <p:nvPr/>
            </p:nvSpPr>
            <p:spPr>
              <a:xfrm>
                <a:off x="1042920" y="2421000"/>
                <a:ext cx="13669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0"/>
              <p:cNvSpPr txBox="1"/>
              <p:nvPr/>
            </p:nvSpPr>
            <p:spPr>
              <a:xfrm>
                <a:off x="3613320" y="2349360"/>
                <a:ext cx="13190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5" name="Picture 21" descr="N_144"/>
          <p:cNvPicPr/>
          <p:nvPr/>
        </p:nvPicPr>
        <p:blipFill>
          <a:blip r:embed="rId2"/>
          <a:stretch/>
        </p:blipFill>
        <p:spPr>
          <a:xfrm>
            <a:off x="6480000" y="4273560"/>
            <a:ext cx="2664000" cy="2584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50920" y="423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列各组中的单项式有什么特点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395280" y="1197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5"/>
              <p:cNvSpPr txBox="1"/>
              <p:nvPr/>
            </p:nvSpPr>
            <p:spPr>
              <a:xfrm>
                <a:off x="1092240" y="1268280"/>
                <a:ext cx="1319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0" name="Text Box 6"/>
          <p:cNvSpPr/>
          <p:nvPr/>
        </p:nvSpPr>
        <p:spPr>
          <a:xfrm>
            <a:off x="2268360" y="12747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395280" y="2236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3" name="Object 9"/>
          <p:cNvGraphicFramePr/>
          <p:nvPr/>
        </p:nvGraphicFramePr>
        <p:xfrm>
          <a:off x="1042920" y="2163600"/>
          <a:ext cx="3095640" cy="8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63600"/>
                    <a:ext cx="3095640" cy="8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AutoShape 10"/>
          <p:cNvSpPr/>
          <p:nvPr/>
        </p:nvSpPr>
        <p:spPr>
          <a:xfrm>
            <a:off x="4859280" y="1557360"/>
            <a:ext cx="4284720" cy="3024000"/>
          </a:xfrm>
          <a:prstGeom prst="wedgeEllipseCallout">
            <a:avLst>
              <a:gd name="adj1" fmla="val 38736"/>
              <a:gd name="adj2" fmla="val 82180"/>
            </a:avLst>
          </a:prstGeom>
          <a:blipFill rotWithShape="0">
            <a:blip r:embed="rId3">
              <a:alphaModFix amt="59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ectangle 11"/>
          <p:cNvSpPr/>
          <p:nvPr/>
        </p:nvSpPr>
        <p:spPr>
          <a:xfrm>
            <a:off x="5076720" y="213192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观察每组中各项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字母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字母的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有什么特点？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7" name="Group 12"/>
          <p:cNvGrpSpPr/>
          <p:nvPr/>
        </p:nvGrpSpPr>
        <p:grpSpPr>
          <a:xfrm>
            <a:off x="3851280" y="-27000"/>
            <a:ext cx="5760360" cy="581400"/>
            <a:chOff x="3851280" y="-27000"/>
            <a:chExt cx="5760360" cy="581400"/>
          </a:xfrm>
        </p:grpSpPr>
        <p:sp>
          <p:nvSpPr>
            <p:cNvPr id="698" name="Rectangle 13"/>
            <p:cNvSpPr/>
            <p:nvPr/>
          </p:nvSpPr>
          <p:spPr>
            <a:xfrm>
              <a:off x="4138920" y="46080"/>
              <a:ext cx="4896360" cy="483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4859280" y="-27000"/>
              <a:ext cx="432000" cy="54432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3851280" y="-27000"/>
              <a:ext cx="719640" cy="54432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Text Box 16"/>
            <p:cNvSpPr/>
            <p:nvPr/>
          </p:nvSpPr>
          <p:spPr>
            <a:xfrm>
              <a:off x="5147280" y="-27000"/>
              <a:ext cx="44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知识为例，探寻方法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2" name="Group 17"/>
            <p:cNvGrpSpPr/>
            <p:nvPr/>
          </p:nvGrpSpPr>
          <p:grpSpPr>
            <a:xfrm>
              <a:off x="4283280" y="-27000"/>
              <a:ext cx="576000" cy="544320"/>
              <a:chOff x="4283280" y="-27000"/>
              <a:chExt cx="576000" cy="544320"/>
            </a:xfrm>
          </p:grpSpPr>
          <p:pic>
            <p:nvPicPr>
              <p:cNvPr id="703" name="Picture 18" descr="0"/>
              <p:cNvPicPr/>
              <p:nvPr/>
            </p:nvPicPr>
            <p:blipFill>
              <a:blip r:embed="rId4"/>
              <a:stretch/>
            </p:blipFill>
            <p:spPr>
              <a:xfrm>
                <a:off x="4283280" y="-27000"/>
                <a:ext cx="57600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Line 19"/>
              <p:cNvSpPr/>
              <p:nvPr/>
            </p:nvSpPr>
            <p:spPr>
              <a:xfrm>
                <a:off x="4355280" y="-27000"/>
                <a:ext cx="50364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05" name="Object 20"/>
              <p:cNvSpPr txBox="1"/>
              <p:nvPr/>
            </p:nvSpPr>
            <p:spPr>
              <a:xfrm>
                <a:off x="2771640" y="1268280"/>
                <a:ext cx="13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1"/>
              <p:cNvSpPr txBox="1"/>
              <p:nvPr/>
            </p:nvSpPr>
            <p:spPr>
              <a:xfrm>
                <a:off x="1131840" y="3068640"/>
                <a:ext cx="17114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2"/>
              <p:cNvSpPr txBox="1"/>
              <p:nvPr/>
            </p:nvSpPr>
            <p:spPr>
              <a:xfrm>
                <a:off x="3073320" y="3068640"/>
                <a:ext cx="207504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Text Box 23"/>
          <p:cNvSpPr/>
          <p:nvPr/>
        </p:nvSpPr>
        <p:spPr>
          <a:xfrm>
            <a:off x="2484360" y="35082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24"/>
              <p:cNvSpPr txBox="1"/>
              <p:nvPr/>
            </p:nvSpPr>
            <p:spPr>
              <a:xfrm>
                <a:off x="395280" y="4508640"/>
                <a:ext cx="24004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25"/>
              <p:cNvSpPr txBox="1"/>
              <p:nvPr/>
            </p:nvSpPr>
            <p:spPr>
              <a:xfrm>
                <a:off x="3292560" y="4890960"/>
                <a:ext cx="1639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b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Text Box 26"/>
          <p:cNvSpPr/>
          <p:nvPr/>
        </p:nvSpPr>
        <p:spPr>
          <a:xfrm>
            <a:off x="2673360" y="49482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27"/>
          <p:cNvSpPr/>
          <p:nvPr/>
        </p:nvSpPr>
        <p:spPr>
          <a:xfrm>
            <a:off x="1978200" y="1916280"/>
            <a:ext cx="433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28"/>
          <p:cNvSpPr/>
          <p:nvPr/>
        </p:nvSpPr>
        <p:spPr>
          <a:xfrm>
            <a:off x="3706920" y="1916280"/>
            <a:ext cx="433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29"/>
          <p:cNvSpPr/>
          <p:nvPr/>
        </p:nvSpPr>
        <p:spPr>
          <a:xfrm>
            <a:off x="3924360" y="4076640"/>
            <a:ext cx="934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30"/>
          <p:cNvSpPr/>
          <p:nvPr/>
        </p:nvSpPr>
        <p:spPr>
          <a:xfrm>
            <a:off x="1619280" y="4076640"/>
            <a:ext cx="865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31"/>
          <p:cNvSpPr/>
          <p:nvPr/>
        </p:nvSpPr>
        <p:spPr>
          <a:xfrm>
            <a:off x="3203640" y="2924280"/>
            <a:ext cx="792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32"/>
          <p:cNvSpPr/>
          <p:nvPr/>
        </p:nvSpPr>
        <p:spPr>
          <a:xfrm>
            <a:off x="1476360" y="2924280"/>
            <a:ext cx="719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33"/>
          <p:cNvSpPr/>
          <p:nvPr/>
        </p:nvSpPr>
        <p:spPr>
          <a:xfrm>
            <a:off x="4186080" y="5524560"/>
            <a:ext cx="720720" cy="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34"/>
          <p:cNvSpPr/>
          <p:nvPr/>
        </p:nvSpPr>
        <p:spPr>
          <a:xfrm>
            <a:off x="2050920" y="5516640"/>
            <a:ext cx="649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 Box 35"/>
          <p:cNvSpPr/>
          <p:nvPr/>
        </p:nvSpPr>
        <p:spPr>
          <a:xfrm>
            <a:off x="395280" y="3500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下列各组中的单项式是不是同类项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22" name="Object 3"/>
          <p:cNvGraphicFramePr/>
          <p:nvPr/>
        </p:nvGraphicFramePr>
        <p:xfrm>
          <a:off x="4467240" y="2565360"/>
          <a:ext cx="303048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7240" y="2565360"/>
                    <a:ext cx="3030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4" name="Object 4"/>
              <p:cNvSpPr txBox="1"/>
              <p:nvPr/>
            </p:nvSpPr>
            <p:spPr>
              <a:xfrm>
                <a:off x="179280" y="3790800"/>
                <a:ext cx="2737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与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725" name="Object 5"/>
          <p:cNvGraphicFramePr/>
          <p:nvPr/>
        </p:nvGraphicFramePr>
        <p:xfrm>
          <a:off x="144360" y="1268280"/>
          <a:ext cx="34196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268280"/>
                    <a:ext cx="34196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Object 6"/>
          <p:cNvGraphicFramePr/>
          <p:nvPr/>
        </p:nvGraphicFramePr>
        <p:xfrm>
          <a:off x="144360" y="2060640"/>
          <a:ext cx="406728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360" y="2060640"/>
                    <a:ext cx="406728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9" name="Group 7"/>
          <p:cNvGrpSpPr/>
          <p:nvPr/>
        </p:nvGrpSpPr>
        <p:grpSpPr>
          <a:xfrm>
            <a:off x="971640" y="4221000"/>
            <a:ext cx="5616000" cy="1771560"/>
            <a:chOff x="971640" y="4221000"/>
            <a:chExt cx="5616000" cy="1771560"/>
          </a:xfrm>
        </p:grpSpPr>
        <p:sp>
          <p:nvSpPr>
            <p:cNvPr id="730" name="AutoShape 8"/>
            <p:cNvSpPr/>
            <p:nvPr/>
          </p:nvSpPr>
          <p:spPr>
            <a:xfrm>
              <a:off x="971640" y="4221000"/>
              <a:ext cx="5616000" cy="1771560"/>
            </a:xfrm>
            <a:prstGeom prst="irregularSeal1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Text Box 9"/>
            <p:cNvSpPr/>
            <p:nvPr/>
          </p:nvSpPr>
          <p:spPr>
            <a:xfrm>
              <a:off x="2604960" y="4695840"/>
              <a:ext cx="2786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抓住两同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32" name="Text Box 10"/>
          <p:cNvSpPr/>
          <p:nvPr/>
        </p:nvSpPr>
        <p:spPr>
          <a:xfrm>
            <a:off x="971640" y="544500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两同：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字母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同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相同字母指数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同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11"/>
              <p:cNvSpPr txBox="1"/>
              <p:nvPr/>
            </p:nvSpPr>
            <p:spPr>
              <a:xfrm>
                <a:off x="4500720" y="1144440"/>
                <a:ext cx="415908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n与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12"/>
              <p:cNvSpPr txBox="1"/>
              <p:nvPr/>
            </p:nvSpPr>
            <p:spPr>
              <a:xfrm>
                <a:off x="4197240" y="3355920"/>
                <a:ext cx="39718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与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p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35" name="Group 13"/>
          <p:cNvGrpSpPr/>
          <p:nvPr/>
        </p:nvGrpSpPr>
        <p:grpSpPr>
          <a:xfrm>
            <a:off x="3851280" y="41400"/>
            <a:ext cx="5760360" cy="581400"/>
            <a:chOff x="3851280" y="41400"/>
            <a:chExt cx="5760360" cy="581400"/>
          </a:xfrm>
        </p:grpSpPr>
        <p:sp>
          <p:nvSpPr>
            <p:cNvPr id="736" name="Rectangle 14"/>
            <p:cNvSpPr/>
            <p:nvPr/>
          </p:nvSpPr>
          <p:spPr>
            <a:xfrm>
              <a:off x="4138920" y="114480"/>
              <a:ext cx="4896360" cy="4834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4859280" y="41400"/>
              <a:ext cx="432000" cy="5439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3851280" y="41400"/>
              <a:ext cx="719640" cy="54396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147280" y="41400"/>
              <a:ext cx="44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变式训练，感悟方法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0" name="Group 18"/>
            <p:cNvGrpSpPr/>
            <p:nvPr/>
          </p:nvGrpSpPr>
          <p:grpSpPr>
            <a:xfrm>
              <a:off x="4283280" y="41400"/>
              <a:ext cx="576000" cy="543960"/>
              <a:chOff x="4283280" y="41400"/>
              <a:chExt cx="576000" cy="543960"/>
            </a:xfrm>
          </p:grpSpPr>
          <p:pic>
            <p:nvPicPr>
              <p:cNvPr id="741" name="Picture 19" descr="0"/>
              <p:cNvPicPr/>
              <p:nvPr/>
            </p:nvPicPr>
            <p:blipFill>
              <a:blip r:embed="rId7"/>
              <a:stretch/>
            </p:blipFill>
            <p:spPr>
              <a:xfrm>
                <a:off x="4283280" y="41400"/>
                <a:ext cx="576000" cy="54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Line 20"/>
              <p:cNvSpPr/>
              <p:nvPr/>
            </p:nvSpPr>
            <p:spPr>
              <a:xfrm>
                <a:off x="4355280" y="41400"/>
                <a:ext cx="50364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250920" y="1268280"/>
            <a:ext cx="2448000" cy="936720"/>
          </a:xfrm>
          <a:prstGeom prst="rect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3"/>
              <p:cNvSpPr txBox="1"/>
              <p:nvPr/>
            </p:nvSpPr>
            <p:spPr>
              <a:xfrm>
                <a:off x="179280" y="1268280"/>
                <a:ext cx="2297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4"/>
              <p:cNvSpPr txBox="1"/>
              <p:nvPr/>
            </p:nvSpPr>
            <p:spPr>
              <a:xfrm>
                <a:off x="6138720" y="1461960"/>
                <a:ext cx="21783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3</m:t>
                    </m:r>
                    <m:r>
                      <m:t xml:space="preserve">）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5"/>
              <p:cNvSpPr txBox="1"/>
              <p:nvPr/>
            </p:nvSpPr>
            <p:spPr>
              <a:xfrm>
                <a:off x="3133800" y="3754440"/>
                <a:ext cx="4284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6"/>
              <p:cNvSpPr txBox="1"/>
              <p:nvPr/>
            </p:nvSpPr>
            <p:spPr>
              <a:xfrm>
                <a:off x="2752560" y="1268280"/>
                <a:ext cx="24559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r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7"/>
              <p:cNvSpPr txBox="1"/>
              <p:nvPr/>
            </p:nvSpPr>
            <p:spPr>
              <a:xfrm>
                <a:off x="179280" y="2349360"/>
                <a:ext cx="2211480" cy="15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4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8"/>
              <p:cNvSpPr txBox="1"/>
              <p:nvPr/>
            </p:nvSpPr>
            <p:spPr>
              <a:xfrm>
                <a:off x="2556000" y="4005360"/>
                <a:ext cx="4406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t xml:space="preserve">(</m:t>
                          </m:r>
                          <m:r>
                            <m:t xml:space="preserve">8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</m:m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9"/>
              <p:cNvSpPr txBox="1"/>
              <p:nvPr/>
            </p:nvSpPr>
            <p:spPr>
              <a:xfrm>
                <a:off x="3154320" y="2637000"/>
                <a:ext cx="272412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10"/>
              <p:cNvSpPr txBox="1"/>
              <p:nvPr/>
            </p:nvSpPr>
            <p:spPr>
              <a:xfrm>
                <a:off x="324000" y="4941720"/>
                <a:ext cx="178272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9</m:t>
                    </m:r>
                    <m:r>
                      <m:t xml:space="preserve">）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11"/>
              <p:cNvSpPr txBox="1"/>
              <p:nvPr/>
            </p:nvSpPr>
            <p:spPr>
              <a:xfrm>
                <a:off x="6170760" y="2373480"/>
                <a:ext cx="2722320" cy="14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6</m:t>
                    </m:r>
                    <m:r>
                      <m:t xml:space="preserve">）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12"/>
              <p:cNvSpPr txBox="1"/>
              <p:nvPr/>
            </p:nvSpPr>
            <p:spPr>
              <a:xfrm>
                <a:off x="374760" y="4005360"/>
                <a:ext cx="20286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7</m:t>
                    </m:r>
                    <m:r>
                      <m:t xml:space="preserve">）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4" name="Rectangle 13"/>
          <p:cNvSpPr/>
          <p:nvPr/>
        </p:nvSpPr>
        <p:spPr>
          <a:xfrm>
            <a:off x="3419640" y="4005360"/>
            <a:ext cx="3527280" cy="936360"/>
          </a:xfrm>
          <a:prstGeom prst="rect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Rectangle 14"/>
          <p:cNvSpPr/>
          <p:nvPr/>
        </p:nvSpPr>
        <p:spPr>
          <a:xfrm>
            <a:off x="252360" y="2492280"/>
            <a:ext cx="2448000" cy="1297080"/>
          </a:xfrm>
          <a:prstGeom prst="rect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3132000" y="1268280"/>
            <a:ext cx="2448000" cy="936720"/>
          </a:xfrm>
          <a:prstGeom prst="rect">
            <a:avLst/>
          </a:prstGeom>
          <a:solidFill>
            <a:srgbClr val="00ff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Rectangle 16"/>
          <p:cNvSpPr/>
          <p:nvPr/>
        </p:nvSpPr>
        <p:spPr>
          <a:xfrm>
            <a:off x="3203640" y="2637000"/>
            <a:ext cx="2592360" cy="936360"/>
          </a:xfrm>
          <a:prstGeom prst="rect">
            <a:avLst/>
          </a:prstGeom>
          <a:solidFill>
            <a:srgbClr val="00ff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6012000" y="1268280"/>
            <a:ext cx="2447640" cy="936720"/>
          </a:xfrm>
          <a:prstGeom prst="rect">
            <a:avLst/>
          </a:prstGeom>
          <a:solidFill>
            <a:srgbClr val="ff33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250920" y="5084640"/>
            <a:ext cx="2160360" cy="1224000"/>
          </a:xfrm>
          <a:prstGeom prst="rect">
            <a:avLst/>
          </a:prstGeom>
          <a:solidFill>
            <a:srgbClr val="ff33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0" name="Group 19"/>
          <p:cNvGrpSpPr/>
          <p:nvPr/>
        </p:nvGrpSpPr>
        <p:grpSpPr>
          <a:xfrm>
            <a:off x="5200560" y="3684600"/>
            <a:ext cx="4378320" cy="3419640"/>
            <a:chOff x="5200560" y="3684600"/>
            <a:chExt cx="4378320" cy="3419640"/>
          </a:xfrm>
        </p:grpSpPr>
        <p:sp>
          <p:nvSpPr>
            <p:cNvPr id="761" name="AutoShape 20"/>
            <p:cNvSpPr/>
            <p:nvPr/>
          </p:nvSpPr>
          <p:spPr>
            <a:xfrm rot="19956000">
              <a:off x="5383080" y="4508280"/>
              <a:ext cx="4013280" cy="1771560"/>
            </a:xfrm>
            <a:prstGeom prst="irregularSeal1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Text Box 21"/>
            <p:cNvSpPr/>
            <p:nvPr/>
          </p:nvSpPr>
          <p:spPr>
            <a:xfrm rot="19956000">
              <a:off x="6196320" y="4930560"/>
              <a:ext cx="237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抓住两同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63" name="Group 22"/>
          <p:cNvGrpSpPr/>
          <p:nvPr/>
        </p:nvGrpSpPr>
        <p:grpSpPr>
          <a:xfrm>
            <a:off x="3780000" y="112680"/>
            <a:ext cx="5760360" cy="581400"/>
            <a:chOff x="3780000" y="112680"/>
            <a:chExt cx="5760360" cy="581400"/>
          </a:xfrm>
        </p:grpSpPr>
        <p:sp>
          <p:nvSpPr>
            <p:cNvPr id="764" name="Rectangle 23"/>
            <p:cNvSpPr/>
            <p:nvPr/>
          </p:nvSpPr>
          <p:spPr>
            <a:xfrm>
              <a:off x="4067640" y="185760"/>
              <a:ext cx="4896360" cy="483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4788000" y="112680"/>
              <a:ext cx="432000" cy="54432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3780000" y="112680"/>
              <a:ext cx="719640" cy="54432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Text Box 26"/>
            <p:cNvSpPr/>
            <p:nvPr/>
          </p:nvSpPr>
          <p:spPr>
            <a:xfrm>
              <a:off x="5076000" y="112680"/>
              <a:ext cx="44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变式训练，感悟方法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8" name="Group 27"/>
            <p:cNvGrpSpPr/>
            <p:nvPr/>
          </p:nvGrpSpPr>
          <p:grpSpPr>
            <a:xfrm>
              <a:off x="4212000" y="112680"/>
              <a:ext cx="576000" cy="544320"/>
              <a:chOff x="4212000" y="112680"/>
              <a:chExt cx="576000" cy="544320"/>
            </a:xfrm>
          </p:grpSpPr>
          <p:pic>
            <p:nvPicPr>
              <p:cNvPr id="769" name="Picture 28" descr="0"/>
              <p:cNvPicPr/>
              <p:nvPr/>
            </p:nvPicPr>
            <p:blipFill>
              <a:blip r:embed="rId1"/>
              <a:stretch/>
            </p:blipFill>
            <p:spPr>
              <a:xfrm>
                <a:off x="4212000" y="112680"/>
                <a:ext cx="57600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Line 29"/>
              <p:cNvSpPr/>
              <p:nvPr/>
            </p:nvSpPr>
            <p:spPr>
              <a:xfrm>
                <a:off x="4284000" y="112680"/>
                <a:ext cx="50364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2" name="Group 3"/>
          <p:cNvGrpSpPr/>
          <p:nvPr/>
        </p:nvGrpSpPr>
        <p:grpSpPr>
          <a:xfrm>
            <a:off x="755640" y="1557360"/>
            <a:ext cx="5113080" cy="865080"/>
            <a:chOff x="755640" y="1557360"/>
            <a:chExt cx="5113080" cy="865080"/>
          </a:xfrm>
        </p:grpSpPr>
        <p:pic>
          <p:nvPicPr>
            <p:cNvPr id="773" name="Picture 4" descr="苹果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5" descr="苹果"/>
            <p:cNvPicPr/>
            <p:nvPr/>
          </p:nvPicPr>
          <p:blipFill>
            <a:blip r:embed="rId2"/>
            <a:stretch/>
          </p:blipFill>
          <p:spPr>
            <a:xfrm>
              <a:off x="5003640" y="155736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6" descr="苹果"/>
            <p:cNvPicPr/>
            <p:nvPr/>
          </p:nvPicPr>
          <p:blipFill>
            <a:blip r:embed="rId3"/>
            <a:stretch/>
          </p:blipFill>
          <p:spPr>
            <a:xfrm>
              <a:off x="2987640" y="1557360"/>
              <a:ext cx="86508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6" name="Text Box 7"/>
          <p:cNvSpPr/>
          <p:nvPr/>
        </p:nvSpPr>
        <p:spPr>
          <a:xfrm>
            <a:off x="4716360" y="249228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66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6600" spc="-1" strike="noStrike" baseline="30000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0099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8"/>
          <p:cNvSpPr/>
          <p:nvPr/>
        </p:nvSpPr>
        <p:spPr>
          <a:xfrm>
            <a:off x="4572000" y="1393920"/>
            <a:ext cx="167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6600" spc="-1" strike="noStrike">
                <a:solidFill>
                  <a:srgbClr val="009900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3635280" y="476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9" name="Group 10"/>
          <p:cNvGrpSpPr/>
          <p:nvPr/>
        </p:nvGrpSpPr>
        <p:grpSpPr>
          <a:xfrm>
            <a:off x="768240" y="5280120"/>
            <a:ext cx="12066840" cy="1283040"/>
            <a:chOff x="768240" y="5280120"/>
            <a:chExt cx="12066840" cy="1283040"/>
          </a:xfrm>
        </p:grpSpPr>
        <p:sp>
          <p:nvSpPr>
            <p:cNvPr id="780" name="Rectangle 11"/>
            <p:cNvSpPr/>
            <p:nvPr/>
          </p:nvSpPr>
          <p:spPr>
            <a:xfrm>
              <a:off x="768240" y="528012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合并同类项：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Rectangle 12"/>
            <p:cNvSpPr/>
            <p:nvPr/>
          </p:nvSpPr>
          <p:spPr>
            <a:xfrm>
              <a:off x="3078360" y="5402160"/>
              <a:ext cx="9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把同类项合并成一项，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Rectangle 13"/>
            <p:cNvSpPr/>
            <p:nvPr/>
          </p:nvSpPr>
          <p:spPr>
            <a:xfrm>
              <a:off x="3707640" y="598176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叫做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合并同类项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3" name="Group 14"/>
          <p:cNvGrpSpPr/>
          <p:nvPr/>
        </p:nvGrpSpPr>
        <p:grpSpPr>
          <a:xfrm>
            <a:off x="3851280" y="41400"/>
            <a:ext cx="5760360" cy="581400"/>
            <a:chOff x="3851280" y="41400"/>
            <a:chExt cx="5760360" cy="581400"/>
          </a:xfrm>
        </p:grpSpPr>
        <p:sp>
          <p:nvSpPr>
            <p:cNvPr id="784" name="Rectangle 15"/>
            <p:cNvSpPr/>
            <p:nvPr/>
          </p:nvSpPr>
          <p:spPr>
            <a:xfrm>
              <a:off x="4138920" y="114480"/>
              <a:ext cx="4896360" cy="4834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4859280" y="41400"/>
              <a:ext cx="432000" cy="5439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3851280" y="41400"/>
              <a:ext cx="719640" cy="54396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Text Box 18"/>
            <p:cNvSpPr/>
            <p:nvPr/>
          </p:nvSpPr>
          <p:spPr>
            <a:xfrm>
              <a:off x="5147280" y="41400"/>
              <a:ext cx="44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知识为例，探寻方法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88" name="Group 19"/>
            <p:cNvGrpSpPr/>
            <p:nvPr/>
          </p:nvGrpSpPr>
          <p:grpSpPr>
            <a:xfrm>
              <a:off x="4283280" y="41400"/>
              <a:ext cx="576000" cy="543960"/>
              <a:chOff x="4283280" y="41400"/>
              <a:chExt cx="576000" cy="543960"/>
            </a:xfrm>
          </p:grpSpPr>
          <p:pic>
            <p:nvPicPr>
              <p:cNvPr id="789" name="Picture 20" descr="0"/>
              <p:cNvPicPr/>
              <p:nvPr/>
            </p:nvPicPr>
            <p:blipFill>
              <a:blip r:embed="rId4"/>
              <a:stretch/>
            </p:blipFill>
            <p:spPr>
              <a:xfrm>
                <a:off x="4283280" y="41400"/>
                <a:ext cx="576000" cy="54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0" name="Line 21"/>
              <p:cNvSpPr/>
              <p:nvPr/>
            </p:nvSpPr>
            <p:spPr>
              <a:xfrm>
                <a:off x="4355280" y="41400"/>
                <a:ext cx="50364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91" name="Text Box 22"/>
          <p:cNvSpPr/>
          <p:nvPr/>
        </p:nvSpPr>
        <p:spPr>
          <a:xfrm>
            <a:off x="324000" y="1413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+ 2 </a:t>
            </a:r>
            <a:r>
              <a:rPr b="1" lang="en-US" sz="66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23"/>
          <p:cNvSpPr/>
          <p:nvPr/>
        </p:nvSpPr>
        <p:spPr>
          <a:xfrm>
            <a:off x="179280" y="441792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6600" spc="-1" strike="noStrike">
                <a:solidFill>
                  <a:srgbClr val="009900"/>
                </a:solidFill>
                <a:latin typeface="Times New Roman"/>
              </a:rPr>
              <a:t>xy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6600" spc="-1" strike="noStrike">
                <a:solidFill>
                  <a:srgbClr val="009900"/>
                </a:solidFill>
                <a:latin typeface="Times New Roman"/>
              </a:rPr>
              <a:t>xy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009900"/>
                </a:solidFill>
                <a:latin typeface="Times New Roman"/>
              </a:rPr>
              <a:t>xy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3" name="Group 24"/>
          <p:cNvGrpSpPr/>
          <p:nvPr/>
        </p:nvGrpSpPr>
        <p:grpSpPr>
          <a:xfrm>
            <a:off x="333360" y="404640"/>
            <a:ext cx="5967360" cy="1149840"/>
            <a:chOff x="333360" y="404640"/>
            <a:chExt cx="5967360" cy="1149840"/>
          </a:xfrm>
        </p:grpSpPr>
        <p:sp>
          <p:nvSpPr>
            <p:cNvPr id="794" name="Text Box 25"/>
            <p:cNvSpPr/>
            <p:nvPr/>
          </p:nvSpPr>
          <p:spPr>
            <a:xfrm>
              <a:off x="333360" y="406440"/>
              <a:ext cx="76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Text Box 26"/>
            <p:cNvSpPr/>
            <p:nvPr/>
          </p:nvSpPr>
          <p:spPr>
            <a:xfrm>
              <a:off x="1874880" y="477720"/>
              <a:ext cx="76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Text Box 27"/>
            <p:cNvSpPr/>
            <p:nvPr/>
          </p:nvSpPr>
          <p:spPr>
            <a:xfrm>
              <a:off x="2421000" y="477720"/>
              <a:ext cx="45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3862440" y="546120"/>
              <a:ext cx="2438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（ ）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98" name="Picture 29" descr="苹果"/>
            <p:cNvPicPr/>
            <p:nvPr/>
          </p:nvPicPr>
          <p:blipFill>
            <a:blip r:embed="rId5"/>
            <a:stretch/>
          </p:blipFill>
          <p:spPr>
            <a:xfrm>
              <a:off x="2852640" y="474480"/>
              <a:ext cx="865080" cy="8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30" descr="苹果"/>
            <p:cNvPicPr/>
            <p:nvPr/>
          </p:nvPicPr>
          <p:blipFill>
            <a:blip r:embed="rId6"/>
            <a:stretch/>
          </p:blipFill>
          <p:spPr>
            <a:xfrm>
              <a:off x="5229000" y="549360"/>
              <a:ext cx="86364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31" descr="苹果"/>
            <p:cNvPicPr/>
            <p:nvPr/>
          </p:nvPicPr>
          <p:blipFill>
            <a:blip r:embed="rId7"/>
            <a:stretch/>
          </p:blipFill>
          <p:spPr>
            <a:xfrm>
              <a:off x="765000" y="404640"/>
              <a:ext cx="865080" cy="86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1" name="Group 32"/>
          <p:cNvGrpSpPr/>
          <p:nvPr/>
        </p:nvGrpSpPr>
        <p:grpSpPr>
          <a:xfrm>
            <a:off x="179280" y="2492280"/>
            <a:ext cx="6840720" cy="1388160"/>
            <a:chOff x="179280" y="2492280"/>
            <a:chExt cx="6840720" cy="1388160"/>
          </a:xfrm>
        </p:grpSpPr>
        <p:sp>
          <p:nvSpPr>
            <p:cNvPr id="802" name="Text Box 33"/>
            <p:cNvSpPr/>
            <p:nvPr/>
          </p:nvSpPr>
          <p:spPr>
            <a:xfrm>
              <a:off x="179280" y="2492280"/>
              <a:ext cx="6840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60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009900"/>
                  </a:solidFill>
                  <a:latin typeface="Times New Roman"/>
                </a:rPr>
                <a:t>b</a:t>
              </a: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6600" spc="-1" strike="noStrike">
                  <a:solidFill>
                    <a:srgbClr val="009900"/>
                  </a:solidFill>
                  <a:latin typeface="Times New Roman"/>
                </a:rPr>
                <a:t>a b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Text Box 34"/>
            <p:cNvSpPr/>
            <p:nvPr/>
          </p:nvSpPr>
          <p:spPr>
            <a:xfrm>
              <a:off x="1258920" y="2781000"/>
              <a:ext cx="720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Rectangle 35"/>
            <p:cNvSpPr/>
            <p:nvPr/>
          </p:nvSpPr>
          <p:spPr>
            <a:xfrm>
              <a:off x="3490920" y="2739960"/>
              <a:ext cx="463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5" name="Group 36"/>
          <p:cNvGrpSpPr/>
          <p:nvPr/>
        </p:nvGrpSpPr>
        <p:grpSpPr>
          <a:xfrm>
            <a:off x="71280" y="3483000"/>
            <a:ext cx="6840720" cy="1418400"/>
            <a:chOff x="71280" y="3483000"/>
            <a:chExt cx="6840720" cy="1418400"/>
          </a:xfrm>
        </p:grpSpPr>
        <p:sp>
          <p:nvSpPr>
            <p:cNvPr id="806" name="Text Box 37"/>
            <p:cNvSpPr/>
            <p:nvPr/>
          </p:nvSpPr>
          <p:spPr>
            <a:xfrm>
              <a:off x="71280" y="3483000"/>
              <a:ext cx="6840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en-US" sz="60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009900"/>
                  </a:solidFill>
                  <a:latin typeface="Times New Roman"/>
                </a:rPr>
                <a:t>y 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r>
                <a:rPr b="1" lang="en-US" sz="6600" spc="-1" strike="noStrike">
                  <a:solidFill>
                    <a:srgbClr val="009900"/>
                  </a:solidFill>
                  <a:latin typeface="Times New Roman"/>
                </a:rPr>
                <a:t>x y 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1582560" y="3771720"/>
              <a:ext cx="720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Rectangle 39"/>
            <p:cNvSpPr/>
            <p:nvPr/>
          </p:nvSpPr>
          <p:spPr>
            <a:xfrm>
              <a:off x="3639960" y="3801960"/>
              <a:ext cx="463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2232000" y="3801960"/>
              <a:ext cx="720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9900"/>
                  </a:solidFill>
                  <a:latin typeface="Times New Roman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Text Box 41"/>
            <p:cNvSpPr/>
            <p:nvPr/>
          </p:nvSpPr>
          <p:spPr>
            <a:xfrm>
              <a:off x="4248000" y="3801960"/>
              <a:ext cx="720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9900"/>
                  </a:solidFill>
                  <a:latin typeface="Times New Roman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11" name="Group 42"/>
          <p:cNvGrpSpPr/>
          <p:nvPr/>
        </p:nvGrpSpPr>
        <p:grpSpPr>
          <a:xfrm>
            <a:off x="4967280" y="3483000"/>
            <a:ext cx="5076720" cy="1405800"/>
            <a:chOff x="4967280" y="3483000"/>
            <a:chExt cx="5076720" cy="1405800"/>
          </a:xfrm>
        </p:grpSpPr>
        <p:sp>
          <p:nvSpPr>
            <p:cNvPr id="812" name="Text Box 43"/>
            <p:cNvSpPr/>
            <p:nvPr/>
          </p:nvSpPr>
          <p:spPr>
            <a:xfrm>
              <a:off x="4967280" y="3483000"/>
              <a:ext cx="507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－ </a:t>
              </a: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66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lang="en-US" sz="6600" spc="-1" strike="noStrike" baseline="30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lang="en-US" sz="66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endParaRPr b="0" lang="en-US" sz="6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Text Box 44"/>
            <p:cNvSpPr/>
            <p:nvPr/>
          </p:nvSpPr>
          <p:spPr>
            <a:xfrm>
              <a:off x="7415280" y="3789360"/>
              <a:ext cx="431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9900"/>
                  </a:solidFill>
                  <a:latin typeface="Times New Roman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4" name="Text Box 45"/>
          <p:cNvSpPr/>
          <p:nvPr/>
        </p:nvSpPr>
        <p:spPr>
          <a:xfrm>
            <a:off x="4425840" y="550800"/>
            <a:ext cx="122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 Box 46"/>
          <p:cNvSpPr/>
          <p:nvPr/>
        </p:nvSpPr>
        <p:spPr>
          <a:xfrm>
            <a:off x="5796000" y="450864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x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6" name="Group 47"/>
          <p:cNvGrpSpPr/>
          <p:nvPr/>
        </p:nvGrpSpPr>
        <p:grpSpPr>
          <a:xfrm>
            <a:off x="6372360" y="765000"/>
            <a:ext cx="2771640" cy="2421000"/>
            <a:chOff x="6372360" y="765000"/>
            <a:chExt cx="2771640" cy="2421000"/>
          </a:xfrm>
        </p:grpSpPr>
        <p:sp>
          <p:nvSpPr>
            <p:cNvPr id="817" name="AutoShape 48"/>
            <p:cNvSpPr/>
            <p:nvPr/>
          </p:nvSpPr>
          <p:spPr>
            <a:xfrm>
              <a:off x="6372360" y="765000"/>
              <a:ext cx="2771640" cy="2421000"/>
            </a:xfrm>
            <a:prstGeom prst="cloudCallout">
              <a:avLst>
                <a:gd name="adj1" fmla="val 42578"/>
                <a:gd name="adj2" fmla="val 75759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Text Box 49"/>
            <p:cNvSpPr/>
            <p:nvPr/>
          </p:nvSpPr>
          <p:spPr>
            <a:xfrm>
              <a:off x="6731280" y="969120"/>
              <a:ext cx="241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那你是如何将同类项进行合并的？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757080" y="35863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类项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系数相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所得的结果作为系数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字母和字母的指数不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939600" y="2997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合并同类项的法则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5"/>
              <p:cNvSpPr txBox="1"/>
              <p:nvPr/>
            </p:nvSpPr>
            <p:spPr>
              <a:xfrm>
                <a:off x="108000" y="1098720"/>
                <a:ext cx="4319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3" name="Line 6"/>
          <p:cNvSpPr/>
          <p:nvPr/>
        </p:nvSpPr>
        <p:spPr>
          <a:xfrm flipV="1">
            <a:off x="1547640" y="620640"/>
            <a:ext cx="0" cy="301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4" name="Group 7"/>
          <p:cNvGrpSpPr/>
          <p:nvPr/>
        </p:nvGrpSpPr>
        <p:grpSpPr>
          <a:xfrm>
            <a:off x="108000" y="44280"/>
            <a:ext cx="5471640" cy="1871640"/>
            <a:chOff x="108000" y="44280"/>
            <a:chExt cx="5471640" cy="1871640"/>
          </a:xfrm>
        </p:grpSpPr>
        <p:sp>
          <p:nvSpPr>
            <p:cNvPr id="825" name="Text Box 8"/>
            <p:cNvSpPr/>
            <p:nvPr/>
          </p:nvSpPr>
          <p:spPr>
            <a:xfrm>
              <a:off x="2588040" y="44280"/>
              <a:ext cx="20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系数相加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变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9"/>
            <p:cNvSpPr/>
            <p:nvPr/>
          </p:nvSpPr>
          <p:spPr>
            <a:xfrm>
              <a:off x="1494360" y="620640"/>
              <a:ext cx="4085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Line 10"/>
            <p:cNvSpPr/>
            <p:nvPr/>
          </p:nvSpPr>
          <p:spPr>
            <a:xfrm>
              <a:off x="5579640" y="620640"/>
              <a:ext cx="0" cy="576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28" name="Group 11"/>
            <p:cNvGrpSpPr/>
            <p:nvPr/>
          </p:nvGrpSpPr>
          <p:grpSpPr>
            <a:xfrm>
              <a:off x="108000" y="907560"/>
              <a:ext cx="3209760" cy="1008360"/>
              <a:chOff x="108000" y="907560"/>
              <a:chExt cx="3209760" cy="1008360"/>
            </a:xfrm>
          </p:grpSpPr>
          <p:grpSp>
            <p:nvGrpSpPr>
              <p:cNvPr id="829" name="Group 12"/>
              <p:cNvGrpSpPr/>
              <p:nvPr/>
            </p:nvGrpSpPr>
            <p:grpSpPr>
              <a:xfrm>
                <a:off x="108000" y="1122480"/>
                <a:ext cx="3209760" cy="793440"/>
                <a:chOff x="108000" y="1122480"/>
                <a:chExt cx="3209760" cy="793440"/>
              </a:xfrm>
            </p:grpSpPr>
            <p:sp>
              <p:nvSpPr>
                <p:cNvPr id="830" name="Oval 13"/>
                <p:cNvSpPr/>
                <p:nvPr/>
              </p:nvSpPr>
              <p:spPr>
                <a:xfrm>
                  <a:off x="2515680" y="1122480"/>
                  <a:ext cx="802080" cy="793440"/>
                </a:xfrm>
                <a:prstGeom prst="ellipse">
                  <a:avLst/>
                </a:prstGeom>
                <a:noFill/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1" name="Oval 14"/>
                <p:cNvSpPr/>
                <p:nvPr/>
              </p:nvSpPr>
              <p:spPr>
                <a:xfrm>
                  <a:off x="108000" y="1123920"/>
                  <a:ext cx="437400" cy="720720"/>
                </a:xfrm>
                <a:prstGeom prst="ellipse">
                  <a:avLst/>
                </a:prstGeom>
                <a:noFill/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2" name="Oval 15"/>
                <p:cNvSpPr/>
                <p:nvPr/>
              </p:nvSpPr>
              <p:spPr>
                <a:xfrm>
                  <a:off x="1130760" y="1123920"/>
                  <a:ext cx="800640" cy="792000"/>
                </a:xfrm>
                <a:prstGeom prst="ellipse">
                  <a:avLst/>
                </a:prstGeom>
                <a:noFill/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33" name="Line 16"/>
              <p:cNvSpPr/>
              <p:nvPr/>
            </p:nvSpPr>
            <p:spPr>
              <a:xfrm flipV="1">
                <a:off x="326520" y="907560"/>
                <a:ext cx="0" cy="2113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4" name="Line 17"/>
              <p:cNvSpPr/>
              <p:nvPr/>
            </p:nvSpPr>
            <p:spPr>
              <a:xfrm flipV="1">
                <a:off x="1494360" y="907920"/>
                <a:ext cx="0" cy="216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Line 18"/>
              <p:cNvSpPr/>
              <p:nvPr/>
            </p:nvSpPr>
            <p:spPr>
              <a:xfrm>
                <a:off x="326520" y="907920"/>
                <a:ext cx="255420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6" name="Line 19"/>
              <p:cNvSpPr/>
              <p:nvPr/>
            </p:nvSpPr>
            <p:spPr>
              <a:xfrm flipV="1">
                <a:off x="2881080" y="907920"/>
                <a:ext cx="0" cy="2174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37" name="Object 20"/>
              <p:cNvSpPr txBox="1"/>
              <p:nvPr/>
            </p:nvSpPr>
            <p:spPr>
              <a:xfrm>
                <a:off x="4356000" y="1050840"/>
                <a:ext cx="3024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8" name="Group 21"/>
          <p:cNvGrpSpPr/>
          <p:nvPr/>
        </p:nvGrpSpPr>
        <p:grpSpPr>
          <a:xfrm>
            <a:off x="539640" y="1844640"/>
            <a:ext cx="6765840" cy="1081440"/>
            <a:chOff x="539640" y="1844640"/>
            <a:chExt cx="6765840" cy="1081440"/>
          </a:xfrm>
        </p:grpSpPr>
        <p:sp>
          <p:nvSpPr>
            <p:cNvPr id="839" name="Text Box 22"/>
            <p:cNvSpPr/>
            <p:nvPr/>
          </p:nvSpPr>
          <p:spPr>
            <a:xfrm>
              <a:off x="2409480" y="2344680"/>
              <a:ext cx="44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字母和字母的指数不变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40" name="Group 23"/>
            <p:cNvGrpSpPr/>
            <p:nvPr/>
          </p:nvGrpSpPr>
          <p:grpSpPr>
            <a:xfrm>
              <a:off x="539640" y="1844640"/>
              <a:ext cx="6765840" cy="149400"/>
              <a:chOff x="539640" y="1844640"/>
              <a:chExt cx="6765840" cy="149400"/>
            </a:xfrm>
          </p:grpSpPr>
          <p:sp>
            <p:nvSpPr>
              <p:cNvPr id="841" name="Freeform 24"/>
              <p:cNvSpPr/>
              <p:nvPr/>
            </p:nvSpPr>
            <p:spPr>
              <a:xfrm>
                <a:off x="539640" y="1844640"/>
                <a:ext cx="576000" cy="14940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0 h 149400"/>
                  <a:gd name="textAreaBottom" fmla="*/ 149400 h 149400"/>
                </a:gdLst>
                <a:ahLst/>
                <a:rect l="textAreaLeft" t="textAreaTop" r="textAreaRight" b="textAreaBottom"/>
                <a:pathLst>
                  <a:path w="363" h="45">
                    <a:moveTo>
                      <a:pt x="0" y="0"/>
                    </a:moveTo>
                    <a:cubicBezTo>
                      <a:pt x="15" y="22"/>
                      <a:pt x="30" y="45"/>
                      <a:pt x="45" y="45"/>
                    </a:cubicBezTo>
                    <a:cubicBezTo>
                      <a:pt x="60" y="45"/>
                      <a:pt x="75" y="0"/>
                      <a:pt x="90" y="0"/>
                    </a:cubicBezTo>
                    <a:cubicBezTo>
                      <a:pt x="105" y="0"/>
                      <a:pt x="121" y="45"/>
                      <a:pt x="136" y="45"/>
                    </a:cubicBezTo>
                    <a:cubicBezTo>
                      <a:pt x="151" y="45"/>
                      <a:pt x="166" y="0"/>
                      <a:pt x="181" y="0"/>
                    </a:cubicBezTo>
                    <a:cubicBezTo>
                      <a:pt x="196" y="0"/>
                      <a:pt x="211" y="45"/>
                      <a:pt x="226" y="45"/>
                    </a:cubicBezTo>
                    <a:cubicBezTo>
                      <a:pt x="241" y="45"/>
                      <a:pt x="257" y="0"/>
                      <a:pt x="272" y="0"/>
                    </a:cubicBezTo>
                    <a:cubicBezTo>
                      <a:pt x="287" y="0"/>
                      <a:pt x="302" y="45"/>
                      <a:pt x="317" y="45"/>
                    </a:cubicBezTo>
                    <a:cubicBezTo>
                      <a:pt x="332" y="45"/>
                      <a:pt x="355" y="7"/>
                      <a:pt x="363" y="0"/>
                    </a:cubicBezTo>
                  </a:path>
                </a:pathLst>
              </a:custGeom>
              <a:noFill/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2" name="Freeform 25"/>
              <p:cNvSpPr/>
              <p:nvPr/>
            </p:nvSpPr>
            <p:spPr>
              <a:xfrm flipV="1">
                <a:off x="1906200" y="1844640"/>
                <a:ext cx="648000" cy="141120"/>
              </a:xfrm>
              <a:custGeom>
                <a:avLst/>
                <a:gdLst>
                  <a:gd name="textAreaLeft" fmla="*/ 0 w 648000"/>
                  <a:gd name="textAreaRight" fmla="*/ 648360 w 648000"/>
                  <a:gd name="textAreaTop" fmla="*/ 0 h 141120"/>
                  <a:gd name="textAreaBottom" fmla="*/ 141120 h 141120"/>
                </a:gdLst>
                <a:ahLst/>
                <a:rect l="textAreaLeft" t="textAreaTop" r="textAreaRight" b="textAreaBottom"/>
                <a:pathLst>
                  <a:path w="363" h="45">
                    <a:moveTo>
                      <a:pt x="0" y="0"/>
                    </a:moveTo>
                    <a:cubicBezTo>
                      <a:pt x="15" y="22"/>
                      <a:pt x="30" y="45"/>
                      <a:pt x="45" y="45"/>
                    </a:cubicBezTo>
                    <a:cubicBezTo>
                      <a:pt x="60" y="45"/>
                      <a:pt x="75" y="0"/>
                      <a:pt x="90" y="0"/>
                    </a:cubicBezTo>
                    <a:cubicBezTo>
                      <a:pt x="105" y="0"/>
                      <a:pt x="121" y="45"/>
                      <a:pt x="136" y="45"/>
                    </a:cubicBezTo>
                    <a:cubicBezTo>
                      <a:pt x="151" y="45"/>
                      <a:pt x="166" y="0"/>
                      <a:pt x="181" y="0"/>
                    </a:cubicBezTo>
                    <a:cubicBezTo>
                      <a:pt x="196" y="0"/>
                      <a:pt x="211" y="45"/>
                      <a:pt x="226" y="45"/>
                    </a:cubicBezTo>
                    <a:cubicBezTo>
                      <a:pt x="241" y="45"/>
                      <a:pt x="257" y="0"/>
                      <a:pt x="272" y="0"/>
                    </a:cubicBezTo>
                    <a:cubicBezTo>
                      <a:pt x="287" y="0"/>
                      <a:pt x="302" y="45"/>
                      <a:pt x="317" y="45"/>
                    </a:cubicBezTo>
                    <a:cubicBezTo>
                      <a:pt x="332" y="45"/>
                      <a:pt x="355" y="7"/>
                      <a:pt x="363" y="0"/>
                    </a:cubicBezTo>
                  </a:path>
                </a:pathLst>
              </a:custGeom>
              <a:noFill/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3" name="Freeform 26"/>
              <p:cNvSpPr/>
              <p:nvPr/>
            </p:nvSpPr>
            <p:spPr>
              <a:xfrm flipV="1">
                <a:off x="3419280" y="1844640"/>
                <a:ext cx="576360" cy="14112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141120"/>
                  <a:gd name="textAreaBottom" fmla="*/ 141120 h 141120"/>
                </a:gdLst>
                <a:ahLst/>
                <a:rect l="textAreaLeft" t="textAreaTop" r="textAreaRight" b="textAreaBottom"/>
                <a:pathLst>
                  <a:path w="363" h="45">
                    <a:moveTo>
                      <a:pt x="0" y="0"/>
                    </a:moveTo>
                    <a:cubicBezTo>
                      <a:pt x="15" y="22"/>
                      <a:pt x="30" y="45"/>
                      <a:pt x="45" y="45"/>
                    </a:cubicBezTo>
                    <a:cubicBezTo>
                      <a:pt x="60" y="45"/>
                      <a:pt x="75" y="0"/>
                      <a:pt x="90" y="0"/>
                    </a:cubicBezTo>
                    <a:cubicBezTo>
                      <a:pt x="105" y="0"/>
                      <a:pt x="121" y="45"/>
                      <a:pt x="136" y="45"/>
                    </a:cubicBezTo>
                    <a:cubicBezTo>
                      <a:pt x="151" y="45"/>
                      <a:pt x="166" y="0"/>
                      <a:pt x="181" y="0"/>
                    </a:cubicBezTo>
                    <a:cubicBezTo>
                      <a:pt x="196" y="0"/>
                      <a:pt x="211" y="45"/>
                      <a:pt x="226" y="45"/>
                    </a:cubicBezTo>
                    <a:cubicBezTo>
                      <a:pt x="241" y="45"/>
                      <a:pt x="257" y="0"/>
                      <a:pt x="272" y="0"/>
                    </a:cubicBezTo>
                    <a:cubicBezTo>
                      <a:pt x="287" y="0"/>
                      <a:pt x="302" y="45"/>
                      <a:pt x="317" y="45"/>
                    </a:cubicBezTo>
                    <a:cubicBezTo>
                      <a:pt x="332" y="45"/>
                      <a:pt x="355" y="7"/>
                      <a:pt x="363" y="0"/>
                    </a:cubicBezTo>
                  </a:path>
                </a:pathLst>
              </a:custGeom>
              <a:noFill/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4" name="Freeform 27"/>
              <p:cNvSpPr/>
              <p:nvPr/>
            </p:nvSpPr>
            <p:spPr>
              <a:xfrm flipV="1">
                <a:off x="6730920" y="1844640"/>
                <a:ext cx="574560" cy="14112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141120"/>
                  <a:gd name="textAreaBottom" fmla="*/ 141120 h 141120"/>
                </a:gdLst>
                <a:ahLst/>
                <a:rect l="textAreaLeft" t="textAreaTop" r="textAreaRight" b="textAreaBottom"/>
                <a:pathLst>
                  <a:path w="363" h="45">
                    <a:moveTo>
                      <a:pt x="0" y="0"/>
                    </a:moveTo>
                    <a:cubicBezTo>
                      <a:pt x="15" y="22"/>
                      <a:pt x="30" y="45"/>
                      <a:pt x="45" y="45"/>
                    </a:cubicBezTo>
                    <a:cubicBezTo>
                      <a:pt x="60" y="45"/>
                      <a:pt x="75" y="0"/>
                      <a:pt x="90" y="0"/>
                    </a:cubicBezTo>
                    <a:cubicBezTo>
                      <a:pt x="105" y="0"/>
                      <a:pt x="121" y="45"/>
                      <a:pt x="136" y="45"/>
                    </a:cubicBezTo>
                    <a:cubicBezTo>
                      <a:pt x="151" y="45"/>
                      <a:pt x="166" y="0"/>
                      <a:pt x="181" y="0"/>
                    </a:cubicBezTo>
                    <a:cubicBezTo>
                      <a:pt x="196" y="0"/>
                      <a:pt x="211" y="45"/>
                      <a:pt x="226" y="45"/>
                    </a:cubicBezTo>
                    <a:cubicBezTo>
                      <a:pt x="241" y="45"/>
                      <a:pt x="257" y="0"/>
                      <a:pt x="272" y="0"/>
                    </a:cubicBezTo>
                    <a:cubicBezTo>
                      <a:pt x="287" y="0"/>
                      <a:pt x="302" y="45"/>
                      <a:pt x="317" y="45"/>
                    </a:cubicBezTo>
                    <a:cubicBezTo>
                      <a:pt x="332" y="45"/>
                      <a:pt x="355" y="7"/>
                      <a:pt x="363" y="0"/>
                    </a:cubicBezTo>
                  </a:path>
                </a:pathLst>
              </a:custGeom>
              <a:noFill/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45" name="Group 28"/>
            <p:cNvGrpSpPr/>
            <p:nvPr/>
          </p:nvGrpSpPr>
          <p:grpSpPr>
            <a:xfrm>
              <a:off x="753840" y="1905120"/>
              <a:ext cx="6337440" cy="522000"/>
              <a:chOff x="753840" y="1905120"/>
              <a:chExt cx="6337440" cy="522000"/>
            </a:xfrm>
          </p:grpSpPr>
          <p:sp>
            <p:nvSpPr>
              <p:cNvPr id="846" name="Line 29"/>
              <p:cNvSpPr/>
              <p:nvPr/>
            </p:nvSpPr>
            <p:spPr>
              <a:xfrm flipH="1">
                <a:off x="2193480" y="2205000"/>
                <a:ext cx="6120" cy="22212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47" name="Group 30"/>
              <p:cNvGrpSpPr/>
              <p:nvPr/>
            </p:nvGrpSpPr>
            <p:grpSpPr>
              <a:xfrm>
                <a:off x="753840" y="1905120"/>
                <a:ext cx="6337440" cy="515880"/>
                <a:chOff x="753840" y="1905120"/>
                <a:chExt cx="6337440" cy="515880"/>
              </a:xfrm>
            </p:grpSpPr>
            <p:grpSp>
              <p:nvGrpSpPr>
                <p:cNvPr id="848" name="Group 31"/>
                <p:cNvGrpSpPr/>
                <p:nvPr/>
              </p:nvGrpSpPr>
              <p:grpSpPr>
                <a:xfrm>
                  <a:off x="753840" y="1905120"/>
                  <a:ext cx="2903400" cy="294840"/>
                  <a:chOff x="753840" y="1905120"/>
                  <a:chExt cx="2903400" cy="294840"/>
                </a:xfrm>
              </p:grpSpPr>
              <p:sp>
                <p:nvSpPr>
                  <p:cNvPr id="849" name="Line 32"/>
                  <p:cNvSpPr/>
                  <p:nvPr/>
                </p:nvSpPr>
                <p:spPr>
                  <a:xfrm flipH="1">
                    <a:off x="3633480" y="1905120"/>
                    <a:ext cx="23760" cy="29340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0" name="Line 33"/>
                  <p:cNvSpPr/>
                  <p:nvPr/>
                </p:nvSpPr>
                <p:spPr>
                  <a:xfrm flipV="1">
                    <a:off x="753840" y="1977480"/>
                    <a:ext cx="0" cy="22212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1" name="Line 34"/>
                  <p:cNvSpPr/>
                  <p:nvPr/>
                </p:nvSpPr>
                <p:spPr>
                  <a:xfrm flipH="1">
                    <a:off x="2193480" y="1977840"/>
                    <a:ext cx="6120" cy="22212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2" name="Line 35"/>
                  <p:cNvSpPr/>
                  <p:nvPr/>
                </p:nvSpPr>
                <p:spPr>
                  <a:xfrm>
                    <a:off x="753840" y="2193840"/>
                    <a:ext cx="2879640" cy="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853" name="Line 36"/>
                <p:cNvSpPr/>
                <p:nvPr/>
              </p:nvSpPr>
              <p:spPr>
                <a:xfrm>
                  <a:off x="2193840" y="2416320"/>
                  <a:ext cx="489744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54" name="Line 37"/>
                <p:cNvSpPr/>
                <p:nvPr/>
              </p:nvSpPr>
              <p:spPr>
                <a:xfrm>
                  <a:off x="7091280" y="1984320"/>
                  <a:ext cx="0" cy="43668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855" name="Rectangle 38"/>
          <p:cNvSpPr/>
          <p:nvPr/>
        </p:nvSpPr>
        <p:spPr>
          <a:xfrm>
            <a:off x="601560" y="4954680"/>
            <a:ext cx="8686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特征：</a:t>
            </a:r>
            <a:r>
              <a:rPr b="1" lang="zh-CN" sz="3200" spc="-1" strike="noStrike">
                <a:solidFill>
                  <a:srgbClr val="009900"/>
                </a:solidFill>
                <a:latin typeface="方正姚体"/>
                <a:ea typeface="方正姚体"/>
              </a:rPr>
              <a:t>一变：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系数变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系数相加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1" lang="zh-CN" sz="3200" spc="-1" strike="noStrike">
                <a:solidFill>
                  <a:srgbClr val="009900"/>
                </a:solidFill>
                <a:latin typeface="方正姚体"/>
                <a:ea typeface="方正姚体"/>
              </a:rPr>
              <a:t>二不变：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字母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字母指数不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Rectangle 39"/>
          <p:cNvSpPr/>
          <p:nvPr/>
        </p:nvSpPr>
        <p:spPr>
          <a:xfrm>
            <a:off x="395280" y="4937040"/>
            <a:ext cx="7812000" cy="1228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Object 40"/>
              <p:cNvSpPr txBox="1"/>
              <p:nvPr/>
            </p:nvSpPr>
            <p:spPr>
              <a:xfrm>
                <a:off x="7307280" y="1050840"/>
                <a:ext cx="17287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28:58Z</dcterms:created>
  <dc:creator/>
  <dc:description/>
  <dc:language>en-US</dc:language>
  <cp:lastModifiedBy>Administrator</cp:lastModifiedBy>
  <dcterms:modified xsi:type="dcterms:W3CDTF">2015-10-17T02:23:09Z</dcterms:modified>
  <cp:revision>91</cp:revision>
  <dc:subject/>
  <dc:title>幻灯片 1</dc:title>
</cp:coreProperties>
</file>