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8CC0-B4B9-4A66-9F46-5F8D8219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B0A6-6D3E-4AA4-A05D-92C7075C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CE09-0003-47EA-B49B-BB11E22E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1400-EAF9-4A94-A1E9-22420189E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A137-23B3-47A0-A575-D1F227D12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0E86-49BD-4A44-8979-E11D04311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24EE-C75B-4FB2-9DDD-DDA908DC6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D66F-AE1B-40E7-A163-B9E211884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BA93-F52F-467B-BC39-C41447E10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2259-ED63-4B5C-BD2F-121937CAD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97C5-9410-4660-BF5F-437BC5844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2C89-4E4E-4B37-9886-71539529E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0BB6-BF2D-4FB0-A394-644265E53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0413-2940-4149-BB3A-A9A396406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DFD7-B86E-477D-AAC2-8650D11D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98A-928E-4784-ABA3-BA272402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699-EDDF-4676-A268-A95F6BE5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36A6E-2AC4-4896-A03C-8961F0C0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899AC-6CC3-45E4-90C9-20D394CD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180D1-D97A-4FCD-8BB5-579E1481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F5C5A-5ABB-44E7-8267-3EBED985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ED315-127F-437D-96AD-4D7B9287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C3707-5405-42F4-9185-69FAD46E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14F35-1A08-4F00-8D26-49067139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DBD96-FCEA-4D35-B3C6-880963A0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6B9B6-C103-44D4-9B65-C160976E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A1264-6DFF-4D79-9741-B04AA531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7FA-4221-4321-B17A-D27F5DD1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1EB58-EA87-4FB8-AD79-9F2FF9AC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A2DB1-A500-4BA6-9331-4A5B1378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94760-74E2-4134-B7AF-F1154CF8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98F51-48D0-4B7A-8E9C-432C9786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8A823-7ED1-44A1-A0FD-D2B1E733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54421-49C8-4CFB-80C1-BE511F1F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976DF-5428-4724-B9B3-06659EE4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7CE33-C8F5-4458-840F-2C3FF376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71058-30E0-44C7-A4C7-03713EFF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CF182-6EA3-4A22-8344-05CAAF37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4DD-0D93-479D-8B0A-113CDEEE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142FC-47A8-4EC4-B2A1-D7E95F6F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DC5CE-70B4-43C5-AC8D-0F94AA02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5C369-9F57-4D09-B215-7704E197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1CBE9-0BA4-4AD1-86C9-DA575DD1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BA757-17DB-42AD-9122-4EC9219C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94DC7-7026-4E0E-9D28-FBAA9DEA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78A27-0CA1-4337-A320-FA940DAE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20320-7F21-4D49-83E3-6C9B0EE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48614-214D-4D83-85DE-34CFA061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11748-94DF-451E-87C7-ACFEB206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DB5B-1A90-49DC-83B0-DF852D44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EA160-5107-48AC-BD0C-24BEDFCB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F9413-E5D6-4D26-A412-E823C333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E3A43-CEE4-4C59-8E38-7D36E8F3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41CED-7E03-481F-8D9B-3EA3A7DF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996B5-DDFE-4146-A9D7-C0AA21D3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F31BF-9EC3-4D12-BDC4-70379D47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A16E4-FE8D-4086-A039-E0658A3A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2220D-0894-4779-A3A4-5714CFF4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2FD2B-0533-4AC4-B643-3CA06B86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03B33-F997-466A-9D68-FF8B03DA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4F50-9512-45C4-AECD-9623BDD9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C36C9-BAA2-48D2-B258-D600D36E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E332B-90FD-409F-AAAE-ED431560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BD008-114C-4CD1-B956-A2D00E0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A10EE-1F61-4962-BFFD-99C5D187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212C4-7343-412C-84C9-45BF1F3C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697BD-777A-4E26-81FF-47470FBB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FF890-8E8F-46CA-AD4B-88324BE2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1154D-F907-40A1-B578-0727421D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C0E4E-2B72-485A-9840-BFFB5E22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DA14F-242B-4A89-B8C8-69B5F311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EAFA-309C-4FD6-A63D-BEA858EE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2A42A-79F9-466A-BEFB-0B11915E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A47DC-4ED4-4BAA-BAE5-93713304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F689B-F21B-41B6-BCA4-2A36B013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CA8B6-B206-4E30-AC53-8640018C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C1E7E-C634-48DF-98BD-C2402199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B9F51-EEC9-44EB-A0FB-B77033F6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E57A3-8876-40A3-8919-5B2C99A5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993B2-7B83-4312-8E67-1AB6A70D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85CC3-D78C-4103-A4FC-5F33A916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D7C22-A980-4AC3-B29D-3063A7AD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A6F3-D89E-4296-B6F4-042B9FDF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DCBA6-3E31-4EE8-84D3-B1948BBA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09E79-DB25-4D9D-8097-4DC6693F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390D6-C678-4179-8CCA-AE9ECCA2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F3223-0D30-4F19-8EA2-30A6D66F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DB774-E4E2-49E4-A45F-F5A6D8D7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362EE-B9FD-413F-B49C-FE19D609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D275B-1E7C-46A5-8368-78738677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08B75-8160-4F80-92FE-D8877234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A9841-B224-473B-8C07-65F916D9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C470-7321-4773-A299-18E122DA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6250-03BC-4CC6-9A98-F9048732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AB13-3DFB-4D8A-A909-89EA31FF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143-D977-4F62-A241-129C144B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A993-E6ED-401C-AD7C-B5641DE6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573F-33B7-4B43-A7FC-DC18AD6E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E924-AE57-4F45-AEB0-33922273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6F1E-FAE6-4F1D-BCCF-A6E8C458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C138-C413-47FF-BE16-C31FA907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C46CC-1872-4486-BF80-684FAE50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1F58-C024-439A-864B-06A7E1BB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19BB-5BCB-4648-A081-6125FD2F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3810-14B0-4D5E-B4E2-9BB10BF4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B0F99-F4F9-4150-9753-D3C75301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EB8-98F9-4708-AC0D-AFA83130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A327-65A4-49C8-B824-FA2356A4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2BC27-ACD6-4601-A35C-798525F4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B135-8130-48B6-811F-0A4BC4D6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72EA-FC50-4513-AD64-19A8B197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830F-5ACF-4467-87DF-7F8C030E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9AF3A-DF1E-49EF-8230-AD03721C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BD7D-1104-478A-ACC8-FC5EEB3A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F5D43-B328-45C2-B7E0-AB731EC1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12461-A2E2-4A2B-98C0-5C7CC450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ADD1-9198-4BAC-B182-1EF3C7D9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65D-C732-4759-8E2E-0E3C65FF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C1A0B-107D-4A01-B4DA-4AFB7A07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C7CD4-3334-4D74-B7F9-86AA7A9C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6E04D-E0CF-4BC4-AF42-9F49ED79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BACB-2008-4C5F-8BD1-CA3AE79C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5E5E9-7915-49BA-8B5A-96CB62EA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BE329-1F77-47A4-8079-1FCEC88D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334D1-63E4-4477-9B2C-1EED3809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E596-D031-4155-BD9E-6F7986B7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30611-7AA2-45D7-A297-0505EEC5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4FA17-BD63-4ABD-B000-17D70A0B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73B-28F6-4948-B0AA-967DA875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80F5E-492F-4A1D-97CD-9B6AB5B6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8A5A4-8419-4FE5-9FBD-B609D9B4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5FD06-D76D-4F0D-8436-ED964305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E0F4A-12DA-4651-8D00-6A462B6A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75823-4CE4-408E-9772-911A0840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965AD-E9BB-4ED6-B418-E4CEDD2A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D0A2E-0DC1-4B4A-A5EA-571890FC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E93FD-95DF-4198-969B-95A5301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CEBA4-D592-4FB6-9D5E-535EF4B7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A9303-39AA-4FC0-8A71-BC6C8263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02F-5984-4143-8A83-70A2E369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63792-04AC-42B7-813B-CBAFA803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F0E75-E6A8-4062-8B77-A160195E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70787-2CB1-4E88-8EC5-864FFE97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54102-9BAE-4625-9A6F-9D3CE1EE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22F74-6B98-4761-A93B-03FE58BB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0862D-DD17-475C-AB75-242110A0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F91D9-D4F3-4A3F-B234-DC538518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30300-3752-44C2-91AF-63F6267D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10860-1813-4E02-8C03-6F68C3B0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88A6F-0B2E-4072-9269-3C81B11A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CA0-52E5-4607-A13E-23F304B4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95AEB-EA1A-4B33-869F-1D572AFD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681FF-8907-44BF-AFCA-87D9393A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927B2-5910-4DD5-91CE-E1E9450C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FA28A-68C7-43AE-829F-14100C52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CD597-EA4B-4793-A81B-AF69B435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034F5-B3E3-4A1F-82DE-08F6E14B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1DE74-87C2-455A-814C-F2337FC1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522C6-FE3F-43A6-A61A-9EEB6DAB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AAB9D-8B58-4178-8B7E-3E55E91F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BF267-4917-41FF-9C9E-0F26EDCA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C4E-4B86-41B0-80D7-5B0E74A9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C94DA-6318-46E3-9545-FDE5AC4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409CB-4506-4A3E-A641-C1B174F3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CD60D-EA2F-4410-978B-F246E8A7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13FAA-07BB-470D-A818-095FC41B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08355-BA36-45B1-A08E-95611A7C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025C7-3BBE-4814-BEB7-0458553F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30194-4956-49D7-9D4E-E369EDB3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264D2-0E47-46C8-BFC2-98DCE481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24A45-77EB-4E33-80FE-7E918A32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82095-EB21-4FFC-9C2B-26D471FA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C24-10CF-4E0B-BE11-8010893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993A5-A2F3-4875-9710-63D89333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BDC29-411F-4541-A9AC-AFAF893E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EA7D0-D6BB-4E17-AE2A-8284E727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0AA4D-EFF2-4884-8A64-57BE4AB7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FBDC1-26AA-4B78-8864-8C7C2F68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B91A8-D469-4F4B-8BDD-24C8D064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E1083-76A9-4443-8370-5B82F850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6F107-9EE6-429A-8EA8-5E6BA18C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0E7FC-216C-4E47-ABF8-E56A4D72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35D0A-726C-41FA-843E-C5EF073D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A71C-398B-4714-B5AD-7CB711CFB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37E2-BA0C-4779-8B90-B43708313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61DB-A739-40F2-9C59-2A8C01780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9D14-C0D0-4C29-BE05-3F4DAB172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6F1E-6607-4929-B731-10C1C337F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9147-6E49-45F9-BBBC-E6643A04A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48DA-8901-4195-B1F1-5ECA54D68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A5CF-197D-4D48-A6B4-016097800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6932-FD08-49A5-92E8-94FDC55E8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F920-1D0B-4FCF-B8AD-767FB81F7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B7AD-73A8-4B68-AA40-E225617BE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17D0-3315-4C8E-8020-F65789077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C9D7-CDB2-4022-B671-39DBD7A74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E1E1-690B-4234-A5CD-7B98D2D53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3"/>
          <p:cNvSpPr/>
          <p:nvPr/>
        </p:nvSpPr>
        <p:spPr>
          <a:xfrm>
            <a:off x="3120120" y="836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mbria"/>
                <a:ea typeface="楷体_GB2312"/>
              </a:rPr>
              <a:t>初中数学七年级上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11280" y="2604960"/>
            <a:ext cx="7772400" cy="1111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4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合并同类项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304920" y="10857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求代数式－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５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－０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５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－１的值，其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２，说说你是怎么计算的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0" y="2819520"/>
            <a:ext cx="8839080" cy="2971800"/>
            <a:chOff x="0" y="2819520"/>
            <a:chExt cx="8839080" cy="2971800"/>
          </a:xfrm>
        </p:grpSpPr>
        <p:sp>
          <p:nvSpPr>
            <p:cNvPr id="747" name="Text Box 4"/>
            <p:cNvSpPr/>
            <p:nvPr/>
          </p:nvSpPr>
          <p:spPr>
            <a:xfrm>
              <a:off x="685800" y="2819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求代数式的值：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Text Box 5"/>
            <p:cNvSpPr/>
            <p:nvPr/>
          </p:nvSpPr>
          <p:spPr>
            <a:xfrm>
              <a:off x="0" y="3733920"/>
              <a:ext cx="853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6x+2x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-3x+x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+1,  </a:t>
              </a:r>
              <a:r>
                <a:rPr b="0" i="1" lang="zh-CN" sz="40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= -5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" name="Object 6"/>
                <p:cNvSpPr txBox="1"/>
                <p:nvPr/>
              </p:nvSpPr>
              <p:spPr>
                <a:xfrm>
                  <a:off x="304920" y="4419720"/>
                  <a:ext cx="594360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m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n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n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0" name="Text Box 7"/>
            <p:cNvSpPr/>
            <p:nvPr/>
          </p:nvSpPr>
          <p:spPr>
            <a:xfrm>
              <a:off x="6172200" y="480060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=6,n=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51" name="WordArt 8"/>
          <p:cNvSpPr txBox="1"/>
          <p:nvPr/>
        </p:nvSpPr>
        <p:spPr>
          <a:xfrm>
            <a:off x="533520" y="0"/>
            <a:ext cx="28144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你会算吗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WordArt 2"/>
          <p:cNvSpPr txBox="1"/>
          <p:nvPr/>
        </p:nvSpPr>
        <p:spPr>
          <a:xfrm>
            <a:off x="533520" y="228600"/>
            <a:ext cx="367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探究创新乐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228600" y="1219320"/>
            <a:ext cx="746748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合并同类项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+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7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+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+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+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(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是自然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380880" y="335268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某“三下乡”艺术团出场演出时，第一排站了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人，从第二排起每一排都比前一排多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人，一共站了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排，问该合唱团一共有多少演员参加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1692360" y="580536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+n+1+n+2+n+3+n+4=5n+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00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黑体"/>
                <a:ea typeface="黑体"/>
              </a:rPr>
              <a:t>谢谢！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7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1295280" y="52578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8" name="Picture 3" descr="ZW_054"/>
          <p:cNvPicPr/>
          <p:nvPr/>
        </p:nvPicPr>
        <p:blipFill>
          <a:blip r:embed="rId1"/>
          <a:stretch/>
        </p:blipFill>
        <p:spPr>
          <a:xfrm>
            <a:off x="380880" y="380880"/>
            <a:ext cx="2819520" cy="2971800"/>
          </a:xfrm>
          <a:prstGeom prst="rect">
            <a:avLst/>
          </a:prstGeom>
          <a:ln w="0">
            <a:noFill/>
          </a:ln>
        </p:spPr>
      </p:pic>
      <p:sp>
        <p:nvSpPr>
          <p:cNvPr id="759" name="WordArt 4"/>
          <p:cNvSpPr txBox="1"/>
          <p:nvPr/>
        </p:nvSpPr>
        <p:spPr>
          <a:xfrm>
            <a:off x="3733920" y="19810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反思与回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0" name="WordArt 5"/>
          <p:cNvSpPr txBox="1"/>
          <p:nvPr/>
        </p:nvSpPr>
        <p:spPr>
          <a:xfrm>
            <a:off x="2438280" y="35053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通过这节课的学习，你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1" name="WordArt 6"/>
          <p:cNvSpPr txBox="1"/>
          <p:nvPr/>
        </p:nvSpPr>
        <p:spPr>
          <a:xfrm>
            <a:off x="1676520" y="419112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到了什么？你有什么收获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WordArt 2"/>
          <p:cNvSpPr txBox="1"/>
          <p:nvPr/>
        </p:nvSpPr>
        <p:spPr>
          <a:xfrm>
            <a:off x="322200" y="260280"/>
            <a:ext cx="424980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回顾与反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468360" y="138744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下列各代数式分别是几项的和，每项的系数是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⑴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xy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；    ⑵ －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；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⑶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－－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2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⑷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101960" y="2631960"/>
            <a:ext cx="371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1530360" y="3606840"/>
            <a:ext cx="371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6"/>
              <p:cNvSpPr txBox="1"/>
              <p:nvPr/>
            </p:nvSpPr>
            <p:spPr>
              <a:xfrm>
                <a:off x="5594400" y="3524400"/>
                <a:ext cx="18716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24000" y="18900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大长方形由两个小长方形组成，求这个大长方形的面积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611280" y="3530520"/>
            <a:ext cx="453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的面积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611280" y="4149720"/>
            <a:ext cx="54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的面积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617400" y="4869000"/>
            <a:ext cx="583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长方形的面积是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4859280" y="3500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4788000" y="41148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6227640" y="4803840"/>
            <a:ext cx="24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4572000" y="5373720"/>
            <a:ext cx="360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5" name="Group 10"/>
          <p:cNvGrpSpPr/>
          <p:nvPr/>
        </p:nvGrpSpPr>
        <p:grpSpPr>
          <a:xfrm>
            <a:off x="395280" y="1268280"/>
            <a:ext cx="6137280" cy="2184120"/>
            <a:chOff x="395280" y="1268280"/>
            <a:chExt cx="6137280" cy="2184120"/>
          </a:xfrm>
        </p:grpSpPr>
        <p:grpSp>
          <p:nvGrpSpPr>
            <p:cNvPr id="666" name="Group 11"/>
            <p:cNvGrpSpPr/>
            <p:nvPr/>
          </p:nvGrpSpPr>
          <p:grpSpPr>
            <a:xfrm>
              <a:off x="395280" y="1268280"/>
              <a:ext cx="6137280" cy="2184120"/>
              <a:chOff x="395280" y="1268280"/>
              <a:chExt cx="6137280" cy="2184120"/>
            </a:xfrm>
          </p:grpSpPr>
          <p:sp>
            <p:nvSpPr>
              <p:cNvPr id="667" name="Rectangle 12"/>
              <p:cNvSpPr/>
              <p:nvPr/>
            </p:nvSpPr>
            <p:spPr>
              <a:xfrm>
                <a:off x="762120" y="1652400"/>
                <a:ext cx="3240000" cy="180000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8" name="Rectangle 13"/>
              <p:cNvSpPr/>
              <p:nvPr/>
            </p:nvSpPr>
            <p:spPr>
              <a:xfrm>
                <a:off x="4002120" y="1652400"/>
                <a:ext cx="2521080" cy="18000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9" name="Line 14"/>
              <p:cNvSpPr/>
              <p:nvPr/>
            </p:nvSpPr>
            <p:spPr>
              <a:xfrm>
                <a:off x="762120" y="13651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0" name="Line 15"/>
              <p:cNvSpPr/>
              <p:nvPr/>
            </p:nvSpPr>
            <p:spPr>
              <a:xfrm>
                <a:off x="3990960" y="13842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1" name="Line 16"/>
              <p:cNvSpPr/>
              <p:nvPr/>
            </p:nvSpPr>
            <p:spPr>
              <a:xfrm>
                <a:off x="6523200" y="13651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2" name="Line 17"/>
              <p:cNvSpPr/>
              <p:nvPr/>
            </p:nvSpPr>
            <p:spPr>
              <a:xfrm>
                <a:off x="474840" y="165240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3" name="Line 18"/>
              <p:cNvSpPr/>
              <p:nvPr/>
            </p:nvSpPr>
            <p:spPr>
              <a:xfrm>
                <a:off x="493920" y="344304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4" name="Line 19"/>
              <p:cNvSpPr/>
              <p:nvPr/>
            </p:nvSpPr>
            <p:spPr>
              <a:xfrm flipH="1">
                <a:off x="762120" y="150948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5" name="Line 20"/>
              <p:cNvSpPr/>
              <p:nvPr/>
            </p:nvSpPr>
            <p:spPr>
              <a:xfrm flipH="1">
                <a:off x="4010040" y="1509480"/>
                <a:ext cx="100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6" name="Line 21"/>
              <p:cNvSpPr/>
              <p:nvPr/>
            </p:nvSpPr>
            <p:spPr>
              <a:xfrm>
                <a:off x="2633760" y="150948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7" name="Line 22"/>
              <p:cNvSpPr/>
              <p:nvPr/>
            </p:nvSpPr>
            <p:spPr>
              <a:xfrm>
                <a:off x="5586480" y="1509480"/>
                <a:ext cx="94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Line 23"/>
              <p:cNvSpPr/>
              <p:nvPr/>
            </p:nvSpPr>
            <p:spPr>
              <a:xfrm flipV="1">
                <a:off x="584280" y="1652040"/>
                <a:ext cx="0" cy="64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Line 24"/>
              <p:cNvSpPr/>
              <p:nvPr/>
            </p:nvSpPr>
            <p:spPr>
              <a:xfrm>
                <a:off x="584280" y="273168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Text Box 25"/>
              <p:cNvSpPr/>
              <p:nvPr/>
            </p:nvSpPr>
            <p:spPr>
              <a:xfrm>
                <a:off x="2130480" y="12934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1" name="Text Box 26"/>
              <p:cNvSpPr/>
              <p:nvPr/>
            </p:nvSpPr>
            <p:spPr>
              <a:xfrm>
                <a:off x="5083200" y="1268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Text Box 27"/>
              <p:cNvSpPr/>
              <p:nvPr/>
            </p:nvSpPr>
            <p:spPr>
              <a:xfrm>
                <a:off x="395280" y="2157120"/>
                <a:ext cx="358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83" name="Text Box 28"/>
            <p:cNvSpPr/>
            <p:nvPr/>
          </p:nvSpPr>
          <p:spPr>
            <a:xfrm>
              <a:off x="2058840" y="21574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Text Box 29"/>
            <p:cNvSpPr/>
            <p:nvPr/>
          </p:nvSpPr>
          <p:spPr>
            <a:xfrm>
              <a:off x="4938840" y="222876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Ⅱ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5" name="Text Box 30"/>
          <p:cNvSpPr/>
          <p:nvPr/>
        </p:nvSpPr>
        <p:spPr>
          <a:xfrm>
            <a:off x="7201800" y="2433600"/>
            <a:ext cx="109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活动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0" y="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5739f"/>
                </a:solidFill>
                <a:latin typeface="Times New Roman"/>
              </a:rPr>
              <a:t>下列各对数是同类项吗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380880" y="9144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380880" y="3789360"/>
            <a:ext cx="876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同类项与系数无关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同类项与字母的排列顺序无关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几个数也是同类项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2514600" y="990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6"/>
          <p:cNvSpPr/>
          <p:nvPr/>
        </p:nvSpPr>
        <p:spPr>
          <a:xfrm>
            <a:off x="4952880" y="914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3pq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3pq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2590920" y="1752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8"/>
              <p:cNvSpPr txBox="1"/>
              <p:nvPr/>
            </p:nvSpPr>
            <p:spPr>
              <a:xfrm>
                <a:off x="4800600" y="1523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与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3" name="Text Box 9"/>
          <p:cNvSpPr/>
          <p:nvPr/>
        </p:nvSpPr>
        <p:spPr>
          <a:xfrm>
            <a:off x="228600" y="2438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.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10"/>
          <p:cNvSpPr/>
          <p:nvPr/>
        </p:nvSpPr>
        <p:spPr>
          <a:xfrm>
            <a:off x="3124080" y="24382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11"/>
          <p:cNvSpPr/>
          <p:nvPr/>
        </p:nvSpPr>
        <p:spPr>
          <a:xfrm>
            <a:off x="304920" y="17524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12"/>
          <p:cNvSpPr/>
          <p:nvPr/>
        </p:nvSpPr>
        <p:spPr>
          <a:xfrm>
            <a:off x="7255800" y="68580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4511880" y="83808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14"/>
          <p:cNvSpPr/>
          <p:nvPr/>
        </p:nvSpPr>
        <p:spPr>
          <a:xfrm>
            <a:off x="1692360" y="76212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15"/>
          <p:cNvSpPr/>
          <p:nvPr/>
        </p:nvSpPr>
        <p:spPr>
          <a:xfrm>
            <a:off x="3978360" y="160020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Text Box 16"/>
          <p:cNvSpPr/>
          <p:nvPr/>
        </p:nvSpPr>
        <p:spPr>
          <a:xfrm>
            <a:off x="2073600" y="160020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Text Box 17"/>
          <p:cNvSpPr/>
          <p:nvPr/>
        </p:nvSpPr>
        <p:spPr>
          <a:xfrm>
            <a:off x="8093880" y="160020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Text Box 18"/>
          <p:cNvSpPr/>
          <p:nvPr/>
        </p:nvSpPr>
        <p:spPr>
          <a:xfrm>
            <a:off x="2378880" y="220968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Text Box 19"/>
          <p:cNvSpPr/>
          <p:nvPr/>
        </p:nvSpPr>
        <p:spPr>
          <a:xfrm>
            <a:off x="4588560" y="220968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0" y="0"/>
            <a:ext cx="9144000" cy="2349000"/>
            <a:chOff x="0" y="0"/>
            <a:chExt cx="9144000" cy="2349000"/>
          </a:xfrm>
        </p:grpSpPr>
        <p:sp>
          <p:nvSpPr>
            <p:cNvPr id="705" name="Text Box 3"/>
            <p:cNvSpPr/>
            <p:nvPr/>
          </p:nvSpPr>
          <p:spPr>
            <a:xfrm>
              <a:off x="0" y="0"/>
              <a:ext cx="91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</a:rPr>
                <a:t>：根据乘法分配律合并同类项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Text Box 4"/>
            <p:cNvSpPr/>
            <p:nvPr/>
          </p:nvSpPr>
          <p:spPr>
            <a:xfrm>
              <a:off x="1447920" y="762120"/>
              <a:ext cx="5333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-xy</a:t>
              </a:r>
              <a:r>
                <a:rPr b="0" i="1" lang="en-US" sz="4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+3xy</a:t>
              </a:r>
              <a:r>
                <a:rPr b="0" i="1" lang="en-US" sz="4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Text Box 5"/>
            <p:cNvSpPr/>
            <p:nvPr/>
          </p:nvSpPr>
          <p:spPr>
            <a:xfrm>
              <a:off x="1828800" y="1523880"/>
              <a:ext cx="541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7a+3a</a:t>
              </a:r>
              <a:r>
                <a:rPr b="0" i="1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+2a-a</a:t>
              </a:r>
              <a:r>
                <a:rPr b="0" i="1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8" name="Text Box 6"/>
          <p:cNvSpPr/>
          <p:nvPr/>
        </p:nvSpPr>
        <p:spPr>
          <a:xfrm>
            <a:off x="1066680" y="2743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13205"/>
                </a:solidFill>
                <a:latin typeface="Times New Roman"/>
              </a:rPr>
              <a:t>从上面的合并同类项中，你发现了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468360" y="4005360"/>
            <a:ext cx="410364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540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f66"/>
                </a:solidFill>
                <a:latin typeface="Times New Roman"/>
                <a:ea typeface="楷体_GB2312"/>
              </a:rPr>
              <a:t>合并同类项法则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324000" y="4869000"/>
            <a:ext cx="8642160" cy="132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方法：（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系数：各项系数相加作为新的系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字母以及字母的指数不变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2"/>
          <p:cNvGrpSpPr/>
          <p:nvPr/>
        </p:nvGrpSpPr>
        <p:grpSpPr>
          <a:xfrm>
            <a:off x="0" y="304920"/>
            <a:ext cx="8819640" cy="2227320"/>
            <a:chOff x="0" y="304920"/>
            <a:chExt cx="8819640" cy="2227320"/>
          </a:xfrm>
        </p:grpSpPr>
        <p:sp>
          <p:nvSpPr>
            <p:cNvPr id="712" name="Text Box 3"/>
            <p:cNvSpPr/>
            <p:nvPr/>
          </p:nvSpPr>
          <p:spPr>
            <a:xfrm>
              <a:off x="238320" y="304920"/>
              <a:ext cx="858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下列各题的结果是否正确？指出错误的地方。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Text Box 4"/>
            <p:cNvSpPr/>
            <p:nvPr/>
          </p:nvSpPr>
          <p:spPr>
            <a:xfrm>
              <a:off x="0" y="990720"/>
              <a:ext cx="4290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3x+3y=6xy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Text Box 5"/>
            <p:cNvSpPr/>
            <p:nvPr/>
          </p:nvSpPr>
          <p:spPr>
            <a:xfrm>
              <a:off x="4449240" y="990720"/>
              <a:ext cx="333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7x-5x=2x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Text Box 6"/>
            <p:cNvSpPr/>
            <p:nvPr/>
          </p:nvSpPr>
          <p:spPr>
            <a:xfrm>
              <a:off x="317520" y="1828800"/>
              <a:ext cx="3813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16x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-7y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=9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Text Box 7"/>
            <p:cNvSpPr/>
            <p:nvPr/>
          </p:nvSpPr>
          <p:spPr>
            <a:xfrm>
              <a:off x="4369680" y="1828800"/>
              <a:ext cx="444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4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19a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b-9ab</a:t>
              </a:r>
              <a:r>
                <a:rPr b="0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=10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7" name="Text Box 8"/>
          <p:cNvSpPr/>
          <p:nvPr/>
        </p:nvSpPr>
        <p:spPr>
          <a:xfrm>
            <a:off x="1523880" y="2514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685800" y="26668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609480" y="2971800"/>
            <a:ext cx="33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合并同类项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0" name="Group 11"/>
          <p:cNvGrpSpPr/>
          <p:nvPr/>
        </p:nvGrpSpPr>
        <p:grpSpPr>
          <a:xfrm>
            <a:off x="685800" y="3352680"/>
            <a:ext cx="6705720" cy="1569960"/>
            <a:chOff x="685800" y="3352680"/>
            <a:chExt cx="6705720" cy="1569960"/>
          </a:xfrm>
        </p:grpSpPr>
        <mc:AlternateContent>
          <mc:Choice xmlns:a14="http://schemas.microsoft.com/office/drawing/2010/main" Requires="a14">
            <p:sp>
              <p:nvSpPr>
                <p:cNvPr id="721" name="Object 12"/>
                <p:cNvSpPr txBox="1"/>
                <p:nvPr/>
              </p:nvSpPr>
              <p:spPr>
                <a:xfrm>
                  <a:off x="685800" y="3352680"/>
                  <a:ext cx="3244680" cy="15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3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2" name="Text Box 13"/>
            <p:cNvSpPr/>
            <p:nvPr/>
          </p:nvSpPr>
          <p:spPr>
            <a:xfrm>
              <a:off x="3733920" y="3962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zh-CN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　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3" name="Group 14"/>
          <p:cNvGrpSpPr/>
          <p:nvPr/>
        </p:nvGrpSpPr>
        <p:grpSpPr>
          <a:xfrm>
            <a:off x="762120" y="4800600"/>
            <a:ext cx="7543800" cy="1371600"/>
            <a:chOff x="762120" y="4800600"/>
            <a:chExt cx="7543800" cy="1371600"/>
          </a:xfrm>
        </p:grpSpPr>
        <mc:AlternateContent>
          <mc:Choice xmlns:a14="http://schemas.microsoft.com/office/drawing/2010/main" Requires="a14">
            <p:sp>
              <p:nvSpPr>
                <p:cNvPr id="724" name="Object 15"/>
                <p:cNvSpPr txBox="1"/>
                <p:nvPr/>
              </p:nvSpPr>
              <p:spPr>
                <a:xfrm>
                  <a:off x="762120" y="4800600"/>
                  <a:ext cx="563868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725" name="Text Box 16"/>
            <p:cNvSpPr/>
            <p:nvPr/>
          </p:nvSpPr>
          <p:spPr>
            <a:xfrm>
              <a:off x="6019920" y="52578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　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6" name="Object 17"/>
              <p:cNvSpPr txBox="1"/>
              <p:nvPr/>
            </p:nvSpPr>
            <p:spPr>
              <a:xfrm>
                <a:off x="4267080" y="3417840"/>
                <a:ext cx="12956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Text Box 18"/>
          <p:cNvSpPr/>
          <p:nvPr/>
        </p:nvSpPr>
        <p:spPr>
          <a:xfrm>
            <a:off x="6553080" y="523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Text Box 19"/>
          <p:cNvSpPr/>
          <p:nvPr/>
        </p:nvSpPr>
        <p:spPr>
          <a:xfrm>
            <a:off x="7467480" y="990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2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 Box 20"/>
          <p:cNvSpPr/>
          <p:nvPr/>
        </p:nvSpPr>
        <p:spPr>
          <a:xfrm>
            <a:off x="2996640" y="1125360"/>
            <a:ext cx="980280" cy="47376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f66"/>
                </a:solidFill>
                <a:latin typeface="Arial"/>
              </a:rPr>
              <a:t>不能合并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 Box 21"/>
          <p:cNvSpPr/>
          <p:nvPr/>
        </p:nvSpPr>
        <p:spPr>
          <a:xfrm>
            <a:off x="3067920" y="1989000"/>
            <a:ext cx="980280" cy="4737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f66"/>
                </a:solidFill>
                <a:latin typeface="Arial"/>
              </a:rPr>
              <a:t>不能合并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 Box 22"/>
          <p:cNvSpPr/>
          <p:nvPr/>
        </p:nvSpPr>
        <p:spPr>
          <a:xfrm>
            <a:off x="7687800" y="2009880"/>
            <a:ext cx="980280" cy="473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f66"/>
                </a:solidFill>
                <a:latin typeface="Arial"/>
              </a:rPr>
              <a:t>不能合并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79280" y="40464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根据乘法分配律合并同类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3"/>
              <p:cNvSpPr txBox="1"/>
              <p:nvPr/>
            </p:nvSpPr>
            <p:spPr>
              <a:xfrm>
                <a:off x="539640" y="1052640"/>
                <a:ext cx="7993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m>
                      <m:mr>
                        <m:e/>
                        <m:e/>
                      </m:mr>
                    </m:m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4"/>
              <p:cNvSpPr txBox="1"/>
              <p:nvPr/>
            </p:nvSpPr>
            <p:spPr>
              <a:xfrm>
                <a:off x="900000" y="1909800"/>
                <a:ext cx="6813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5"/>
              <p:cNvSpPr txBox="1"/>
              <p:nvPr/>
            </p:nvSpPr>
            <p:spPr>
              <a:xfrm>
                <a:off x="1419120" y="2496960"/>
                <a:ext cx="4411800" cy="19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7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77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770" fill="hold"/>
                                        <p:tgtEl>
                                          <p:spTgt spid="7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3049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762120" y="17524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3b-3a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-2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76212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2y+6y+2x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755640" y="44956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7xy-8wx+5xy-12x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755640" y="36576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30a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+2b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-15a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-4a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WordArt 7"/>
          <p:cNvSpPr txBox="1"/>
          <p:nvPr/>
        </p:nvSpPr>
        <p:spPr>
          <a:xfrm>
            <a:off x="1143000" y="11430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合并同类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2" name="WordArt 8"/>
          <p:cNvSpPr txBox="1"/>
          <p:nvPr/>
        </p:nvSpPr>
        <p:spPr>
          <a:xfrm>
            <a:off x="685800" y="-228600"/>
            <a:ext cx="281952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做一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方正姚体"/>
              </a:rPr>
              <a:t>通过以上的练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方正姚体"/>
              </a:rPr>
              <a:t>你可以找出合并同类项的要点是什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675640" cy="43923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  <a:ea typeface="方正姚体"/>
              </a:rPr>
              <a:t>    </a:t>
            </a:r>
            <a:r>
              <a:rPr b="1" lang="zh-CN" sz="7200" spc="-1" strike="noStrike">
                <a:solidFill>
                  <a:srgbClr val="0000ff"/>
                </a:solidFill>
                <a:latin typeface="Comic Sans MS"/>
                <a:ea typeface="方正舒体"/>
              </a:rPr>
              <a:t>一变一不变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一变就是系数要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Comic Sans MS"/>
                <a:ea typeface="黑体"/>
              </a:rPr>
              <a:t>（新系数变为原来各系数的代数和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一不变就是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  <a:ea typeface="黑体"/>
              </a:rPr>
              <a:t>字母和字母的指数不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Comic Sans MS"/>
                <a:ea typeface="黑体"/>
              </a:rPr>
              <a:t>   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  <a:ea typeface="黑体"/>
              </a:rPr>
              <a:t>（原来的字母和字母的指数照抄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28:58Z</dcterms:created>
  <dc:creator/>
  <dc:description/>
  <dc:language>en-US</dc:language>
  <cp:lastModifiedBy>Administrator</cp:lastModifiedBy>
  <dcterms:modified xsi:type="dcterms:W3CDTF">2015-10-17T02:11:17Z</dcterms:modified>
  <cp:revision>90</cp:revision>
  <dc:subject/>
  <dc:title>幻灯片 1</dc:title>
</cp:coreProperties>
</file>